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700E-70DF-429E-B5F3-8A12F7E0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B7A9-FCAE-48B3-B96C-77B9F0C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1799-4707-4C1D-B895-2901D967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6692-3D2F-46A9-AD2B-A4EA0840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1B089-5DE2-400B-9629-B645B07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46A5-0D0B-4D6B-AA6C-5D00286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EB51C-EF17-4496-96E5-E5BEFBB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A014-BAEE-4292-989B-3F6396B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4CFBB-3FD5-4BA7-AC2A-C6396D68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087A-A62D-47D7-A803-28597AB0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9E25-CE50-4D49-8B77-A6F2801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4962-C481-4FC6-A28F-55801981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A9B6-6B6A-4A88-97B1-70DAAD3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7B252-8382-4C95-867B-97563ED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69258-E006-490C-A9B4-CA947CC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17CFA-0FFC-4F39-A517-2993E4DA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5D770-C3CE-458E-81E8-7279F856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EE85-0FFE-4730-9BA8-860D99CE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4BC0-EC58-4EB3-AF1B-BFA1254C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A956-CA28-4E1D-A269-51A1E611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AEC5-5192-4807-B331-D717C430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9E26-637C-47D6-8D54-5DCD0260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29F9-E516-4A46-B669-7F2F355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D7BE-2AF7-4D28-A110-493B5D2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7E6-52E1-403D-8F31-F7F17C906E1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848-2D0A-41FA-8D8A-ADD959E5CDD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694-611B-4EA3-AD02-BB78500FE54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CB1-64F0-4816-B447-1C5E7AF6BCA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"/>
          <p:cNvSpPr/>
          <p:nvPr/>
        </p:nvSpPr>
        <p:spPr>
          <a:xfrm>
            <a:off x="2245320" y="4000680"/>
            <a:ext cx="472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Байрамгулова Лилия Ямиловн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c1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1357200" y="1785960"/>
            <a:ext cx="65725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хнологическая карта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рагментов урока русского языка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428840" y="78588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МБОУ «СОШ № 25» г.Нижневартовс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c1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5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61AB-E09F-48E8-83F1-C66BAC59920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9720" y="1499760"/>
            <a:ext cx="7155000" cy="37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мет: 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русский язык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ласс: 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МК 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«Школа России»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учебник В.П.Канакиной, В.Г.Горецкого «Русский язык. 2 класс»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Тема: 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Родственные слова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6840" y="7855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Тема: Родственные слова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5480" y="1714320"/>
            <a:ext cx="842940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Педагогическая цель: 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создать условия для ознакомления с понятием </a:t>
            </a:r>
            <a:r>
              <a:rPr b="0" i="1" lang="ru-RU" sz="2200" spc="-1" strike="noStrike">
                <a:solidFill>
                  <a:srgbClr val="5c2305"/>
                </a:solidFill>
                <a:latin typeface="Verdana"/>
              </a:rPr>
              <a:t>родственные (однокоренные) слова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, формирования умения </a:t>
            </a:r>
            <a:br>
              <a:rPr sz="2200"/>
            </a:b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находить родственные слова, выделять общую часть слова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2305"/>
                </a:solidFill>
                <a:latin typeface="Verdana"/>
              </a:rPr>
              <a:t>Планируемые результаты (предметные):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5c2305"/>
                </a:solidFill>
                <a:latin typeface="Verdana"/>
              </a:rPr>
              <a:t>учащиеся научатся находить в тексте и образовывать родственные слова, употреблять их в речи; аргументировано отвечать, доказывать свое мнение; анализировать, делать выводы, сравнивать.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0C2-14D2-4025-979E-7935B01DEEA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3880" y="837720"/>
            <a:ext cx="785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тап «Постановка учебной задачи»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14240" y="1752480"/>
          <a:ext cx="7512120" cy="3382920"/>
        </p:xfrm>
        <a:graphic>
          <a:graphicData uri="http://schemas.openxmlformats.org/drawingml/2006/table">
            <a:tbl>
              <a:tblPr/>
              <a:tblGrid>
                <a:gridCol w="2643480"/>
                <a:gridCol w="2071440"/>
                <a:gridCol w="27972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ют текст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ять существенную информацию из текс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ть учител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ть слушать в соответствии с целевой установкой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  <p:sp>
        <p:nvSpPr>
          <p:cNvPr id="99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A4DE-2C01-4CCE-8DE7-284D51888E8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642600"/>
            <a:ext cx="785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тап «Постановка учебной задачи»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7120" y="1285920"/>
          <a:ext cx="8358120" cy="5153040"/>
        </p:xfrm>
        <a:graphic>
          <a:graphicData uri="http://schemas.openxmlformats.org/drawingml/2006/table">
            <a:tbl>
              <a:tblPr/>
              <a:tblGrid>
                <a:gridCol w="1828800"/>
                <a:gridCol w="3019320"/>
                <a:gridCol w="35100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13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ют вопросы учителя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гают предположения о теме урок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вигать гипотезу и обосновывать ее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актуализацию личного жизненного опы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учителем во время опроса, осуществляемого во фронтальном режим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собеседник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понятные для собеседника высказы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19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руют правильность ответов обучающих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слушать в соответствии с целевой установкой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ть и сохранять учебную цель и задачу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ять, уточнять высказанные мнения по существу полученного зад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  <p:sp>
        <p:nvSpPr>
          <p:cNvPr id="102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329-E305-45F9-9BA5-CEF408E974A9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642600"/>
            <a:ext cx="785844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тап «Закрепление знаний и способов действий». Работа в парах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760" y="1857240"/>
            <a:ext cx="8286840" cy="44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C41-0EC6-460F-961B-8C31A064B85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Скругленный прямоугольник 6"/>
          <p:cNvSpPr/>
          <p:nvPr/>
        </p:nvSpPr>
        <p:spPr>
          <a:xfrm>
            <a:off x="857160" y="2143080"/>
            <a:ext cx="7215120" cy="285768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.8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читайт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о, лететь, летний, лето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а, горевать, горка, гористы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ыр, сырость, сырок, сырни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Запишите только родственные слова. Выделите в них общую час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85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тап «Закрепление знаний и способов действий»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357200"/>
          <a:ext cx="8358120" cy="4604040"/>
        </p:xfrm>
        <a:graphic>
          <a:graphicData uri="http://schemas.openxmlformats.org/drawingml/2006/table">
            <a:tbl>
              <a:tblPr/>
              <a:tblGrid>
                <a:gridCol w="1828800"/>
                <a:gridCol w="2814840"/>
                <a:gridCol w="371448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ют родственные слова, записывают, выделяют общую ч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причинно-следственные связи. Распознают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е слов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слов с омонимичными корням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в паре, находят родственные слова, доказывают свой выбо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собеседник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понятные для собеседника высказывания, доказатель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само- и взаимоконтроль процесса выполнения задан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осуществлять само- и взаимоконтроль. Планировать свое действие в соответствии с поставленной задачей и условиями ее реализ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  <p:sp>
        <p:nvSpPr>
          <p:cNvPr id="109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EC2-789F-475C-A931-443AC1FFE16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642600"/>
            <a:ext cx="785844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тап «Самостоятельная работа»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6760" y="1857240"/>
            <a:ext cx="8286840" cy="44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2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74D6-96B0-4733-9C21-9557E07BB69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714240" y="1571760"/>
            <a:ext cx="7643880" cy="378612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арточках записаны слов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Жарко, жарится, печетс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Дерево, деревянный, сосна, деревц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Чайка, чайник, чайны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Лес, лестница, лесничи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каждой группе зачеркните лишние слова, оставьте только родственные, выделите общую час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3880" y="571320"/>
            <a:ext cx="785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тап «Закрепление знаний и способов действий»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57120" y="1285920"/>
          <a:ext cx="8358120" cy="4435560"/>
        </p:xfrm>
        <a:graphic>
          <a:graphicData uri="http://schemas.openxmlformats.org/drawingml/2006/table">
            <a:tbl>
              <a:tblPr/>
              <a:tblGrid>
                <a:gridCol w="1828800"/>
                <a:gridCol w="2814840"/>
                <a:gridCol w="371448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находят родственные слова, зачеркивают лишние, выделяют общий корен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знают родственные слова, находят  в них общую часть. Определяют лексическое значени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с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fff6"/>
                    </a:solidFill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уля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вают, анализируют слова. Осуществляют самоконтроль процесса выполнения задани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осуществлять сравнение, анализ, самоконтроль. Планировать свое действие в соответствии с поставленной задачей и условиями ее реализации, в т. ч. во внутреннем план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ffec"/>
                    </a:solidFill>
                  </a:tcPr>
                </a:tc>
              </a:tr>
            </a:tbl>
          </a:graphicData>
        </a:graphic>
      </p:graphicFrame>
      <p:sp>
        <p:nvSpPr>
          <p:cNvPr id="116" name="Дата 3"/>
          <p:cNvSpPr/>
          <p:nvPr/>
        </p:nvSpPr>
        <p:spPr>
          <a:xfrm>
            <a:off x="190512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E693-D5D8-4087-B647-0B41C87F18C3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31:15Z</dcterms:created>
  <dc:creator>Katunina</dc:creator>
  <dc:description/>
  <cp:keywords/>
  <dc:language>en-US</dc:language>
  <cp:lastModifiedBy>Мир</cp:lastModifiedBy>
  <cp:lastPrinted>1996-03-19T21:02:48Z</cp:lastPrinted>
  <dcterms:modified xsi:type="dcterms:W3CDTF">2014-11-06T18:43:50Z</dcterms:modified>
  <cp:revision>19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