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180-77E7-4B7F-B2F7-3FC45C4E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824-2B6D-4977-904C-56CF888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4D3-64E8-406F-A4F7-6C04054B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A4B-E868-40AB-990A-6E4A19B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228-00C1-4BB5-B96C-48438F13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BF5-D4BE-413A-834E-1718DE9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1A8-1E30-49AE-AD43-CAD5B07C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7F0-0C9D-4F0C-A405-4DC45C3E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6B4-C7D6-4B32-AE11-46BC692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B81-B4F3-43BA-BD58-7F0B8C8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01B-4EEA-430D-881D-9587FD0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BB7-B109-45A4-9691-959CF8B0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61AA-7FB0-416E-B236-9127F44FB4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785880" y="1000080"/>
            <a:ext cx="709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ирование навыков беглого, осознанного, выразительного чт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 пути их совершенств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928800" y="428616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3357720" y="5429160"/>
            <a:ext cx="514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дготовила: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алеских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15" descr="4abitur.gif"/>
          <p:cNvPicPr/>
          <p:nvPr/>
        </p:nvPicPr>
        <p:blipFill>
          <a:blip r:embed="rId2"/>
          <a:stretch/>
        </p:blipFill>
        <p:spPr>
          <a:xfrm>
            <a:off x="428760" y="428760"/>
            <a:ext cx="1295280" cy="1214280"/>
          </a:xfrm>
          <a:prstGeom prst="rect">
            <a:avLst/>
          </a:prstGeom>
          <a:ln w="9360">
            <a:solidFill>
              <a:srgbClr val="7030a0"/>
            </a:solidFill>
            <a:prstDash val="sysDash"/>
            <a:miter/>
          </a:ln>
        </p:spPr>
      </p:pic>
      <p:sp>
        <p:nvSpPr>
          <p:cNvPr id="100" name="Прямоугольник 1"/>
          <p:cNvSpPr/>
          <p:nvPr/>
        </p:nvSpPr>
        <p:spPr>
          <a:xfrm>
            <a:off x="826920" y="1820880"/>
            <a:ext cx="7058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В третью группу включаю упражнения по работе с деформированными, неоконченными предложениями, текс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е “Восстанови текст”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ребята распределяют последовательность строк в стихотвор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С текстами можно выполнять такие задания, как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“Составь предложения”, “Закончи рассказ”, “Поставь знаки препинания”.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Эти задания используются и на уроках 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571680" y="12142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1042920" y="1949400"/>
            <a:ext cx="5815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е “Чтение – разведка”.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Оно заключается в том, что дети на максимальной скорости просматривают текст и находят ответы на вопросы, поставленные перед чтением учителем. Цель такого задания - умение ориентироваться в представленном материале и находить главное, а также развитие скорости ч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6576840" y="450864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571680" y="12142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1258920" y="1214280"/>
            <a:ext cx="640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ля развития беглости чтения необходимо расширять поле зрения учащихся и активизировать органы речи. Для повышения скорости чтения провожу работу по развитию периферического (бокового) зрения.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Немаловажную роль при чтении отводится обучению беглости ч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ля увеличения поля зрения используются различные упражнения, самыми популярными из которых являю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цы Шульте»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позволяющие не только расширять периферическое зрение, но и тренировать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785880" y="50004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book35"/>
          <p:cNvPicPr/>
          <p:nvPr/>
        </p:nvPicPr>
        <p:blipFill>
          <a:blip r:embed="rId2"/>
          <a:stretch/>
        </p:blipFill>
        <p:spPr>
          <a:xfrm>
            <a:off x="7429680" y="500076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2643120" y="6429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аблицы Шуль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одержимое 3" descr="0004.tif"/>
          <p:cNvPicPr/>
          <p:nvPr/>
        </p:nvPicPr>
        <p:blipFill>
          <a:blip r:embed="rId3"/>
          <a:stretch/>
        </p:blipFill>
        <p:spPr>
          <a:xfrm>
            <a:off x="2286000" y="1143000"/>
            <a:ext cx="4406760" cy="492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42960" y="1338120"/>
            <a:ext cx="745812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чевая зарядка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состоит из нескольких групп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 группа – «Дыхательная гимнастика»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Это упражнения на постановку правиль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 группа – «Разомнём язычок!»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 В неё входят упражнения на развитие артикуляцион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3 группа – «Произнеси верно!»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Группа содержит упражнения на развитие ди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4 группа – «Учимся скоро говорить!»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С помощью этих упражнений дети учатся грамотно произносить скорогово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571680" y="12142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826920" y="1052640"/>
            <a:ext cx="69138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ыхательные упраж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Вдох носом, выдох че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Вдох носом, задержка дыхания, выдох че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Calibri"/>
              </a:rPr>
              <a:t>Задуйте св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book35"/>
          <p:cNvPicPr/>
          <p:nvPr/>
        </p:nvPicPr>
        <p:blipFill>
          <a:blip r:embed="rId2"/>
          <a:stretch/>
        </p:blipFill>
        <p:spPr>
          <a:xfrm>
            <a:off x="7286760" y="50007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287280" y="-216000"/>
            <a:ext cx="9431280" cy="7074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571680" y="12142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"/>
          <p:cNvSpPr/>
          <p:nvPr/>
        </p:nvSpPr>
        <p:spPr>
          <a:xfrm>
            <a:off x="1403280" y="1214280"/>
            <a:ext cx="5454720" cy="26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На втором этапе речевой зарядки – при выполнении артикуляционных упражнений –  показываю, как правильно “разогреть” мышцы языка, губ, щёк, чтобы обеспечить им наибольшую подвижность при чт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я «Чищу зубы». «Лошадка», «Ветер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book35"/>
          <p:cNvPicPr/>
          <p:nvPr/>
        </p:nvPicPr>
        <p:blipFill>
          <a:blip r:embed="rId2"/>
          <a:stretch/>
        </p:blipFill>
        <p:spPr>
          <a:xfrm>
            <a:off x="7286760" y="50007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571680" y="12142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1258920" y="1546200"/>
            <a:ext cx="559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новными задачами четвёртого этапа речевой зарядки является работа над чётким произнесением скорогово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тел дуб долбил-долб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 недодол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book35"/>
          <p:cNvPicPr/>
          <p:nvPr/>
        </p:nvPicPr>
        <p:blipFill>
          <a:blip r:embed="rId2"/>
          <a:stretch/>
        </p:blipFill>
        <p:spPr>
          <a:xfrm>
            <a:off x="7286760" y="50007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571680" y="12142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403280" y="1790640"/>
            <a:ext cx="63374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Для развития беглости чтения использую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ём жужжащего чтения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, очень эффективный и дающий хорошие результаты. Результативный потому, что читают все учащиеся одновременно, вслух, вполголоса и, что важно, каждый со своей скоростью. Использую также на уроках чтени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“Спринт”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 (кто быстрее), чтени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“Буксир”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(за учителем или сильным уче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book35"/>
          <p:cNvPicPr/>
          <p:nvPr/>
        </p:nvPicPr>
        <p:blipFill>
          <a:blip r:embed="rId2"/>
          <a:stretch/>
        </p:blipFill>
        <p:spPr>
          <a:xfrm>
            <a:off x="7286760" y="50007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900000" y="692280"/>
            <a:ext cx="741708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Упражнения по выработке выразительности чтени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 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Чтение чистоговорок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“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читай чистоговорку радостно! (грустно, с гордостью, с интонацией, характерной для данной ситу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 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Отрабатываю темп, постановку голоса и дыхания выполнением следующих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е “Читай шепотом и медленно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Ра-ра-ра – начинается иг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Ры-ры-ры – мы подвесили ш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е “Читай тихо и умеренн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рма – у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мву - ом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зелка – зе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е “Читай громко и уверенн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зарь – варь – марь- ларь – фарь – карь – тарь - б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е: Чтение одного и того же предложения с интонацией вопроса, просьбы, одобрения, зависти, осуждени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500040" y="178596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714240" y="464328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9"/>
          <p:cNvSpPr/>
          <p:nvPr/>
        </p:nvSpPr>
        <p:spPr>
          <a:xfrm>
            <a:off x="500040" y="1000080"/>
            <a:ext cx="82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785880" y="114300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900000" y="1143000"/>
            <a:ext cx="69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«Можно жить и быть счастливым, не овладев математикой, и не умея решать задачи. Но нельзя быть счастливым, не умея читать. Тот, кому недоступно искусство чтения, - невоспитанный человек, нравственный невежд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1"/>
          <p:cNvSpPr/>
          <p:nvPr/>
        </p:nvSpPr>
        <p:spPr>
          <a:xfrm>
            <a:off x="1042920" y="750960"/>
            <a:ext cx="720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Чтобы хорошо читать, надо много читать. Даже хорошо читающие дети не всегда увлекаются чтением художественных произведений. Много ребёнок будет читать тогда, когда у него проявится интерес к чтению. И поэтому на уроках я стараюсь заинтересовать ребят, привлечь их внимание к книге. Новое знакомство с книгой обычно начинаем с обложки и иллюстраций. По иллюстрациям дети прогнозируют содержание книги, кто её главный герой, какой он. Иногда читаю начало рассказа или самый интересный отрывок, а затем спрашиваю, кто желает узнать, что потом произойдёт с героем. Многие ребята заинтересовываются дальнейшими событиями рассказа и стараются найти книгу и прочитать её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book35"/>
          <p:cNvPicPr/>
          <p:nvPr/>
        </p:nvPicPr>
        <p:blipFill>
          <a:blip r:embed="rId2"/>
          <a:stretch/>
        </p:blipFill>
        <p:spPr>
          <a:xfrm>
            <a:off x="7286760" y="500076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"/>
          <p:cNvSpPr/>
          <p:nvPr/>
        </p:nvSpPr>
        <p:spPr>
          <a:xfrm>
            <a:off x="1116000" y="1630440"/>
            <a:ext cx="7201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Несмотря на то, что роль телевидения и компьютеризации в получении информации, восприятии окружающего мира занимает с каждым днем все большее место, чтение остается одним из способов интеллектуального развития личности ребенка. И только оно способно сформировать и дать возможность ребенку более точно и правильно воспринимать, и понимать окружающий мир, свое место в нем, сделать жизнь более богатой духо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785880" y="50004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642960" y="37148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"/>
          <p:cNvSpPr/>
          <p:nvPr/>
        </p:nvSpPr>
        <p:spPr>
          <a:xfrm>
            <a:off x="1258920" y="2101680"/>
            <a:ext cx="70581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00040" y="178596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714240" y="464328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500040" y="1000080"/>
            <a:ext cx="82152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Научить детей  беглому, осознанному, выразительному чтению – одна из задач начального образования. И эта задача чрезвычайно актуальна, так как чтение играет огромную роль в образовании, воспитании и развитии человека. Чтение – это окошко, через которое дети видят и познают мир и самого себя. Умения и навыки чтения формируются не только как важнейший вид речевой и умственной деятельности, но и как сложный  комплекс умений и навыков, имеющий обучающий характ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используемый учениками при  изучении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учебных предметов, во всех случа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Arial Unicode MS"/>
              </a:rPr>
              <a:t>внеклассной и внешкольной жизн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00040" y="178596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500040" y="1000080"/>
            <a:ext cx="82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1000080" y="30718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755640" y="1000080"/>
            <a:ext cx="7704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Главной целью предмета «Литературное чтение» в начальной школе является развитие личности ребенка, его эмоциональных и нравственных представлений. Чтение является универсальным навыком: это то, чему учат, и то, посредством чего учатся. Нам учителям необходимо воспитать грамотного читател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642960" y="371484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11280" y="674640"/>
            <a:ext cx="74898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Для развития беглости, осознанности</a:t>
            </a:r>
            <a:r>
              <a:rPr b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и выразительности я использую специальные упражнения, которые включаю в каждый урок чтения. Эта работа дает положительный результат, вносит в урок оживление, делая его интересным и эмоциональным. В настоящее время первостепенное значение на уроках чтения уделяется осознанию ребенком содержательной стороны читаемого текста. Если ученик осмысленно воспринимает произведения художественной словесности, понимает их содержание, заключённое в художественных образах, то у него развивается воображение, творческая фантазия, мышление, применение языковых средств, понимание стилей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66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642960" y="1857240"/>
            <a:ext cx="785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826920" y="1166760"/>
            <a:ext cx="603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В первую группу упражнений, направленных на осознанность чтения, включаю логические упражнения, где ребята учатся находить общие и отличительные признаки в различных связях, объединять в одно целое эти признаки, устанавливать связь между различными явлениями и понятиями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пользую упражнение “Составь новое слово”.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Задание: нужно составить новое слово, взяв из первого столбика первый слог, а из слов второго столбика второй слог. Работу усложняю, предлагаю детям составить не любые слова, а слова на определенную тему, например, на тему “Растения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О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А          КО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"/>
          <p:cNvSpPr/>
          <p:nvPr/>
        </p:nvSpPr>
        <p:spPr>
          <a:xfrm>
            <a:off x="1042920" y="2108160"/>
            <a:ext cx="581508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Дети учатся наблюдать и устанавливать связь между словами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пражнении “Найди четвертое”.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 Сначала нужно посмотреть, какая же логическая связь между первой парой слов. И на основе этой связи надо подобрать недостающее слово во второй п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Например; первая пара сло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часы- время = градусник - ...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www.istok.ru/netcat_files/339/h_509eb6dcec4ba762b42523c1a67b67fd"/>
          <p:cNvPicPr/>
          <p:nvPr/>
        </p:nvPicPr>
        <p:blipFill>
          <a:blip r:embed="rId2"/>
          <a:stretch/>
        </p:blipFill>
        <p:spPr>
          <a:xfrm>
            <a:off x="6600960" y="4424400"/>
            <a:ext cx="1928520" cy="19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476360" y="2427120"/>
            <a:ext cx="59752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ражнение: составь новое слово, взяв у данных слов только первый с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ос   рота   ваза       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ражнение: составь новое слово, взяв у данных слов второй с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я   рама                     Я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357120" y="57168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642960" y="185724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714240" y="1285920"/>
            <a:ext cx="85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15" descr="4abitur.gif"/>
          <p:cNvPicPr/>
          <p:nvPr/>
        </p:nvPicPr>
        <p:blipFill>
          <a:blip r:embed="rId2"/>
          <a:stretch/>
        </p:blipFill>
        <p:spPr>
          <a:xfrm>
            <a:off x="428760" y="428760"/>
            <a:ext cx="1295280" cy="1214280"/>
          </a:xfrm>
          <a:prstGeom prst="rect">
            <a:avLst/>
          </a:prstGeom>
          <a:ln w="9360">
            <a:solidFill>
              <a:srgbClr val="7030a0"/>
            </a:solidFill>
            <a:prstDash val="sysDash"/>
            <a:miter/>
          </a:ln>
        </p:spPr>
      </p:pic>
      <p:sp>
        <p:nvSpPr>
          <p:cNvPr id="94" name="Прямоугольник 1"/>
          <p:cNvSpPr/>
          <p:nvPr/>
        </p:nvSpPr>
        <p:spPr>
          <a:xfrm>
            <a:off x="971640" y="2617920"/>
            <a:ext cx="691344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Ко второй группе по развитию осознанности чтения отношу игры со сло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. Найди слово в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П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нос,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Использование на уроках различных загадок, ребусов, шарад также относятся к этой группе упражн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54:45Z</dcterms:created>
  <dc:creator>logoped</dc:creator>
  <dc:description/>
  <dc:language>en-US</dc:language>
  <cp:lastModifiedBy>xxx</cp:lastModifiedBy>
  <dcterms:modified xsi:type="dcterms:W3CDTF">2021-08-27T12:30:13Z</dcterms:modified>
  <cp:revision>248</cp:revision>
  <dc:subject/>
  <dc:title>Упражнения,  направленные на развитие  навыка чтения</dc:title>
</cp:coreProperties>
</file>