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B27-BCE7-42B6-8562-DDC906B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283-7127-45F7-84BE-F028E394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BB2-B81B-463E-9DFC-73091E03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623-717D-47B2-A0D8-2F70AB6F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B7E-6832-4ADD-86F0-8920FBFA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EC6-2B7F-4392-92E3-FD815BDB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86AA-2DF6-4998-8A1A-88C2006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8113-BBA9-4CC5-B12D-A3EE150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49E9-E901-4C54-8670-C7B7995C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8D30-9A3E-4EB2-93D6-DEE7BB5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56B3-2D55-45F9-9AEB-18E347B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077-6F94-4567-A9A6-73D7892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BD9-ED4A-48AC-8158-CAC4ED4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D9B6-2C7F-4E9B-A7B5-9310D15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6142-6163-414C-ADC0-49014B7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F5B-88E0-4B68-8F30-6C9BF416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608-1FFF-46D5-95DB-899F4067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187F1-77D2-47B8-AC3C-9D9E5D6B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52776-115F-4016-8842-5E21601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52CC4-B9DB-46A5-8A39-65A4FD0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5961D-D24A-4E29-9CC3-FB91322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7D818-138A-4ADB-8901-8090D95D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DAC-6680-443D-A68B-64A1A6A2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CB4E5-919B-44BE-8D16-3A5C887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D2AD1-EDC8-4703-8622-9BB399A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7D1D7-3E89-4994-8292-B252A4A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18CF7-E1D9-4EE5-9505-8821DFA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CC4CB-2BC9-4BC3-A6FA-6382214D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5808B-6711-4C21-BA13-D0157612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8A054-0167-40F5-97B6-20257AC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39BA-4A5F-46D9-98E7-FDE6043B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82CC-8C42-4051-9285-14B69A28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8D4A-C2A0-4930-A430-70E4D36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141-D0F1-4B44-AA0B-548BDD7F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A9D7-9FD2-422F-9FC7-48A98E4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CBD5-885C-4A0D-B5FB-44604731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731E-538D-46ED-B334-AFBA3CE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24A4-19E3-42EE-A77A-5E76427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0AD1-1172-4117-9541-485AAC23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BDBE-AF3E-44BF-90D7-B1663F7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3B7B-F643-49EC-BC4E-87BA44EA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C47F-04D1-420D-9992-8BF404B2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7260-4860-4F4E-A384-34E1A15B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1A93E-1980-4A9D-A996-9F62CE17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E66-132C-4F77-A61D-BC948626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13A84-8698-4326-AE76-81179F6B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A4796-4683-4953-8AFE-ADCF1F1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F8A7B-577D-4720-9F91-18BF327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0B5B7-7444-4517-B3BE-985802D9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3556B-C5B0-4D0D-B76D-EC7AB86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6D310-7C9F-4185-88F3-5514870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A50F-4626-411B-9493-59FD7E3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7D208-F1B1-4A56-9CA6-A9CBF7D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49DCF-DD7E-405C-A13B-0C92A09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5756D-A396-4A6A-B6C6-2B73C4C0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827-8440-4707-9C48-0E9BC06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0C3C8-832B-49F4-9276-FB3904DC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EAE69-B132-4DF9-B2EC-BA439FD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C34CD-3B6C-4611-9B02-7CCCC92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324D6-79AE-4A9A-8049-833542C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2E39B-5A63-4423-BF34-634D4908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F9A91-2D4C-438F-908A-B12AB47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B0F7E-66FA-4B2B-A021-BB8C23A2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26349-6DDD-4F4F-BE90-29AE7DF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72239-174C-4822-A52F-AF141BC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C7581-9D2B-4E74-8475-4FD1154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159-15AD-494F-814E-30F6EC3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2E1A1-28D9-4BCB-930A-1BD1680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6981A-E00A-4A73-A209-467A758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2FC7E-5458-4C19-A194-F87CE94E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55033-90A1-4AF9-8CA0-60B3C499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7435C-DF2C-47BA-9F51-684DE356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65382-1D16-4621-A618-33DC73D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EF653-B9FF-4D6D-803A-1F16B16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1D0F2-998F-4AD3-8538-80570B5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5D73E-3643-4505-B4AA-6103F69C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2E7CF-7266-45DD-964B-63A02A5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32D-86AF-40CF-8C1D-A68B790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E609C-07B0-4F5D-A438-B91F42E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587EF-BE74-484F-8A81-B12ACFE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DB4D3-406E-40B3-A006-940AADC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136DD-9AEC-4BBE-8296-D43055F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3CB05-EAC6-4594-8090-885F7EE1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A1C30-B14D-43BF-BE9E-0A6DE34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8151B-E8BE-49F4-BD8D-034C3C93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014FC-3FBD-451D-9F4F-C20B9CC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8605F-B8C4-49DE-AD81-B7BB45B5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39A72-97E9-48B7-BF05-2231BD6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7A5-2EE7-4842-8681-A55EF11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11960-9285-4739-9B6C-7AC66DDF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01936-19B3-40EB-8B0E-D56405E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41AF2A-1BA8-4DA3-BACC-269E1F6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BE07A-4DA2-4F9C-836A-DC541A1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C2779-DDCE-4E4E-910F-0BC565B6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D89F0-05AA-4FC4-B176-BE1CB9BD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472F9-FE9D-44CF-92FF-9A8BB230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70A-F096-4C10-A630-C8F8CDC2C289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439-1661-40A9-AC87-D0101542BB1F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ACE-7CA8-4D56-B06A-C1D44C52DDFF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AC26-8ED5-4C94-A234-8EEB0AB4B171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7BA3-7800-48BC-BB5B-C2EE5CA5EC9B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691-5D9D-4C35-B4D3-34515518BACD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07D-2263-4BE1-8CB3-E94B2AD7F961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10D-6494-45D8-A947-7C186EC8C887}" type="slidenum">
              <a:rPr b="1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0;&#1072;&#1075;&#1088;&#1072;&#1084;&#1084;&#1072;_&#1089;&#1074;&#1103;&#1079;&#1077;&#1081;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5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21.png"/><Relationship Id="rId12" Type="http://schemas.openxmlformats.org/officeDocument/2006/relationships/image" Target="../media/image17.png"/><Relationship Id="rId13" Type="http://schemas.openxmlformats.org/officeDocument/2006/relationships/image" Target="../media/image22.png"/><Relationship Id="rId14" Type="http://schemas.openxmlformats.org/officeDocument/2006/relationships/image" Target="../media/image17.png"/><Relationship Id="rId15" Type="http://schemas.openxmlformats.org/officeDocument/2006/relationships/image" Target="../media/image23.png"/><Relationship Id="rId16" Type="http://schemas.openxmlformats.org/officeDocument/2006/relationships/image" Target="../media/image13.png"/><Relationship Id="rId17" Type="http://schemas.openxmlformats.org/officeDocument/2006/relationships/image" Target="../media/image20.png"/><Relationship Id="rId18" Type="http://schemas.openxmlformats.org/officeDocument/2006/relationships/image" Target="../media/image13.png"/><Relationship Id="rId19" Type="http://schemas.openxmlformats.org/officeDocument/2006/relationships/image" Target="../media/image20.png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5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3"/>
          <p:cNvSpPr/>
          <p:nvPr/>
        </p:nvSpPr>
        <p:spPr>
          <a:xfrm>
            <a:off x="762120" y="16765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Технология применения интеллект-кар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а уроках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20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rcRect l="0" t="0" r="18" b="-30"/>
          <a:stretch/>
        </p:blipFill>
        <p:spPr>
          <a:xfrm>
            <a:off x="0" y="104760"/>
            <a:ext cx="916956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71400" y="272880"/>
            <a:ext cx="70009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37576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D:\Doc\переделка модулей\инт.картыгоголь\гоголь.jpg"/>
          <p:cNvPicPr/>
          <p:nvPr/>
        </p:nvPicPr>
        <p:blipFill>
          <a:blip r:embed="rId1"/>
          <a:stretch/>
        </p:blipFill>
        <p:spPr>
          <a:xfrm>
            <a:off x="179280" y="404640"/>
            <a:ext cx="7867800" cy="57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I:\ИДИОТ.jpg"/>
          <p:cNvPicPr/>
          <p:nvPr/>
        </p:nvPicPr>
        <p:blipFill>
          <a:blip r:embed="rId1"/>
          <a:stretch/>
        </p:blipFill>
        <p:spPr>
          <a:xfrm>
            <a:off x="0" y="1143000"/>
            <a:ext cx="89154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I:\вот.jpg"/>
          <p:cNvPicPr/>
          <p:nvPr/>
        </p:nvPicPr>
        <p:blipFill>
          <a:blip r:embed="rId1"/>
          <a:stretch/>
        </p:blipFill>
        <p:spPr>
          <a:xfrm>
            <a:off x="47520" y="909720"/>
            <a:ext cx="9048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2"/>
          <p:cNvSpPr/>
          <p:nvPr/>
        </p:nvSpPr>
        <p:spPr>
          <a:xfrm>
            <a:off x="380880" y="0"/>
            <a:ext cx="815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eptDraw Off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ет ConceptDraw Office включает в себя инструменты для создания и обработки 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интеллект-карт (mind map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граммное обеспечение для управления проектами и графический редактор для создания бизнес–граф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Рисунок 3" descr="Tort.jpg"/>
          <p:cNvPicPr/>
          <p:nvPr/>
        </p:nvPicPr>
        <p:blipFill>
          <a:blip r:embed="rId2"/>
          <a:stretch/>
        </p:blipFill>
        <p:spPr>
          <a:xfrm>
            <a:off x="2286000" y="297180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46748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СТАВЛЕНИЕ ИНТЕЛЛЕКТ-КАРТЫ.</a:t>
            </a:r>
            <a:br>
              <a:rPr sz="3200"/>
            </a:br>
            <a:r>
              <a:rPr b="0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«ЧЕСТЬ И БЕСЧЕСТИЕ»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440" y="213336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1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ыбираем тему, идею, предмет, объект, образ, то есть то, о чём будет интеллект- карта, например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435b"/>
                </a:solidFill>
                <a:latin typeface="Times New Roman"/>
                <a:ea typeface="Times New Roman"/>
              </a:rPr>
              <a:t>«Честь»</a:t>
            </a:r>
            <a:r>
              <a:rPr b="0" lang="ru-RU" sz="3200" spc="-1" strike="noStrike">
                <a:solidFill>
                  <a:srgbClr val="3b435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ШАГ 2.</a:t>
            </a:r>
            <a:br>
              <a:rPr sz="3200"/>
            </a:br>
            <a:r>
              <a:rPr b="0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РИСУЕМ </a:t>
            </a: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(ПИШЕМ) ОБЪЁМНЫЙ, ЦВЕТНОЙ ОБРАЗ ТЕМЫ В СЕРЕДИНЕ ЛИСТА БУМАГИ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Круглая лента лицом вверх 6"/>
          <p:cNvSpPr/>
          <p:nvPr/>
        </p:nvSpPr>
        <p:spPr>
          <a:xfrm>
            <a:off x="2057400" y="3276720"/>
            <a:ext cx="4800600" cy="1600200"/>
          </a:xfrm>
          <a:custGeom>
            <a:avLst/>
            <a:gdLst>
              <a:gd name="textAreaLeft" fmla="*/ 1200240 w 4800600"/>
              <a:gd name="textAreaRight" fmla="*/ 3600720 w 4800600"/>
              <a:gd name="textAreaTop" fmla="*/ 471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3.</a:t>
            </a:r>
            <a:br>
              <a:rPr sz="3200"/>
            </a:b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АССОЦИИРУЕМ - ЗАПИСЫВАЕМ НА ОТДЕЛЬНОМ ЛИСТКЕ ВСЁ, ЧТО ПРИХОДИТ В ГОЛОВУ В СВЯЗИ С ОБРАЗОМ ТЕМЫ, НАПРИМЕР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220932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сть, долг, подвиг, солдат, нравственный выбор, жизнь, смерть, предательство, верность, женская верность, идеал, воспитание, семья, ребенок, мать, отец, защита, бой, дуэль, поединок, смелость, решительность, мужество, бесстрашие, правда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4. </a:t>
            </a:r>
            <a:br>
              <a:rPr sz="2900"/>
            </a:br>
            <a:r>
              <a:rPr b="0" lang="ru-RU" sz="29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АВОДИМ «ПОРЯДОК» В СЛОВАХ-АССОЦИАЦИЯХ (ГРУППИРУЕМ ПО СМЫСЛУ):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85800" y="1371600"/>
            <a:ext cx="79246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, подвиг, солда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равственный выбор, жизнь, смерть,   предательство, в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ая верность, идеа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, семья, ребенок, мать, отец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, бой, дуэль, поедин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лость, решительность, мужество, бесстрашие, правда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www.human-mapping.com/images/comprendre/comprendre6.jpg"/>
          <p:cNvPicPr/>
          <p:nvPr/>
        </p:nvPicPr>
        <p:blipFill>
          <a:blip r:embed="rId1"/>
          <a:stretch/>
        </p:blipFill>
        <p:spPr>
          <a:xfrm>
            <a:off x="378000" y="-6480"/>
            <a:ext cx="3822480" cy="47437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9"/>
          <p:cNvSpPr/>
          <p:nvPr/>
        </p:nvSpPr>
        <p:spPr>
          <a:xfrm>
            <a:off x="4419720" y="457200"/>
            <a:ext cx="431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они Бьюзен </a:t>
            </a:r>
            <a:br>
              <a:rPr sz="2800"/>
            </a:br>
            <a:r>
              <a:rPr b="1" i="1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(2 июня 1942 г.р.) 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английский психолог и консультант по вопросам интеллекта, психологии обучения и проблем мышл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Прямоугольник 10"/>
          <p:cNvSpPr/>
          <p:nvPr/>
        </p:nvSpPr>
        <p:spPr>
          <a:xfrm>
            <a:off x="380880" y="51055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оссии технологией создания интеллект-карт занимается Бершадская Елена Александровна, к.п.н., доцент ФГАОУ ДПО АПК и ППРО, г. Моск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5.</a:t>
            </a:r>
            <a:br>
              <a:rPr sz="2900"/>
            </a:br>
            <a:r>
              <a:rPr b="0" lang="ru-RU" sz="29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АМЕЧАЕМ  СТРУКТУРУ КАРТЫ – ПОДБИРАЕМ КЛЮЧЕВЫЕ СЛОВА И КЛЮЧЕВЫЕ ФРАЗЫ К СГРУППИРОВАННЫМ  СЛОВАМ-АССОЦИАЦИЯМ: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850680" y="2362320"/>
            <a:ext cx="7078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инский дол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равственный выбор: верность  ил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атель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Женская вер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Воспитание чести и достоин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Защита че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6. </a:t>
            </a: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 НАРИСОВАННОМУ ОБРАЗУ ПРЕДМЕТА ДОБАВЛЯЕМ ВЕТВИ – ОСНОВУ СТРУКТУРЫ. КОЛИЧЕСТВО ВЕТВЕЙ РАВНО КОЛИЧЕСТВУ КЛЮЧЕВЫХ ФРАЗ И КЛЮЧЕВЫХ СЛОВ.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Круглая лента лицом вверх 6"/>
          <p:cNvSpPr/>
          <p:nvPr/>
        </p:nvSpPr>
        <p:spPr>
          <a:xfrm>
            <a:off x="2057400" y="4114800"/>
            <a:ext cx="4800600" cy="1600200"/>
          </a:xfrm>
          <a:custGeom>
            <a:avLst/>
            <a:gdLst>
              <a:gd name="textAreaLeft" fmla="*/ 1200240 w 4800600"/>
              <a:gd name="textAreaRight" fmla="*/ 3600720 w 4800600"/>
              <a:gd name="textAreaTop" fmla="*/ 471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Волна 8"/>
          <p:cNvSpPr/>
          <p:nvPr/>
        </p:nvSpPr>
        <p:spPr>
          <a:xfrm flipH="1">
            <a:off x="838080" y="2971800"/>
            <a:ext cx="2438640" cy="1600200"/>
          </a:xfrm>
          <a:custGeom>
            <a:avLst/>
            <a:gdLst>
              <a:gd name="textAreaLeft" fmla="*/ 0 w 2438640"/>
              <a:gd name="textAreaRight" fmla="*/ 2438640 w 243864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Волна 10"/>
          <p:cNvSpPr/>
          <p:nvPr/>
        </p:nvSpPr>
        <p:spPr>
          <a:xfrm>
            <a:off x="5638680" y="2971800"/>
            <a:ext cx="2438640" cy="1600200"/>
          </a:xfrm>
          <a:custGeom>
            <a:avLst/>
            <a:gdLst>
              <a:gd name="textAreaLeft" fmla="*/ 0 w 2438640"/>
              <a:gd name="textAreaRight" fmla="*/ 2438640 w 243864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ская вер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Волна 11"/>
          <p:cNvSpPr/>
          <p:nvPr/>
        </p:nvSpPr>
        <p:spPr>
          <a:xfrm>
            <a:off x="838080" y="5257800"/>
            <a:ext cx="3048120" cy="1600200"/>
          </a:xfrm>
          <a:custGeom>
            <a:avLst/>
            <a:gdLst>
              <a:gd name="textAreaLeft" fmla="*/ 0 w 3048120"/>
              <a:gd name="textAreaRight" fmla="*/ 3048480 w 30481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Волна 12"/>
          <p:cNvSpPr/>
          <p:nvPr/>
        </p:nvSpPr>
        <p:spPr>
          <a:xfrm flipH="1">
            <a:off x="5028480" y="5257800"/>
            <a:ext cx="2971800" cy="1600200"/>
          </a:xfrm>
          <a:custGeom>
            <a:avLst/>
            <a:gdLst>
              <a:gd name="textAreaLeft" fmla="*/ -360 w 2971800"/>
              <a:gd name="textAreaRight" fmla="*/ 2971800 w 297180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Волна 13"/>
          <p:cNvSpPr/>
          <p:nvPr/>
        </p:nvSpPr>
        <p:spPr>
          <a:xfrm>
            <a:off x="3352680" y="1981080"/>
            <a:ext cx="2210040" cy="2057400"/>
          </a:xfrm>
          <a:custGeom>
            <a:avLst/>
            <a:gdLst>
              <a:gd name="textAreaLeft" fmla="*/ 84240 w 2210040"/>
              <a:gd name="textAreaRight" fmla="*/ 2294640 w 22100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826" y="2700"/>
                </a:moveTo>
                <a:cubicBezTo>
                  <a:pt x="7613" y="-6865"/>
                  <a:pt x="14813" y="12265"/>
                  <a:pt x="21600" y="2700"/>
                </a:cubicBezTo>
                <a:lnTo>
                  <a:pt x="20774" y="18900"/>
                </a:lnTo>
                <a:cubicBezTo>
                  <a:pt x="13987" y="28465"/>
                  <a:pt x="6787" y="9335"/>
                  <a:pt x="0" y="18900"/>
                </a:cubicBezTo>
                <a:close/>
              </a:path>
            </a:pathLst>
          </a:cu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 7.</a:t>
            </a:r>
            <a:br>
              <a:rPr sz="3200"/>
            </a:b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ЗАПОЛНЯЕМ СТРУКТУРУ СЛОВАМИ- АССОЦИАЦИЯМИ, РАЗМЕЩАЯ ИХ НА ОТВЕТВЛЕНИЯХ СООТВЕТСТВУЮЩИХ КЛЮЧЕВЫХ ВЕТОК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Волна 5"/>
          <p:cNvSpPr/>
          <p:nvPr/>
        </p:nvSpPr>
        <p:spPr>
          <a:xfrm>
            <a:off x="3048120" y="4800600"/>
            <a:ext cx="2666880" cy="2057400"/>
          </a:xfrm>
          <a:custGeom>
            <a:avLst/>
            <a:gdLst>
              <a:gd name="textAreaLeft" fmla="*/ 101880 w 2666880"/>
              <a:gd name="textAreaRight" fmla="*/ 2769120 w 26668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826" y="2700"/>
                </a:moveTo>
                <a:cubicBezTo>
                  <a:pt x="7613" y="-6865"/>
                  <a:pt x="14813" y="12265"/>
                  <a:pt x="21600" y="2700"/>
                </a:cubicBezTo>
                <a:lnTo>
                  <a:pt x="20774" y="18900"/>
                </a:lnTo>
                <a:cubicBezTo>
                  <a:pt x="13987" y="28465"/>
                  <a:pt x="6787" y="9335"/>
                  <a:pt x="0" y="18900"/>
                </a:cubicBezTo>
                <a:close/>
              </a:path>
            </a:pathLst>
          </a:custGeom>
          <a:solidFill>
            <a:srgbClr val="42557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инский долг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5" descr="Г"/>
          <p:cNvPicPr/>
          <p:nvPr/>
        </p:nvPicPr>
        <p:blipFill>
          <a:blip r:embed="rId1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Е"/>
          <p:cNvPicPr/>
          <p:nvPr/>
        </p:nvPicPr>
        <p:blipFill>
          <a:blip r:embed="rId2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К"/>
          <p:cNvPicPr/>
          <p:nvPr/>
        </p:nvPicPr>
        <p:blipFill>
          <a:blip r:embed="rId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М"/>
          <p:cNvPicPr/>
          <p:nvPr/>
        </p:nvPicPr>
        <p:blipFill>
          <a:blip r:embed="rId4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И"/>
          <p:cNvPicPr/>
          <p:nvPr/>
        </p:nvPicPr>
        <p:blipFill>
          <a:blip r:embed="rId5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Ж"/>
          <p:cNvPicPr/>
          <p:nvPr/>
        </p:nvPicPr>
        <p:blipFill>
          <a:blip r:embed="rId6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Д"/>
          <p:cNvPicPr/>
          <p:nvPr/>
        </p:nvPicPr>
        <p:blipFill>
          <a:blip r:embed="rId7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К"/>
          <p:cNvPicPr/>
          <p:nvPr/>
        </p:nvPicPr>
        <p:blipFill>
          <a:blip r:embed="rId8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3" descr="Б"/>
          <p:cNvPicPr/>
          <p:nvPr/>
        </p:nvPicPr>
        <p:blipFill>
          <a:blip r:embed="rId9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Д"/>
          <p:cNvPicPr/>
          <p:nvPr/>
        </p:nvPicPr>
        <p:blipFill>
          <a:blip r:embed="rId10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Н"/>
          <p:cNvPicPr/>
          <p:nvPr/>
        </p:nvPicPr>
        <p:blipFill>
          <a:blip r:embed="rId11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6" descr="И"/>
          <p:cNvPicPr/>
          <p:nvPr/>
        </p:nvPicPr>
        <p:blipFill>
          <a:blip r:embed="rId12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7" descr="Х"/>
          <p:cNvPicPr/>
          <p:nvPr/>
        </p:nvPicPr>
        <p:blipFill>
          <a:blip r:embed="rId1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И"/>
          <p:cNvPicPr/>
          <p:nvPr/>
        </p:nvPicPr>
        <p:blipFill>
          <a:blip r:embed="rId14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9" descr="О"/>
          <p:cNvPicPr/>
          <p:nvPr/>
        </p:nvPicPr>
        <p:blipFill>
          <a:blip r:embed="rId15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0" descr="Г"/>
          <p:cNvPicPr/>
          <p:nvPr/>
        </p:nvPicPr>
        <p:blipFill>
          <a:blip r:embed="rId16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1" descr="Б"/>
          <p:cNvPicPr/>
          <p:nvPr/>
        </p:nvPicPr>
        <p:blipFill>
          <a:blip r:embed="rId17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2" descr="Г"/>
          <p:cNvPicPr/>
          <p:nvPr/>
        </p:nvPicPr>
        <p:blipFill>
          <a:blip r:embed="rId18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3" descr="Б"/>
          <p:cNvPicPr/>
          <p:nvPr/>
        </p:nvPicPr>
        <p:blipFill>
          <a:blip r:embed="rId19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4" descr="В"/>
          <p:cNvPicPr/>
          <p:nvPr/>
        </p:nvPicPr>
        <p:blipFill>
          <a:blip r:embed="rId20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61" name="Выноска 2 (без границы) 29"/>
          <p:cNvSpPr/>
          <p:nvPr/>
        </p:nvSpPr>
        <p:spPr>
          <a:xfrm>
            <a:off x="5791320" y="4267080"/>
            <a:ext cx="2438280" cy="1295640"/>
          </a:xfrm>
          <a:solidFill>
            <a:srgbClr val="00b0f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страшие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Выноска 2 (без границы) 30"/>
          <p:cNvSpPr/>
          <p:nvPr/>
        </p:nvSpPr>
        <p:spPr>
          <a:xfrm>
            <a:off x="4876920" y="2743200"/>
            <a:ext cx="2743200" cy="1295280"/>
          </a:xfrm>
          <a:solidFill>
            <a:srgbClr val="00206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жертвова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Выноска 2 (без границы) 32"/>
          <p:cNvSpPr/>
          <p:nvPr/>
        </p:nvSpPr>
        <p:spPr>
          <a:xfrm flipH="1">
            <a:off x="609480" y="4267080"/>
            <a:ext cx="2438640" cy="1295640"/>
          </a:xfr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йк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Скругленная прямоугольная выноска 33"/>
          <p:cNvSpPr/>
          <p:nvPr/>
        </p:nvSpPr>
        <p:spPr>
          <a:xfrm>
            <a:off x="2514600" y="3048120"/>
            <a:ext cx="1828800" cy="765000"/>
          </a:xfrm>
          <a:prstGeom prst="wedgeRoundRectCallout">
            <a:avLst>
              <a:gd name="adj1" fmla="val -89296"/>
              <a:gd name="adj2" fmla="val 108425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Туш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Скругленная прямоугольная выноска 34"/>
          <p:cNvSpPr/>
          <p:nvPr/>
        </p:nvSpPr>
        <p:spPr>
          <a:xfrm flipH="1">
            <a:off x="457200" y="1981080"/>
            <a:ext cx="2286000" cy="689040"/>
          </a:xfrm>
          <a:prstGeom prst="wedgeRoundRectCallout">
            <a:avLst>
              <a:gd name="adj1" fmla="val -5736"/>
              <a:gd name="adj2" fmla="val 285930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Плужников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Скругленная прямоугольная выноска 35"/>
          <p:cNvSpPr/>
          <p:nvPr/>
        </p:nvSpPr>
        <p:spPr>
          <a:xfrm flipH="1">
            <a:off x="-720" y="2971800"/>
            <a:ext cx="1600200" cy="765000"/>
          </a:xfrm>
          <a:prstGeom prst="wedgeRoundRectCallout">
            <a:avLst>
              <a:gd name="adj1" fmla="val -57537"/>
              <a:gd name="adj2" fmla="val 119458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Соко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8" descr="http://ruskino.ru/film/1063/kadr/14482.jpg"/>
          <p:cNvPicPr/>
          <p:nvPr/>
        </p:nvPicPr>
        <p:blipFill>
          <a:blip r:embed="rId1"/>
          <a:stretch/>
        </p:blipFill>
        <p:spPr>
          <a:xfrm>
            <a:off x="0" y="1887480"/>
            <a:ext cx="2133720" cy="1585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http://www.what-this.ru/assets/images/artil/pryamoug-pushka.jpg"/>
          <p:cNvPicPr/>
          <p:nvPr/>
        </p:nvPicPr>
        <p:blipFill>
          <a:blip r:embed="rId2"/>
          <a:stretch/>
        </p:blipFill>
        <p:spPr>
          <a:xfrm>
            <a:off x="5257800" y="2666880"/>
            <a:ext cx="2905200" cy="2011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http://www.videorusi.ru/_ph/41/2/957071078.jpg"/>
          <p:cNvPicPr/>
          <p:nvPr/>
        </p:nvPicPr>
        <p:blipFill>
          <a:blip r:embed="rId3"/>
          <a:stretch/>
        </p:blipFill>
        <p:spPr>
          <a:xfrm>
            <a:off x="3421080" y="1066680"/>
            <a:ext cx="3151080" cy="19051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ШАГ</a:t>
            </a:r>
            <a:r>
              <a:rPr b="1" lang="ru-RU" sz="3200" spc="-1" strike="noStrike">
                <a:solidFill>
                  <a:srgbClr val="3b435b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8.</a:t>
            </a:r>
            <a:br>
              <a:rPr sz="3200"/>
            </a:br>
            <a:r>
              <a:rPr b="0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ОЖИВЛЯЕМ КАРТУ РИСУНКАМИ, СИМВОЛАМИ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Волна 5"/>
          <p:cNvSpPr/>
          <p:nvPr/>
        </p:nvSpPr>
        <p:spPr>
          <a:xfrm>
            <a:off x="4800600" y="4800600"/>
            <a:ext cx="2666880" cy="2057400"/>
          </a:xfrm>
          <a:custGeom>
            <a:avLst/>
            <a:gdLst>
              <a:gd name="textAreaLeft" fmla="*/ 101880 w 2666880"/>
              <a:gd name="textAreaRight" fmla="*/ 2769120 w 26668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826" y="2700"/>
                </a:moveTo>
                <a:cubicBezTo>
                  <a:pt x="7613" y="-6865"/>
                  <a:pt x="14813" y="12265"/>
                  <a:pt x="21600" y="2700"/>
                </a:cubicBezTo>
                <a:lnTo>
                  <a:pt x="20774" y="18900"/>
                </a:lnTo>
                <a:cubicBezTo>
                  <a:pt x="13987" y="28465"/>
                  <a:pt x="6787" y="9335"/>
                  <a:pt x="0" y="18900"/>
                </a:cubicBezTo>
                <a:close/>
              </a:path>
            </a:pathLst>
          </a:custGeo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инский долг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5" descr="Г"/>
          <p:cNvPicPr/>
          <p:nvPr/>
        </p:nvPicPr>
        <p:blipFill>
          <a:blip r:embed="rId4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Е"/>
          <p:cNvPicPr/>
          <p:nvPr/>
        </p:nvPicPr>
        <p:blipFill>
          <a:blip r:embed="rId5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К"/>
          <p:cNvPicPr/>
          <p:nvPr/>
        </p:nvPicPr>
        <p:blipFill>
          <a:blip r:embed="rId6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М"/>
          <p:cNvPicPr/>
          <p:nvPr/>
        </p:nvPicPr>
        <p:blipFill>
          <a:blip r:embed="rId7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И"/>
          <p:cNvPicPr/>
          <p:nvPr/>
        </p:nvPicPr>
        <p:blipFill>
          <a:blip r:embed="rId8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Ж"/>
          <p:cNvPicPr/>
          <p:nvPr/>
        </p:nvPicPr>
        <p:blipFill>
          <a:blip r:embed="rId9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Д"/>
          <p:cNvPicPr/>
          <p:nvPr/>
        </p:nvPicPr>
        <p:blipFill>
          <a:blip r:embed="rId10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К"/>
          <p:cNvPicPr/>
          <p:nvPr/>
        </p:nvPicPr>
        <p:blipFill>
          <a:blip r:embed="rId11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Б"/>
          <p:cNvPicPr/>
          <p:nvPr/>
        </p:nvPicPr>
        <p:blipFill>
          <a:blip r:embed="rId12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Д"/>
          <p:cNvPicPr/>
          <p:nvPr/>
        </p:nvPicPr>
        <p:blipFill>
          <a:blip r:embed="rId1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82" name="Выноска 2 (без границы) 32"/>
          <p:cNvSpPr/>
          <p:nvPr/>
        </p:nvSpPr>
        <p:spPr>
          <a:xfrm flipH="1">
            <a:off x="1295280" y="4495680"/>
            <a:ext cx="2438640" cy="1295640"/>
          </a:xfrm>
          <a:solidFill>
            <a:srgbClr val="24458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йк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Скругленная прямоугольная выноска 33"/>
          <p:cNvSpPr/>
          <p:nvPr/>
        </p:nvSpPr>
        <p:spPr>
          <a:xfrm>
            <a:off x="3962520" y="3276720"/>
            <a:ext cx="1828800" cy="765000"/>
          </a:xfrm>
          <a:prstGeom prst="wedgeRoundRectCallout">
            <a:avLst>
              <a:gd name="adj1" fmla="val -89296"/>
              <a:gd name="adj2" fmla="val 108425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Туш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Скругленная прямоугольная выноска 34"/>
          <p:cNvSpPr/>
          <p:nvPr/>
        </p:nvSpPr>
        <p:spPr>
          <a:xfrm flipH="1">
            <a:off x="1828800" y="2133720"/>
            <a:ext cx="2286000" cy="688680"/>
          </a:xfrm>
          <a:prstGeom prst="wedgeRoundRectCallout">
            <a:avLst>
              <a:gd name="adj1" fmla="val -5736"/>
              <a:gd name="adj2" fmla="val 285930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Плужников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Скругленная прямоугольная выноска 35"/>
          <p:cNvSpPr/>
          <p:nvPr/>
        </p:nvSpPr>
        <p:spPr>
          <a:xfrm flipH="1">
            <a:off x="456480" y="3505320"/>
            <a:ext cx="1600200" cy="765000"/>
          </a:xfrm>
          <a:prstGeom prst="wedgeRoundRectCallout">
            <a:avLst>
              <a:gd name="adj1" fmla="val -109402"/>
              <a:gd name="adj2" fmla="val 77166"/>
              <a:gd name="adj3" fmla="val 16667"/>
            </a:avLst>
          </a:prstGeom>
          <a:solidFill>
            <a:srgbClr val="fbb0a3"/>
          </a:solidFill>
          <a:ln w="25560">
            <a:solidFill>
              <a:srgbClr val="f8c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Соко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1" descr="Скан_20160913.jpg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>
            <a:off x="163440" y="-1790640"/>
            <a:ext cx="56293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163440" y="-1790640"/>
            <a:ext cx="56293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Box 3"/>
          <p:cNvSpPr/>
          <p:nvPr/>
        </p:nvSpPr>
        <p:spPr>
          <a:xfrm>
            <a:off x="2305440" y="205740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2743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4" descr="0703232340230"/>
          <p:cNvPicPr/>
          <p:nvPr/>
        </p:nvPicPr>
        <p:blipFill>
          <a:blip r:embed="rId1"/>
          <a:srcRect l="5122" t="3491" r="1690" b="3475"/>
          <a:stretch/>
        </p:blipFill>
        <p:spPr>
          <a:xfrm>
            <a:off x="468360" y="0"/>
            <a:ext cx="771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4" descr="def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2" descr="n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66520" y="228600"/>
            <a:ext cx="76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Алгоритм составления творческой умственной кар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(авторы Т. и Б. Бьюзе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43560" y="1268280"/>
            <a:ext cx="8672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Начните в </a:t>
            </a: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е</a:t>
            </a: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чистой стран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Используйте в качестве центральной идеи изображ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Используйте разные цве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одсоединяйте к центральному образу ответ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единяйте ветви второго и третьего уровня с перв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5. Ответвления делайте искривленными, а не прямы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6. Пишите по одному слову на стро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7. Повсюду используйте образы и изображ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066680" y="5335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Человеческий мозг не может воспринимать и запоминать боле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7 главных ветвей. Это основное и главное правило при составлении грамотной интеллект‑карт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2" descr="карта1 001.jpg"/>
          <p:cNvPicPr/>
          <p:nvPr/>
        </p:nvPicPr>
        <p:blipFill>
          <a:blip r:embed="rId1"/>
          <a:srcRect l="0" t="0" r="8" b="-7"/>
          <a:stretch/>
        </p:blipFill>
        <p:spPr>
          <a:xfrm>
            <a:off x="179280" y="1197000"/>
            <a:ext cx="88218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2" descr="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7-03-13T20:20:02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290000000000010291210207f7000400038000</vt:lpwstr>
  </property>
  <property fmtid="{D5CDD505-2E9C-101B-9397-08002B2CF9AE}" pid="3" name="Version">
    <vt:r8>1</vt:r8>
  </property>
</Properties>
</file>