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BBA9-BF28-4738-B9BF-08A599459A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C6EC-C737-4321-A1AB-C0C41A57F7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516-7AD7-42AE-9C81-BEC4E771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D287-9439-44C8-AC78-9945377B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88F-7804-477C-A25F-3EB3AAA2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7F3-2349-4A9D-8E43-88FFB2B1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786D-D38B-4804-AFC9-E00236B7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0F12-42A6-4D1E-BD4A-341D5237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67FA-6B85-4CB6-B707-AC3317F1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66C6-C9BB-4B0A-A9A8-9B512138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0B1E-4171-46B2-8739-B27CD368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F045-9C19-402B-82FE-8B91E01C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CB44-9E33-422D-B000-F00DF9AE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762F-69E1-468E-85BD-87995EF3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DBD3-9536-4D68-89B8-D4CAC810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FD7E-31EF-4C32-B7ED-A9814C61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F2E3-8EBE-4CFC-9C5B-7A7485FE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2AFB-98C6-47FE-A765-75A6F0C4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47A2-FF5C-44C1-9DEE-6EBCAA1E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26B-4B4C-403A-BBC6-12E2AF39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BDA3-D2AF-4857-A067-2AD893D7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C8F-89F4-4E7D-878A-616DCACF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1551-6B66-4C2E-9CBC-46E6B04D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B778-A60C-4052-8938-0B00BD2E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AB5-94D4-47C2-AB2E-6BB7D831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80D-3ECC-41A0-89B6-F6FA7780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81B0-5B9A-45DD-8AC3-614490A55B3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1280" indent="-341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ru-RU" sz="1100" spc="-1" strike="noStrike">
                <a:solidFill>
                  <a:srgbClr val="898989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100" spc="-1" strike="noStrike">
                <a:solidFill>
                  <a:srgbClr val="898989"/>
                </a:solidFill>
                <a:latin typeface="Arial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B563-ADB8-435B-836C-BAA25AC9F92D}" type="slidenum">
              <a:rPr b="0" lang="ru-RU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062.radikal.ru/0911/d2/4a82148d5b22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eapon.at.ua/automat_4/rossiya/AK-74-6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324000" y="4365720"/>
            <a:ext cx="86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рождения: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ноября 1919 года, семнадцатый ребенок в сем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рожде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о Курья Алтайско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ть -  Александра Фроловна Калашникова, отец  -  Тимофей Александрович Калаш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ая справк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30 году семья, признанная кулаческой,  сослана  в Томскую область, посёлок Нижняя Мохов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ы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, устройство и принципы работы разных механиз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419640" y="1217520"/>
            <a:ext cx="1968480" cy="2960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468360" y="189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и твор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а Тимофеевич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лашн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8"/>
          <p:cNvSpPr/>
          <p:nvPr/>
        </p:nvSpPr>
        <p:spPr>
          <a:xfrm>
            <a:off x="395280" y="26028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95280" y="33336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Arial"/>
              </a:rPr>
              <a:t>Общее устройство АК-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684360" y="162864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Дульный тормоз-компенса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324000" y="5373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льный тормоз – компенсатор 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служит для повышения кучности боя и уменьшения энергии отда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3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3894120" cy="250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8"/>
          <p:cNvSpPr/>
          <p:nvPr/>
        </p:nvSpPr>
        <p:spPr>
          <a:xfrm>
            <a:off x="395280" y="26028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95280" y="33336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Arial"/>
              </a:rPr>
              <a:t>Общее устройство АК-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132fa"/>
          <p:cNvPicPr/>
          <p:nvPr/>
        </p:nvPicPr>
        <p:blipFill>
          <a:blip r:embed="rId1"/>
          <a:stretch/>
        </p:blipFill>
        <p:spPr>
          <a:xfrm>
            <a:off x="1619280" y="2133720"/>
            <a:ext cx="5610240" cy="17967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4"/>
          <p:cNvSpPr/>
          <p:nvPr/>
        </p:nvSpPr>
        <p:spPr>
          <a:xfrm>
            <a:off x="684360" y="162864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рышка ствольной короб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324000" y="5373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ышка ствольной короб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предохраняет от загрязнения части и механизмы, помещенные в ствольной короб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8"/>
          <p:cNvSpPr/>
          <p:nvPr/>
        </p:nvSpPr>
        <p:spPr>
          <a:xfrm>
            <a:off x="395280" y="26028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95280" y="33336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Arial"/>
              </a:rPr>
              <a:t>Общее устройство АК-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132da"/>
          <p:cNvPicPr/>
          <p:nvPr/>
        </p:nvPicPr>
        <p:blipFill>
          <a:blip r:embed="rId1"/>
          <a:stretch/>
        </p:blipFill>
        <p:spPr>
          <a:xfrm>
            <a:off x="250920" y="2349360"/>
            <a:ext cx="8424720" cy="2024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2"/>
          <p:cNvSpPr/>
          <p:nvPr/>
        </p:nvSpPr>
        <p:spPr>
          <a:xfrm>
            <a:off x="900000" y="1628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Затворная рама с газовым поршн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324000" y="50842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творная рама с газовым поршн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служит для приведения в действие затвора и ударно-спускового мех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8"/>
          <p:cNvSpPr/>
          <p:nvPr/>
        </p:nvSpPr>
        <p:spPr>
          <a:xfrm>
            <a:off x="395280" y="26028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95280" y="33336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Arial"/>
              </a:rPr>
              <a:t>Общее устройство АК-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1" descr="132ca"/>
          <p:cNvPicPr/>
          <p:nvPr/>
        </p:nvPicPr>
        <p:blipFill>
          <a:blip r:embed="rId1"/>
          <a:stretch/>
        </p:blipFill>
        <p:spPr>
          <a:xfrm>
            <a:off x="2556000" y="907920"/>
            <a:ext cx="3166920" cy="17589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3"/>
          <p:cNvSpPr/>
          <p:nvPr/>
        </p:nvSpPr>
        <p:spPr>
          <a:xfrm>
            <a:off x="2627280" y="112536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 За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4" descr="132ea"/>
          <p:cNvPicPr/>
          <p:nvPr/>
        </p:nvPicPr>
        <p:blipFill>
          <a:blip r:embed="rId2"/>
          <a:stretch/>
        </p:blipFill>
        <p:spPr>
          <a:xfrm>
            <a:off x="1116000" y="3645000"/>
            <a:ext cx="6516720" cy="14396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5"/>
          <p:cNvSpPr/>
          <p:nvPr/>
        </p:nvSpPr>
        <p:spPr>
          <a:xfrm>
            <a:off x="1835280" y="3716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Возвратный меха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324000" y="2852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твор 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служит для досылания патрона в патронник, закрывания канала ствола, разбивания капсюля и извлечения из патронника гиль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250920" y="544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ратный механиз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служит для возвращения затворной рамы с затвором в переднее поло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"/>
          <p:cNvGrpSpPr/>
          <p:nvPr/>
        </p:nvGrpSpPr>
        <p:grpSpPr>
          <a:xfrm>
            <a:off x="179280" y="500040"/>
            <a:ext cx="8785440" cy="6300720"/>
            <a:chOff x="179280" y="500040"/>
            <a:chExt cx="8785440" cy="6300720"/>
          </a:xfrm>
        </p:grpSpPr>
        <p:sp>
          <p:nvSpPr>
            <p:cNvPr id="156" name="Text Box 4"/>
            <p:cNvSpPr/>
            <p:nvPr/>
          </p:nvSpPr>
          <p:spPr>
            <a:xfrm>
              <a:off x="1954080" y="6341040"/>
              <a:ext cx="523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г. Москва     2004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"/>
            <p:cNvSpPr/>
            <p:nvPr/>
          </p:nvSpPr>
          <p:spPr>
            <a:xfrm>
              <a:off x="1619280" y="500040"/>
              <a:ext cx="2305080" cy="41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5724360" y="639000"/>
              <a:ext cx="2448000" cy="41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7"/>
            <p:cNvSpPr/>
            <p:nvPr/>
          </p:nvSpPr>
          <p:spPr>
            <a:xfrm>
              <a:off x="179280" y="639000"/>
              <a:ext cx="8785440" cy="87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9"/>
          <p:cNvSpPr/>
          <p:nvPr/>
        </p:nvSpPr>
        <p:spPr>
          <a:xfrm>
            <a:off x="395280" y="333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Arial"/>
              </a:rPr>
              <a:t>Общее устройство АК-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132ga"/>
          <p:cNvPicPr/>
          <p:nvPr/>
        </p:nvPicPr>
        <p:blipFill>
          <a:blip r:embed="rId1"/>
          <a:stretch/>
        </p:blipFill>
        <p:spPr>
          <a:xfrm>
            <a:off x="2071800" y="2071800"/>
            <a:ext cx="5327640" cy="20048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1928880" y="12859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Газовая трубка со ствольной наклад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714240" y="493272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зовая трубка со ствольной наклад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служит для направления движения газового поршня и предохранения рук автоматчика от ожогов при стрельб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8"/>
          <p:cNvSpPr/>
          <p:nvPr/>
        </p:nvSpPr>
        <p:spPr>
          <a:xfrm>
            <a:off x="395280" y="26028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395280" y="33336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Arial"/>
              </a:rPr>
              <a:t>Общее устройство АК-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908000" y="1125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Цевь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0" y="5012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вье 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служит для удобства действий с автоматом и для предохранения рук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3" descr=""/>
          <p:cNvPicPr/>
          <p:nvPr/>
        </p:nvPicPr>
        <p:blipFill>
          <a:blip r:embed="rId1"/>
          <a:stretch/>
        </p:blipFill>
        <p:spPr>
          <a:xfrm>
            <a:off x="2843280" y="1773360"/>
            <a:ext cx="3744720" cy="280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8"/>
          <p:cNvSpPr/>
          <p:nvPr/>
        </p:nvSpPr>
        <p:spPr>
          <a:xfrm>
            <a:off x="395280" y="26028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395280" y="33336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Arial"/>
              </a:rPr>
              <a:t>Общее устройство АК-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1" descr="132ja"/>
          <p:cNvPicPr/>
          <p:nvPr/>
        </p:nvPicPr>
        <p:blipFill>
          <a:blip r:embed="rId1"/>
          <a:stretch/>
        </p:blipFill>
        <p:spPr>
          <a:xfrm>
            <a:off x="2771640" y="1700280"/>
            <a:ext cx="2967120" cy="3384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2"/>
          <p:cNvSpPr/>
          <p:nvPr/>
        </p:nvSpPr>
        <p:spPr>
          <a:xfrm>
            <a:off x="1403280" y="1197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Мага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684360" y="51627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газ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предназначен для помещения патронов и подачи их в ствольную коробк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8"/>
          <p:cNvSpPr/>
          <p:nvPr/>
        </p:nvSpPr>
        <p:spPr>
          <a:xfrm>
            <a:off x="395280" y="26028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95280" y="33336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Arial"/>
              </a:rPr>
              <a:t>Общее устройство АК-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1476360" y="1341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 Штык-но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0" y="51274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ык-нож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присоединяется к автомату перед атакой и служит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поражения противника в рукопашном бою, а также может использоваться в качестве ножа, пилы (для распиловки металла) и ножниц (для резки проволо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3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047840" cy="238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8"/>
          <p:cNvSpPr/>
          <p:nvPr/>
        </p:nvSpPr>
        <p:spPr>
          <a:xfrm>
            <a:off x="395280" y="26028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50920" y="907920"/>
            <a:ext cx="8750160" cy="54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Дополнительно в комплекте автомата име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омп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енал с З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лечевой рем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мка для магази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е магазины Ак-74 – 3 ш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л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Принадлежности автомата предназначены для чистки и смазки, а также для разборки и сборки автом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0" descr="Картинка 45 из 3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1484280"/>
            <a:ext cx="374472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79280" y="360360"/>
            <a:ext cx="8785440" cy="6523920"/>
            <a:chOff x="179280" y="360360"/>
            <a:chExt cx="8785440" cy="6523920"/>
          </a:xfrm>
        </p:grpSpPr>
        <p:sp>
          <p:nvSpPr>
            <p:cNvPr id="183" name="Text Box 4"/>
            <p:cNvSpPr/>
            <p:nvPr/>
          </p:nvSpPr>
          <p:spPr>
            <a:xfrm>
              <a:off x="1954080" y="6424560"/>
              <a:ext cx="523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г. Москва     2004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5"/>
            <p:cNvSpPr/>
            <p:nvPr/>
          </p:nvSpPr>
          <p:spPr>
            <a:xfrm>
              <a:off x="1619280" y="360360"/>
              <a:ext cx="23050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6"/>
            <p:cNvSpPr/>
            <p:nvPr/>
          </p:nvSpPr>
          <p:spPr>
            <a:xfrm>
              <a:off x="5724360" y="504720"/>
              <a:ext cx="2448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7"/>
            <p:cNvSpPr/>
            <p:nvPr/>
          </p:nvSpPr>
          <p:spPr>
            <a:xfrm>
              <a:off x="179280" y="504720"/>
              <a:ext cx="8785440" cy="4347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</a:rPr>
                <a:t>Учебный вопрос №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9933"/>
                  </a:solidFill>
                  <a:latin typeface="Arial"/>
                </a:rPr>
                <a:t>Порядок неполной разборки и сборки после неполной разборки АК-7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7"/>
          <p:cNvSpPr/>
          <p:nvPr/>
        </p:nvSpPr>
        <p:spPr>
          <a:xfrm>
            <a:off x="358920" y="836640"/>
            <a:ext cx="8785080" cy="43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Цели за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99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Изучить назначение, боевые свойства, устройство,  работу частей и механизмов АК – 7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2. </a:t>
            </a:r>
            <a:r>
              <a:rPr b="0" lang="ru-RU" sz="3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Научиться производить неполную разборку и сборку автом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8"/>
          <p:cNvSpPr/>
          <p:nvPr/>
        </p:nvSpPr>
        <p:spPr>
          <a:xfrm>
            <a:off x="395280" y="26028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4360" y="2133720"/>
          <a:ext cx="7848360" cy="3327120"/>
        </p:xfrm>
        <a:graphic>
          <a:graphicData uri="http://schemas.openxmlformats.org/drawingml/2006/table">
            <a:tbl>
              <a:tblPr/>
              <a:tblGrid>
                <a:gridCol w="2952720"/>
                <a:gridCol w="1511280"/>
                <a:gridCol w="1224000"/>
                <a:gridCol w="2160360"/>
              </a:tblGrid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рматив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"отлично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"хорошо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"удовлетво-рительно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110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</a:t>
                      </a: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«Непол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разборки»</a:t>
                      </a: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	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с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с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1579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</a:t>
                      </a: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«Сбор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после неполно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разборки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272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дание на самоподготов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250920" y="141300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учить по раздаточному материалу назначение, боевые свойства АК-74, устройство его частей и механизмов, порядок неполной разборки и сборки после неполной разборки автомата АК-7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Наставление по стрелковому делу: 5,45 мм автомат Калашникова АК-74 (стр. 3-11, 13-21, 33-84, 87-88, 98-105, 108-1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Сборник нормативов по боевой подготовке сухопутных войск (стр. 1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1440" y="2095200"/>
            <a:ext cx="7809120" cy="1181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5200" bIns="50400" anchor="ctr">
            <a:noAutofit/>
          </a:bodyPr>
          <a:p>
            <a:pPr indent="0" algn="ctr">
              <a:buNone/>
              <a:tabLst>
                <a:tab algn="l" pos="0"/>
                <a:tab algn="l" pos="404640"/>
                <a:tab algn="l" pos="8128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0520"/>
                <a:tab algn="l" pos="4478400"/>
                <a:tab algn="l" pos="4886280"/>
                <a:tab algn="l" pos="5292720"/>
                <a:tab algn="l" pos="5700600"/>
                <a:tab algn="l" pos="6107040"/>
                <a:tab algn="l" pos="6515280"/>
                <a:tab algn="l" pos="6921360"/>
                <a:tab algn="l" pos="7329600"/>
                <a:tab algn="l" pos="7737480"/>
                <a:tab algn="l" pos="814392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WordArt 2"/>
          <p:cNvSpPr txBox="1"/>
          <p:nvPr/>
        </p:nvSpPr>
        <p:spPr>
          <a:xfrm>
            <a:off x="1795320" y="2122560"/>
            <a:ext cx="5388120" cy="19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8"/>
                <a:gd name="adj2" fmla="val -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7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deb3d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Arial Black"/>
              </a:rPr>
              <a:t>Спасибо за внимание!</a:t>
            </a:r>
            <a:endParaRPr b="0" lang="en-US" sz="3270" spc="1" strike="noStrike">
              <a:ln w="9360">
                <a:solidFill>
                  <a:srgbClr val="000000"/>
                </a:solidFill>
                <a:miter/>
              </a:ln>
              <a:solidFill>
                <a:srgbClr val="3deb3d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108080" y="141120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"/>
          <p:cNvSpPr/>
          <p:nvPr/>
        </p:nvSpPr>
        <p:spPr>
          <a:xfrm>
            <a:off x="2853000" y="380052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П Калашникова обр. 1942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352440" y="4724280"/>
            <a:ext cx="871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истолет-пулемёт Калашникова в изготовлении сложнее и дороже, чем ППШ и ППС, и требует применения дефицитных и медленных фрезерных работ. Поэтому, несмотря на многие подкупающие стороны (малый вес, малая длина, наличие одиночного огня, удачное совмещение переводчика и предохранителя, компактный шомпол и пр.), в настоящем виде своём промышленного интереса не представляет…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1042920" y="4365720"/>
            <a:ext cx="75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специалистов Главного  Артиллерийского  Управления РК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72960" y="254160"/>
            <a:ext cx="882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пистолет-пуле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Т. Клашн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587760" y="1325520"/>
            <a:ext cx="1911240" cy="145116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3930480" y="2830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-74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867280" y="1330200"/>
            <a:ext cx="2733840" cy="14511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6694560" y="29005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ПК-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324000" y="1330200"/>
            <a:ext cx="2735280" cy="14464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1200960" y="28479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С-74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4"/>
          <a:stretch/>
        </p:blipFill>
        <p:spPr>
          <a:xfrm>
            <a:off x="336600" y="3271680"/>
            <a:ext cx="2895480" cy="13636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"/>
          <p:cNvSpPr/>
          <p:nvPr/>
        </p:nvSpPr>
        <p:spPr>
          <a:xfrm>
            <a:off x="1301760" y="46641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Графический объект33" descr=""/>
          <p:cNvPicPr/>
          <p:nvPr/>
        </p:nvPicPr>
        <p:blipFill>
          <a:blip r:embed="rId5"/>
          <a:stretch/>
        </p:blipFill>
        <p:spPr>
          <a:xfrm>
            <a:off x="4140360" y="3490920"/>
            <a:ext cx="3904920" cy="1173240"/>
          </a:xfrm>
          <a:prstGeom prst="rect">
            <a:avLst/>
          </a:prstGeom>
          <a:ln w="0">
            <a:noFill/>
          </a:ln>
        </p:spPr>
      </p:pic>
      <p:pic>
        <p:nvPicPr>
          <p:cNvPr id="107" name="Графический объект26" descr=""/>
          <p:cNvPicPr/>
          <p:nvPr/>
        </p:nvPicPr>
        <p:blipFill>
          <a:blip r:embed="rId6"/>
          <a:stretch/>
        </p:blipFill>
        <p:spPr>
          <a:xfrm>
            <a:off x="4761000" y="5032440"/>
            <a:ext cx="3284280" cy="1388880"/>
          </a:xfrm>
          <a:prstGeom prst="rect">
            <a:avLst/>
          </a:prstGeom>
          <a:ln w="0">
            <a:noFill/>
          </a:ln>
        </p:spPr>
      </p:pic>
      <p:pic>
        <p:nvPicPr>
          <p:cNvPr id="108" name="Графический объект25" descr=""/>
          <p:cNvPicPr/>
          <p:nvPr/>
        </p:nvPicPr>
        <p:blipFill>
          <a:blip r:embed="rId7"/>
          <a:stretch/>
        </p:blipFill>
        <p:spPr>
          <a:xfrm>
            <a:off x="593640" y="5032440"/>
            <a:ext cx="3181320" cy="1439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1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422280" y="243000"/>
            <a:ext cx="5439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402120" y="-76680"/>
            <a:ext cx="287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0"/>
          <p:cNvSpPr/>
          <p:nvPr/>
        </p:nvSpPr>
        <p:spPr>
          <a:xfrm>
            <a:off x="5441040" y="46641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-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1"/>
          <p:cNvSpPr/>
          <p:nvPr/>
        </p:nvSpPr>
        <p:spPr>
          <a:xfrm>
            <a:off x="1552320" y="64213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-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2"/>
          <p:cNvSpPr/>
          <p:nvPr/>
        </p:nvSpPr>
        <p:spPr>
          <a:xfrm>
            <a:off x="5872680" y="64101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-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0" y="189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ующие разработки стрелкового оружия    М.Т. Калашн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7"/>
          <p:cNvSpPr/>
          <p:nvPr/>
        </p:nvSpPr>
        <p:spPr>
          <a:xfrm>
            <a:off x="179280" y="504720"/>
            <a:ext cx="8785440" cy="392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чебный вопрос №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Назначение, боевые свойства, общее устройство АК-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000" y="333360"/>
            <a:ext cx="9036000" cy="20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5.45 мм автомат Калашникова (АК-74) является  индивидуальным оружием. 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н предназначен для уничтожения живой силы и поражения огневых средств против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6" descr="111a"/>
          <p:cNvPicPr/>
          <p:nvPr/>
        </p:nvPicPr>
        <p:blipFill>
          <a:blip r:embed="rId1"/>
          <a:stretch/>
        </p:blipFill>
        <p:spPr>
          <a:xfrm>
            <a:off x="250920" y="2852640"/>
            <a:ext cx="4038480" cy="2878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4" descr="Картинка 42 из 12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3203640"/>
            <a:ext cx="4643280" cy="22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8"/>
          <p:cNvSpPr/>
          <p:nvPr/>
        </p:nvSpPr>
        <p:spPr>
          <a:xfrm>
            <a:off x="395280" y="26028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250920" y="333360"/>
            <a:ext cx="8713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Для поражения противника в рукопашном бою к автомату присоединяется штык-но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Для стрельбы и наблюдения в условиях естественной ночной освещенности к автомату присоединяется ночной стрелковый прицел универсальный НСП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2" descr="AK74M_01"/>
          <p:cNvPicPr/>
          <p:nvPr/>
        </p:nvPicPr>
        <p:blipFill>
          <a:blip r:embed="rId1"/>
          <a:stretch/>
        </p:blipFill>
        <p:spPr>
          <a:xfrm>
            <a:off x="395280" y="3152880"/>
            <a:ext cx="8569440" cy="345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8"/>
          <p:cNvSpPr/>
          <p:nvPr/>
        </p:nvSpPr>
        <p:spPr>
          <a:xfrm>
            <a:off x="395280" y="26028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95280" y="33336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250920" y="260280"/>
            <a:ext cx="8642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ЕВЫЕ СВОЙСТВА      АК-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либр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-74 …………………………………………………………….........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,45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цельная дальность стрельб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автомата ……………... ...........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000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иболее действенный огон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наземным целям до………………………………………………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00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душным целям до……………………………..……………..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00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чальная скорость полета пул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…………………………………..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900 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бойное действие пул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храняется на дальности до……………..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350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средоточенный огон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наземным групповым цел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тся на дальности до…………………………………………..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000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оевая скорострель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очными до…………………………………………………….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0 в/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едью до……………………………………………………….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00 в/ми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п стрельб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ло……………………………………………………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600 в/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альность прямого выстрел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рудной фигуре……………………………………………………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40 м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бегущей фигуре …………………………………………………..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625 м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с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втомата без штык - ножа со снаряженным пластмассовы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азином ………………………………………………………………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.6 к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штык - ножа с ножнами ……………………………………..…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90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мкость магазин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……………… ……………………………………….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0 пат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исло нарез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анале ствола ……………………………………………….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8"/>
          <p:cNvSpPr/>
          <p:nvPr/>
        </p:nvSpPr>
        <p:spPr>
          <a:xfrm>
            <a:off x="395280" y="26028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95280" y="333360"/>
            <a:ext cx="84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Arial"/>
              </a:rPr>
              <a:t>Общее устройство АК-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132bg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31561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1"/>
          <p:cNvSpPr/>
          <p:nvPr/>
        </p:nvSpPr>
        <p:spPr>
          <a:xfrm>
            <a:off x="179280" y="472356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вол 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служит для направления полета пу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179280" y="5228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м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служит для направления пороховых газов из ствола на газовый поршень затворной ра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179280" y="60210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вольная короб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служит для соединения частей и механизмов автомата, для обеспечения закрывания канала ствола затвором и запирания затв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7:53:19Z</dcterms:created>
  <dc:creator>sfvo4@rol.ru</dc:creator>
  <dc:description/>
  <dc:language>en-US</dc:language>
  <cp:lastModifiedBy>днс</cp:lastModifiedBy>
  <dcterms:modified xsi:type="dcterms:W3CDTF">2020-02-17T06:13:17Z</dcterms:modified>
  <cp:revision>141</cp:revision>
  <dc:subject/>
  <dc:title>Слайд 1</dc:title>
</cp:coreProperties>
</file>