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AFA3-7B7F-4EC7-8D70-396CC0FD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2905-D463-4072-9847-BE75708D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3907-3521-4BC4-BD45-BF1B49A1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76FB-CD1B-4C1B-A5B9-278717B8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6FC3-ED5E-47A6-94BD-A1EBC84E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F028-677E-488A-A179-9416FBA3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A752-9211-4DFC-9242-B37E48CF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4E1A-2DD4-416A-AA1D-3AD06C31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90BD-C1E6-4950-B6AE-F629EF8D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9CCA-325C-407E-A5FA-A93A9D07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AB45-426E-43AC-ABA6-53410E41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29B8-A801-42B9-A85D-0440A81E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E011-D0BF-4765-8E02-20879619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0178-DA9B-45A2-B1F0-06350365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40D2-07D7-466F-95F4-7FF40306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1C09-93F8-4294-993F-9724DE66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497C-05EE-4D9E-AE77-59BD3BC8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E6E8E-BF4F-4F9C-A918-20F94B7A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6054D-33D8-4F89-B3A3-E2926B98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3342B-EA30-49C7-9717-730C617B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DE17D-2AAB-4AB7-920B-8CA59BB9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05195-8FAF-4BB8-9639-AEDF62A8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FF59-F221-485D-83B8-761B0ADD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BC080-0DAD-4095-B818-5558B5BB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B63E0-FF05-4B9D-A49D-11838277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B8FD6-929B-49C9-9695-860E6A10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EF1AD-51E4-433F-AFAF-970E3D3E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CD1D7-1EC5-4B92-B259-DE2BA4B3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67C54-E7B5-4E58-8693-1ACBA47F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309F7-9402-4FD4-A401-417E3193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4A98-6C99-48AC-BDA8-28352504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445F-76E5-45A5-819E-9FB780C5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54D8-8873-4F8F-8238-4D6AFE6C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9B4E-328E-4E86-B5E9-58B45BB0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0555-5319-4677-B747-8035D818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51DB-B204-480F-8EB9-0CBC99FF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C013-2238-4E3E-A9AA-E7029B9D99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D2FC-4E2C-4479-A06B-69E51D305B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A698-7288-4EB6-9445-609F506D0EE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1"/>
          <p:cNvPicPr/>
          <p:nvPr/>
        </p:nvPicPr>
        <p:blipFill>
          <a:blip r:embed="rId1"/>
          <a:stretch/>
        </p:blipFill>
        <p:spPr>
          <a:xfrm>
            <a:off x="2484360" y="2421000"/>
            <a:ext cx="5904000" cy="41418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1"/>
          <p:cNvSpPr/>
          <p:nvPr/>
        </p:nvSpPr>
        <p:spPr>
          <a:xfrm>
            <a:off x="0" y="-46656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неклассное мероприятие по тем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Природа – бесценный дар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хайлова В.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БОУ СОШ № 5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силеостровского рай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-360" y="428760"/>
            <a:ext cx="5786280" cy="61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Рисунок 13" descr="https://ds02.infourok.ru/uploads/ex/104c/00018363-5b7f5ed8/640/img20.jpg"/>
          <p:cNvPicPr/>
          <p:nvPr/>
        </p:nvPicPr>
        <p:blipFill>
          <a:blip r:embed="rId1"/>
          <a:stretch/>
        </p:blipFill>
        <p:spPr>
          <a:xfrm>
            <a:off x="357120" y="285840"/>
            <a:ext cx="83916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9360">
            <a:solidFill>
              <a:srgbClr val="47ff47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        </a:t>
            </a:r>
            <a:r>
              <a:rPr b="1" lang="ru-RU" sz="8000" spc="-1" strike="noStrike">
                <a:solidFill>
                  <a:srgbClr val="ffff00"/>
                </a:solidFill>
                <a:latin typeface="Arial Black"/>
              </a:rPr>
              <a:t>Цель: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глубить представления о ценности природы для человека и роли человека в сохранении богатств природ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2364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Рисунок 10" descr="https://myslide.ru/documents_2/1ae4fefa2da417039e8d439b2d446584/img3.jpg"/>
          <p:cNvPicPr/>
          <p:nvPr/>
        </p:nvPicPr>
        <p:blipFill>
          <a:blip r:embed="rId1"/>
          <a:stretch/>
        </p:blipFill>
        <p:spPr>
          <a:xfrm>
            <a:off x="0" y="571680"/>
            <a:ext cx="9005760" cy="59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50560" y="188640"/>
            <a:ext cx="8893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Рисунок 16" descr="https://ds04.infourok.ru/uploads/ex/06bf/0007ceee-56262ecb/img7.jpg"/>
          <p:cNvPicPr/>
          <p:nvPr/>
        </p:nvPicPr>
        <p:blipFill>
          <a:blip r:embed="rId1"/>
          <a:stretch/>
        </p:blipFill>
        <p:spPr>
          <a:xfrm>
            <a:off x="166680" y="428760"/>
            <a:ext cx="89773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291960"/>
            <a:ext cx="878544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Рисунок 1" descr="https://ds04.infourok.ru/uploads/ex/0fbf/00164356-9933b117/640/img15.jpg"/>
          <p:cNvPicPr/>
          <p:nvPr/>
        </p:nvPicPr>
        <p:blipFill>
          <a:blip r:embed="rId1"/>
          <a:stretch/>
        </p:blipFill>
        <p:spPr>
          <a:xfrm>
            <a:off x="0" y="285840"/>
            <a:ext cx="935496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14320" y="1428840"/>
            <a:ext cx="8964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1" lang="en-US" sz="5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5" descr="img27"/>
          <p:cNvPicPr/>
          <p:nvPr/>
        </p:nvPicPr>
        <p:blipFill>
          <a:blip r:embed="rId1"/>
          <a:stretch/>
        </p:blipFill>
        <p:spPr>
          <a:xfrm>
            <a:off x="357120" y="285840"/>
            <a:ext cx="8215560" cy="6129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66304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75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765430817"/>
          <p:cNvPicPr/>
          <p:nvPr/>
        </p:nvPicPr>
        <p:blipFill>
          <a:blip r:embed="rId1"/>
          <a:stretch/>
        </p:blipFill>
        <p:spPr>
          <a:xfrm>
            <a:off x="285840" y="357120"/>
            <a:ext cx="8504280" cy="6000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69100"/>
          <p:cNvPicPr/>
          <p:nvPr/>
        </p:nvPicPr>
        <p:blipFill>
          <a:blip r:embed="rId1"/>
          <a:stretch/>
        </p:blipFill>
        <p:spPr>
          <a:xfrm>
            <a:off x="357120" y="357120"/>
            <a:ext cx="8286840" cy="638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 Black"/>
              </a:rPr>
              <a:t>     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525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786120" y="1000080"/>
            <a:ext cx="3927600" cy="4191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12"/>
          <p:cNvPicPr/>
          <p:nvPr/>
        </p:nvPicPr>
        <p:blipFill>
          <a:blip r:embed="rId2"/>
          <a:stretch/>
        </p:blipFill>
        <p:spPr>
          <a:xfrm>
            <a:off x="357120" y="357120"/>
            <a:ext cx="8359920" cy="607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0:35:52Z</dcterms:created>
  <dc:creator>user</dc:creator>
  <dc:description/>
  <dc:language>en-US</dc:language>
  <cp:lastModifiedBy>user</cp:lastModifiedBy>
  <dcterms:modified xsi:type="dcterms:W3CDTF">2021-10-26T09:29:28Z</dcterms:modified>
  <cp:revision>33</cp:revision>
  <dc:subject/>
  <dc:title>Слайд 1</dc:title>
</cp:coreProperties>
</file>