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520488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8E34E-4865-4084-81DE-756E5461DB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C739D-64B6-4776-B719-FDA25ED140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655A0-F414-416B-82BD-FAA748C06F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BC911-0636-489A-ADBF-B5F6125AE4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5A7E-477E-4EC3-B7B4-62C00A23FA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28D06-857B-4BB8-9C68-95515BA2EE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547A9-0FF4-4011-AC30-EBD6D3D77D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71505-B87D-460D-AC42-C57F336DC1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D9AA4-B7F3-425A-B8E2-8B95B5D9A5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8CD8F-BA3A-4A97-B795-180C06D184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F872-9C8D-4099-B700-B207212BE2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A4E1-9E90-408B-BC11-75DB40FB95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AA6E8-CF75-414E-AD7F-14834752BA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04D4-F3C2-4447-8C6C-268CE2D00C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847-C022-4104-A3F0-637CB242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103662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000" y="3749040"/>
            <a:ext cx="103662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286-864A-44DD-8F20-3A2FC61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7800" y="151596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000" y="374904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7800" y="374904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BC4-D162-447B-BC5D-CEED5C02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33375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960" y="1515960"/>
            <a:ext cx="33375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5560" y="1515960"/>
            <a:ext cx="33375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000" y="3749040"/>
            <a:ext cx="33375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960" y="3749040"/>
            <a:ext cx="33375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5560" y="3749040"/>
            <a:ext cx="33375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5B0-9F4C-4DFA-8B15-56B3BBE2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000" y="1515960"/>
            <a:ext cx="103662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77F-3B06-4488-9D5B-AB10C325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103662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60A-5EE0-4726-8AD1-741E7DD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50583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7800" y="1515960"/>
            <a:ext cx="50583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F6F-B384-47CF-BB45-A412BAE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CEB-9361-4968-8B06-C4F29F0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000" y="256680"/>
            <a:ext cx="103662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4C6-1940-41FC-B006-4BB920AF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7800" y="1515960"/>
            <a:ext cx="50583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000" y="374904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379-1637-4097-8153-649AAC5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50583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7800" y="151596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7800" y="374904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412-F3A6-4B52-8EB9-B1CBE8C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151596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7800" y="1515960"/>
            <a:ext cx="50583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000" y="3749040"/>
            <a:ext cx="103662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95C-34A2-4DD1-A76A-D0C4FBA2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103662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000" y="1515960"/>
            <a:ext cx="103662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360" y="5903640"/>
            <a:ext cx="26812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0200" y="5903640"/>
            <a:ext cx="36496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5903640"/>
            <a:ext cx="26812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3A1240-4967-4483-8922-7FC7746D29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4240" y="5256360"/>
            <a:ext cx="8843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166760" y="431640"/>
            <a:ext cx="9174240" cy="561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rcRect l="385" t="6882" r="385" b="528"/>
          <a:stretch/>
        </p:blipFill>
        <p:spPr>
          <a:xfrm>
            <a:off x="792000" y="541440"/>
            <a:ext cx="8934480" cy="59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-216000"/>
            <a:ext cx="11520360" cy="684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31640" y="360360"/>
            <a:ext cx="9792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арь Пётр Первый сидит на могучем коне. Перед ним ветер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гони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лны Невы. Левой рукой царь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держи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водья вставшего на дыбы коня. Конь возбуждённо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дышит 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топчет ногой змею как символ победы над врагом. Пётр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мотри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даль, он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види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оссию сильной державой, которая не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ависи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т воли других государств, и которую не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бидит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 один вра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5975280" y="1079640"/>
            <a:ext cx="1368360" cy="431640"/>
          </a:xfrm>
          <a:prstGeom prst="roundRect">
            <a:avLst>
              <a:gd name="adj" fmla="val 366"/>
            </a:avLst>
          </a:prstGeom>
          <a:solidFill>
            <a:srgbClr val="ffffff"/>
          </a:solidFill>
          <a:ln w="29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6335640" y="1655640"/>
            <a:ext cx="1943280" cy="49860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29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 rot="21540000">
            <a:off x="3673080" y="2768400"/>
            <a:ext cx="1655640" cy="49824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29160">
            <a:solidFill>
              <a:srgbClr val="00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21540000">
            <a:off x="6265440" y="3919320"/>
            <a:ext cx="1440000" cy="49824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29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800360" y="3889440"/>
            <a:ext cx="2016000" cy="49824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29160">
            <a:solidFill>
              <a:srgbClr val="007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 rot="21540000">
            <a:off x="7848360" y="4459320"/>
            <a:ext cx="2016000" cy="49860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29160">
            <a:solidFill>
              <a:srgbClr val="007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289080" y="5556240"/>
            <a:ext cx="2016000" cy="49860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29160">
            <a:solidFill>
              <a:srgbClr val="0078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792000" y="2320920"/>
            <a:ext cx="97920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33"/>
                </a:solidFill>
                <a:latin typeface="Arial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33"/>
                </a:solidFill>
                <a:latin typeface="Arial"/>
              </a:rPr>
              <a:t>Домашне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63640" y="436680"/>
            <a:ext cx="979164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од проснулся с у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лупрозрачным и светл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сячи просек П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мыты ливнем и вет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тали на место мосты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пыхнули острые шпили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закружили, и закружи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од петровской меч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335640" y="1949400"/>
            <a:ext cx="54007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га, узкая полоса в лесу, очищенная от деревь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 словаря С.И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374920" y="0"/>
            <a:ext cx="863928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863640" y="1152360"/>
            <a:ext cx="979164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крыть новые знания и научиться их применять в устной и письменной реч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1503360" y="966960"/>
            <a:ext cx="7940520" cy="1828800"/>
          </a:xfrm>
          <a:prstGeom prst="cloudCallout">
            <a:avLst>
              <a:gd name="adj1" fmla="val -124935"/>
              <a:gd name="adj2" fmla="val 28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3240000"/>
            <a:ext cx="2124000" cy="2028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436840" y="1246320"/>
            <a:ext cx="7661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 знаю и уме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971720" y="993600"/>
            <a:ext cx="7580160" cy="43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833480" y="601560"/>
            <a:ext cx="7853400" cy="527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92000" y="1241280"/>
            <a:ext cx="979200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33"/>
                </a:solidFill>
                <a:latin typeface="Arial"/>
              </a:rPr>
              <a:t>Глаголы-исключ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мотреть, всё слышать, виде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бидеть, ненавиде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рпеть, вертеть, дыша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ржать, зависеть, гн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92000" y="1665360"/>
            <a:ext cx="97920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3333"/>
                </a:solidFill>
                <a:latin typeface="Arial"/>
              </a:rPr>
              <a:t>Отдыхаем и повторяем прави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8:32:11Z</dcterms:created>
  <dc:creator/>
  <dc:description/>
  <dc:language>en-US</dc:language>
  <cp:lastModifiedBy>Пользователь</cp:lastModifiedBy>
  <dcterms:modified xsi:type="dcterms:W3CDTF">2021-10-26T17:44:42Z</dcterms:modified>
  <cp:revision>7</cp:revision>
  <dc:subject/>
  <dc:title>Слайд 1</dc:title>
</cp:coreProperties>
</file>