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4EF-DB69-4AA3-963F-086C40CD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063-08C3-4744-8B26-E9474374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B19-BC5D-4209-B5C5-6F1D020D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26D-9D1F-4E20-A9EF-C5CD65C7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5609-0448-442B-849A-E921248C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D7D3-5D46-49B0-9883-6BFB9385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1D64-FB8B-4C2D-B1AC-D14A25D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05AD-A224-4686-BC06-DB05138B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6D76-B4F4-47C0-AC29-722598DB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0BE0-EDD0-48D0-87EC-A5C4325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3168-6FC1-442E-8AC1-0D165CE3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22A-1099-4976-99C6-56056295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E05-3F6D-49A3-BD59-9EDB5489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BD04-FE7A-40CA-81D7-6BEEE6FD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3FF-D240-4590-A1C6-B4E59DDA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F5C9-2C51-47EE-BDD6-621ECD05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1635-E7D0-4881-B077-5F85B604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7BFA-1F1B-4A0C-931F-41CC8974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C988-C369-4933-8FC2-63D20ED1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76EF-4376-41F7-8DF3-FFBCCEDD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6F02-C223-4E9F-93CB-7F6406C4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58E5-0105-440D-B180-7A476B5C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3DC-5B35-4D18-A951-D6D8E23A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2024-A511-41C6-A690-EFE5745E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A28D5-A864-45E9-9C1F-5BB9C64D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D1EE-A1C8-4820-83AC-41E6AE0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C13B-A7D9-4820-A1CB-B933ABA3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863A-8A93-43C6-A357-90D22773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FF63-6540-43F6-AA2E-4D6F814F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3153-9AD0-4396-A4C6-CC19B2AE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1F59-98E4-4B49-BCCC-D2C4419C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3D94-243D-4458-8696-98FD3E3F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B064A-0857-42EE-AAA3-DC90CB54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562-8280-4E4C-B458-4450476E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28991-EBCA-409F-ABDF-83060AE9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13A02-48CF-41EB-BDFB-1340311C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37C7-7D80-4A39-A788-FF29538F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E77DB-98CA-4D6D-BED6-CB937B5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B9AE5-52B9-4D06-9FA0-22378816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5AE5-4C39-4AB4-8352-34FA4FC3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2B1B-6CC6-4E11-BCD2-1EC1552F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74405-47E7-4117-8522-C03A6E4D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807F-A772-4FC4-A180-1D0D938E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A5B-3724-4B13-BD3B-E493456A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782-E849-4C24-B7F7-112F9212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305-EBD3-499E-9C17-B294C60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C6D-B89D-46E7-B78D-C0D05D5E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AD4-CD50-4CD7-9249-8D874DE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F974A-8F22-432A-A60E-D4DA7293C3E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Picture 110" descr="season_2"/>
          <p:cNvPicPr/>
          <p:nvPr/>
        </p:nvPicPr>
        <p:blipFill>
          <a:blip r:embed="rId2"/>
          <a:srcRect l="53087" t="15098" r="12963" b="45286"/>
          <a:stretch/>
        </p:blipFill>
        <p:spPr>
          <a:xfrm>
            <a:off x="1187280" y="4797360"/>
            <a:ext cx="1548000" cy="1752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2" descr="season_2"/>
          <p:cNvPicPr/>
          <p:nvPr/>
        </p:nvPicPr>
        <p:blipFill>
          <a:blip r:embed="rId3"/>
          <a:srcRect l="53087" t="15098" r="12963" b="45286"/>
          <a:stretch/>
        </p:blipFill>
        <p:spPr>
          <a:xfrm>
            <a:off x="468360" y="2205000"/>
            <a:ext cx="1547640" cy="1662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0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90c226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09457-1733-4F36-99D9-E03C9C2B73E3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8A3B1-5F55-4B2D-BC06-335EDD756F0D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20ADD-3D71-445D-94C2-3378106BAC89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4723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астер-класс 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воспитателя МКДОУ №4</a:t>
            </a:r>
            <a:br>
              <a:rPr sz="2800"/>
            </a:br>
            <a:r>
              <a:rPr b="0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аксименко Евгении Анатольевны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85840" y="188640"/>
            <a:ext cx="8678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ние кинезиологических упражнений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работе с детьми</a:t>
            </a: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”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3"/>
          <p:cNvSpPr/>
          <p:nvPr/>
        </p:nvSpPr>
        <p:spPr>
          <a:xfrm>
            <a:off x="0" y="1268280"/>
            <a:ext cx="4032360" cy="5400720"/>
          </a:xfrm>
          <a:custGeom>
            <a:avLst/>
            <a:gdLst>
              <a:gd name="textAreaLeft" fmla="*/ 111960 w 4032360"/>
              <a:gd name="textAreaRight" fmla="*/ 3920400 w 4032360"/>
              <a:gd name="textAreaTop" fmla="*/ 111960 h 5400720"/>
              <a:gd name="textAreaBottom" fmla="*/ 5288760 h 5400720"/>
            </a:gdLst>
            <a:ahLst/>
            <a:rect l="textAreaLeft" t="textAreaTop" r="textAreaRight" b="textAreaBottom"/>
            <a:pathLst>
              <a:path w="21600" h="28929">
                <a:moveTo>
                  <a:pt x="2048" y="0"/>
                </a:moveTo>
                <a:arcTo wR="2048" hR="2048" stAng="16200000" swAng="-5400000"/>
                <a:lnTo>
                  <a:pt x="0" y="26881"/>
                </a:lnTo>
                <a:arcTo wR="2048" hR="2048" stAng="10800000" swAng="-5400000"/>
                <a:lnTo>
                  <a:pt x="19552" y="28929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90c226"/>
              </a:gs>
              <a:gs pos="50000">
                <a:srgbClr val="f8f8f8"/>
              </a:gs>
              <a:gs pos="100000">
                <a:srgbClr val="90c226"/>
              </a:gs>
            </a:gsLst>
            <a:lin ang="27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90c226">
              <a:alpha val="53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КИНЕЗИОЛОГИЯ – наука о развитии головного мозга через движение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250920" y="1268280"/>
            <a:ext cx="388620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d7181f"/>
                </a:solidFill>
                <a:latin typeface="Arial"/>
                <a:ea typeface="Arial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ая кинезиолог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широким направлением в сфере образования. Оно опирается на нейрофизиологию, анатомию, психологию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едагогику.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тели этого направления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 Деннисон и Г. Деннисон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ая кинезиолог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меняется более чем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ах мира как методика, поддерживающая процессы обучения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имее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широкое практическое примен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детских садах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школах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высших учебных заведениях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в терапевтических центрах для детей с проблемами в обучении и поведени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7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· в работе с детьми с особыми возможностями здоровь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ак же с одаренными детьм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2" name="Group 58"/>
          <p:cNvGrpSpPr/>
          <p:nvPr/>
        </p:nvGrpSpPr>
        <p:grpSpPr>
          <a:xfrm>
            <a:off x="4284720" y="1197000"/>
            <a:ext cx="4680000" cy="1368000"/>
            <a:chOff x="4284720" y="1197000"/>
            <a:chExt cx="4680000" cy="1368000"/>
          </a:xfrm>
        </p:grpSpPr>
        <p:sp>
          <p:nvSpPr>
            <p:cNvPr id="223" name="AutoShape 59"/>
            <p:cNvSpPr/>
            <p:nvPr/>
          </p:nvSpPr>
          <p:spPr>
            <a:xfrm>
              <a:off x="4284720" y="1197000"/>
              <a:ext cx="4680000" cy="1368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c226"/>
                </a:gs>
                <a:gs pos="50000">
                  <a:srgbClr val="85b323"/>
                </a:gs>
                <a:gs pos="100000">
                  <a:srgbClr val="90c2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24" name="Group 60"/>
            <p:cNvGrpSpPr/>
            <p:nvPr/>
          </p:nvGrpSpPr>
          <p:grpSpPr>
            <a:xfrm>
              <a:off x="4295880" y="1239480"/>
              <a:ext cx="4662720" cy="1264320"/>
              <a:chOff x="4295880" y="1239480"/>
              <a:chExt cx="4662720" cy="1264320"/>
            </a:xfrm>
          </p:grpSpPr>
          <p:sp>
            <p:nvSpPr>
              <p:cNvPr id="225" name="AutoShape 61"/>
              <p:cNvSpPr/>
              <p:nvPr/>
            </p:nvSpPr>
            <p:spPr>
              <a:xfrm>
                <a:off x="4295880" y="2176560"/>
                <a:ext cx="4662720" cy="32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c22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6" name="AutoShape 62"/>
              <p:cNvSpPr/>
              <p:nvPr/>
            </p:nvSpPr>
            <p:spPr>
              <a:xfrm>
                <a:off x="4295880" y="1239480"/>
                <a:ext cx="4662720" cy="32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c22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227" name="Rectangle 32"/>
          <p:cNvSpPr/>
          <p:nvPr/>
        </p:nvSpPr>
        <p:spPr>
          <a:xfrm>
            <a:off x="4574520" y="1341360"/>
            <a:ext cx="399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авливается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полушарное взаимодействие –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ется  эффективность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8" name="Group 63"/>
          <p:cNvGrpSpPr/>
          <p:nvPr/>
        </p:nvGrpSpPr>
        <p:grpSpPr>
          <a:xfrm>
            <a:off x="4284720" y="2637000"/>
            <a:ext cx="4680000" cy="1007640"/>
            <a:chOff x="4284720" y="2637000"/>
            <a:chExt cx="4680000" cy="1007640"/>
          </a:xfrm>
        </p:grpSpPr>
        <p:sp>
          <p:nvSpPr>
            <p:cNvPr id="229" name="AutoShape 64"/>
            <p:cNvSpPr/>
            <p:nvPr/>
          </p:nvSpPr>
          <p:spPr>
            <a:xfrm>
              <a:off x="4284720" y="2637000"/>
              <a:ext cx="4680000" cy="1007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4a021"/>
                </a:gs>
                <a:gs pos="50000">
                  <a:srgbClr val="4d931e"/>
                </a:gs>
                <a:gs pos="100000">
                  <a:srgbClr val="54a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30" name="Group 65"/>
            <p:cNvGrpSpPr/>
            <p:nvPr/>
          </p:nvGrpSpPr>
          <p:grpSpPr>
            <a:xfrm>
              <a:off x="4295880" y="2668320"/>
              <a:ext cx="4662720" cy="931680"/>
              <a:chOff x="4295880" y="2668320"/>
              <a:chExt cx="4662720" cy="931680"/>
            </a:xfrm>
          </p:grpSpPr>
          <p:sp>
            <p:nvSpPr>
              <p:cNvPr id="231" name="AutoShape 66"/>
              <p:cNvSpPr/>
              <p:nvPr/>
            </p:nvSpPr>
            <p:spPr>
              <a:xfrm>
                <a:off x="4295880" y="3358800"/>
                <a:ext cx="4662720" cy="24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a021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2" name="AutoShape 67"/>
              <p:cNvSpPr/>
              <p:nvPr/>
            </p:nvSpPr>
            <p:spPr>
              <a:xfrm>
                <a:off x="4295880" y="2668320"/>
                <a:ext cx="4662720" cy="24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4a02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233" name="Rectangle 40"/>
          <p:cNvSpPr/>
          <p:nvPr/>
        </p:nvSpPr>
        <p:spPr>
          <a:xfrm>
            <a:off x="4574520" y="2781360"/>
            <a:ext cx="40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ается процесс запоминания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ется устойчивость вним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4" name="Group 68"/>
          <p:cNvGrpSpPr/>
          <p:nvPr/>
        </p:nvGrpSpPr>
        <p:grpSpPr>
          <a:xfrm>
            <a:off x="4284720" y="3716280"/>
            <a:ext cx="4680000" cy="689040"/>
            <a:chOff x="4284720" y="3716280"/>
            <a:chExt cx="4680000" cy="689040"/>
          </a:xfrm>
        </p:grpSpPr>
        <p:sp>
          <p:nvSpPr>
            <p:cNvPr id="235" name="AutoShape 69"/>
            <p:cNvSpPr/>
            <p:nvPr/>
          </p:nvSpPr>
          <p:spPr>
            <a:xfrm>
              <a:off x="4284720" y="3716280"/>
              <a:ext cx="46800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a3c"/>
                </a:gs>
                <a:gs pos="50000">
                  <a:srgbClr val="8dba37"/>
                </a:gs>
                <a:gs pos="100000">
                  <a:srgbClr val="99ca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36" name="Group 70"/>
            <p:cNvGrpSpPr/>
            <p:nvPr/>
          </p:nvGrpSpPr>
          <p:grpSpPr>
            <a:xfrm>
              <a:off x="4295880" y="3737520"/>
              <a:ext cx="4662720" cy="636840"/>
              <a:chOff x="4295880" y="3737520"/>
              <a:chExt cx="4662720" cy="636840"/>
            </a:xfrm>
          </p:grpSpPr>
          <p:sp>
            <p:nvSpPr>
              <p:cNvPr id="237" name="AutoShape 71"/>
              <p:cNvSpPr/>
              <p:nvPr/>
            </p:nvSpPr>
            <p:spPr>
              <a:xfrm>
                <a:off x="4295880" y="4209480"/>
                <a:ext cx="46627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a3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8" name="AutoShape 72"/>
              <p:cNvSpPr/>
              <p:nvPr/>
            </p:nvSpPr>
            <p:spPr>
              <a:xfrm>
                <a:off x="4295880" y="3737520"/>
                <a:ext cx="46627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a3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239" name="Rectangle 48"/>
          <p:cNvSpPr/>
          <p:nvPr/>
        </p:nvSpPr>
        <p:spPr>
          <a:xfrm>
            <a:off x="4428720" y="386064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лучшаются процессы чтения и письм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0" name="Group 73"/>
          <p:cNvGrpSpPr/>
          <p:nvPr/>
        </p:nvGrpSpPr>
        <p:grpSpPr>
          <a:xfrm>
            <a:off x="4284720" y="4581360"/>
            <a:ext cx="4662360" cy="1799640"/>
            <a:chOff x="4284720" y="4581360"/>
            <a:chExt cx="4662360" cy="1799640"/>
          </a:xfrm>
        </p:grpSpPr>
        <p:sp>
          <p:nvSpPr>
            <p:cNvPr id="241" name="AutoShape 74"/>
            <p:cNvSpPr/>
            <p:nvPr/>
          </p:nvSpPr>
          <p:spPr>
            <a:xfrm>
              <a:off x="4284720" y="4581360"/>
              <a:ext cx="4662360" cy="1799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9d181"/>
                </a:gs>
                <a:gs pos="50000">
                  <a:srgbClr val="aac177"/>
                </a:gs>
                <a:gs pos="100000">
                  <a:srgbClr val="b9d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42" name="Group 75"/>
            <p:cNvGrpSpPr/>
            <p:nvPr/>
          </p:nvGrpSpPr>
          <p:grpSpPr>
            <a:xfrm>
              <a:off x="4295880" y="4637160"/>
              <a:ext cx="4645080" cy="1663560"/>
              <a:chOff x="4295880" y="4637160"/>
              <a:chExt cx="4645080" cy="1663560"/>
            </a:xfrm>
          </p:grpSpPr>
          <p:sp>
            <p:nvSpPr>
              <p:cNvPr id="243" name="AutoShape 76"/>
              <p:cNvSpPr/>
              <p:nvPr/>
            </p:nvSpPr>
            <p:spPr>
              <a:xfrm>
                <a:off x="4295880" y="5870160"/>
                <a:ext cx="4645080" cy="43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9d181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AutoShape 77"/>
              <p:cNvSpPr/>
              <p:nvPr/>
            </p:nvSpPr>
            <p:spPr>
              <a:xfrm>
                <a:off x="4295880" y="4637160"/>
                <a:ext cx="4645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d18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245" name="Rectangle 56"/>
          <p:cNvSpPr/>
          <p:nvPr/>
        </p:nvSpPr>
        <p:spPr>
          <a:xfrm>
            <a:off x="4572000" y="472428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пространственны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я, крупная и мелкая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торик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нижается утомляем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79" descr="home"/>
          <p:cNvPicPr/>
          <p:nvPr/>
        </p:nvPicPr>
        <p:blipFill>
          <a:blip r:embed="rId1"/>
          <a:stretch/>
        </p:blipFill>
        <p:spPr>
          <a:xfrm>
            <a:off x="3059280" y="2276640"/>
            <a:ext cx="1385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90c226">
              <a:alpha val="53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ТРЕБОВАНИЯ К ПРОВЕДЕНИЮ УПРАЖНЕНИЙ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0" y="3573360"/>
            <a:ext cx="2449440" cy="107964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54a021"/>
              </a:gs>
              <a:gs pos="100000">
                <a:srgbClr val="427e1a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Freeform 20"/>
          <p:cNvSpPr/>
          <p:nvPr/>
        </p:nvSpPr>
        <p:spPr>
          <a:xfrm>
            <a:off x="1332000" y="4724280"/>
            <a:ext cx="2160360" cy="144000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2c3c43"/>
              </a:gs>
              <a:gs pos="100000">
                <a:srgbClr val="232f35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Freeform 21"/>
          <p:cNvSpPr/>
          <p:nvPr/>
        </p:nvSpPr>
        <p:spPr>
          <a:xfrm>
            <a:off x="3348000" y="1341360"/>
            <a:ext cx="4608720" cy="48888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99ca3c"/>
              </a:gs>
              <a:gs pos="100000">
                <a:srgbClr val="799f2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Freeform 22"/>
          <p:cNvSpPr/>
          <p:nvPr/>
        </p:nvSpPr>
        <p:spPr>
          <a:xfrm>
            <a:off x="6516720" y="2637000"/>
            <a:ext cx="2233440" cy="180000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90c226"/>
              </a:gs>
              <a:gs pos="100000">
                <a:srgbClr val="72991e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0" y="3645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водятся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жедневно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з пропуск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1478880" y="5084640"/>
            <a:ext cx="19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оя или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дя за стол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3782880" y="14130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оброжелательная обстанов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6784560" y="2781360"/>
            <a:ext cx="18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дног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-4 недел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Freeform 54"/>
          <p:cNvSpPr/>
          <p:nvPr/>
        </p:nvSpPr>
        <p:spPr>
          <a:xfrm>
            <a:off x="900000" y="2133720"/>
            <a:ext cx="2376720" cy="122400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b9d181"/>
              </a:gs>
              <a:gs pos="100000">
                <a:srgbClr val="92a56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1260360" y="220500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водятс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ольк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тр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Freeform 56"/>
          <p:cNvSpPr/>
          <p:nvPr/>
        </p:nvSpPr>
        <p:spPr>
          <a:xfrm>
            <a:off x="4500720" y="5661000"/>
            <a:ext cx="4319280" cy="48888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c9c9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57"/>
          <p:cNvSpPr/>
          <p:nvPr/>
        </p:nvSpPr>
        <p:spPr>
          <a:xfrm>
            <a:off x="4935600" y="57340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c3c43"/>
                </a:solidFill>
                <a:latin typeface="Arial"/>
                <a:ea typeface="Arial"/>
              </a:rPr>
              <a:t>Точное выполнение движен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58" descr="palets"/>
          <p:cNvPicPr/>
          <p:nvPr/>
        </p:nvPicPr>
        <p:blipFill>
          <a:blip r:embed="rId1"/>
          <a:stretch/>
        </p:blipFill>
        <p:spPr>
          <a:xfrm>
            <a:off x="3995640" y="2565360"/>
            <a:ext cx="2210040" cy="2317680"/>
          </a:xfrm>
          <a:prstGeom prst="rect">
            <a:avLst/>
          </a:prstGeom>
          <a:ln w="76320">
            <a:solidFill>
              <a:srgbClr val="2c3c43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09520" y="907560"/>
            <a:ext cx="58262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Дыхательные упражнения</a:t>
            </a: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30400" y="1989000"/>
            <a:ext cx="5827680" cy="31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лучшают ритмику организма, развивают самоконтроль                      и произволь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Телесные движения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вают межполушарное взаимодействие, снимаются непроизвольные, непреднамеренные движения и мышечные зажим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main_big"/>
          <p:cNvPicPr/>
          <p:nvPr/>
        </p:nvPicPr>
        <p:blipFill>
          <a:blip r:embed="rId1"/>
          <a:stretch/>
        </p:blipFill>
        <p:spPr>
          <a:xfrm>
            <a:off x="2987640" y="3141720"/>
            <a:ext cx="3673440" cy="25923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Times New Roman"/>
              </a:rPr>
              <a:t>На первых порах дыхательные упражнения кажутся детям одними из самых сложных. </a:t>
            </a:r>
            <a:br>
              <a:rPr sz="2800"/>
            </a:br>
            <a:r>
              <a:rPr b="1" lang="ru-RU" sz="2800" spc="-1" strike="noStrike">
                <a:solidFill>
                  <a:srgbClr val="90c226"/>
                </a:solidFill>
                <a:latin typeface="Times New Roman"/>
              </a:rPr>
              <a:t>И тем важнее помочь детям, превратив скучные упражнения в веселую игру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7" name="Picture 4" descr="1281544942_924f8403ecf5t"/>
          <p:cNvPicPr/>
          <p:nvPr/>
        </p:nvPicPr>
        <p:blipFill>
          <a:blip r:embed="rId2"/>
          <a:stretch/>
        </p:blipFill>
        <p:spPr>
          <a:xfrm>
            <a:off x="0" y="2708280"/>
            <a:ext cx="3311640" cy="439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hild in field web small"/>
          <p:cNvPicPr/>
          <p:nvPr/>
        </p:nvPicPr>
        <p:blipFill>
          <a:blip r:embed="rId3"/>
          <a:stretch/>
        </p:blipFill>
        <p:spPr>
          <a:xfrm>
            <a:off x="5267160" y="3141720"/>
            <a:ext cx="2787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8" descr="88504293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19"/>
          <p:cNvGrpSpPr/>
          <p:nvPr/>
        </p:nvGrpSpPr>
        <p:grpSpPr>
          <a:xfrm>
            <a:off x="7020000" y="5229360"/>
            <a:ext cx="1451880" cy="1521720"/>
            <a:chOff x="7020000" y="5229360"/>
            <a:chExt cx="1451880" cy="1521720"/>
          </a:xfrm>
        </p:grpSpPr>
        <p:pic>
          <p:nvPicPr>
            <p:cNvPr id="271" name="Picture 20" descr="circuler_1"/>
            <p:cNvPicPr/>
            <p:nvPr/>
          </p:nvPicPr>
          <p:blipFill>
            <a:blip r:embed="rId2"/>
            <a:stretch/>
          </p:blipFill>
          <p:spPr>
            <a:xfrm>
              <a:off x="7031520" y="5284800"/>
              <a:ext cx="1380600" cy="13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Oval 21"/>
            <p:cNvSpPr/>
            <p:nvPr/>
          </p:nvSpPr>
          <p:spPr>
            <a:xfrm>
              <a:off x="7031520" y="5284800"/>
              <a:ext cx="1389960" cy="1397880"/>
            </a:xfrm>
            <a:prstGeom prst="ellipse">
              <a:avLst/>
            </a:prstGeom>
            <a:solidFill>
              <a:srgbClr val="99ca3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273" name="Picture 22" descr="light_shadow1"/>
            <p:cNvPicPr/>
            <p:nvPr/>
          </p:nvPicPr>
          <p:blipFill>
            <a:blip r:embed="rId3"/>
            <a:srcRect l="0" t="14286" r="0" b="0"/>
            <a:stretch/>
          </p:blipFill>
          <p:spPr>
            <a:xfrm>
              <a:off x="7020000" y="5229360"/>
              <a:ext cx="1017360" cy="87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23"/>
            <p:cNvGrpSpPr/>
            <p:nvPr/>
          </p:nvGrpSpPr>
          <p:grpSpPr>
            <a:xfrm>
              <a:off x="7482600" y="5848200"/>
              <a:ext cx="989280" cy="902880"/>
              <a:chOff x="7482600" y="5848200"/>
              <a:chExt cx="989280" cy="902880"/>
            </a:xfrm>
          </p:grpSpPr>
          <p:grpSp>
            <p:nvGrpSpPr>
              <p:cNvPr id="275" name="Group 24"/>
              <p:cNvGrpSpPr/>
              <p:nvPr/>
            </p:nvGrpSpPr>
            <p:grpSpPr>
              <a:xfrm>
                <a:off x="7711200" y="5848200"/>
                <a:ext cx="760680" cy="893880"/>
                <a:chOff x="7711200" y="5848200"/>
                <a:chExt cx="760680" cy="893880"/>
              </a:xfrm>
            </p:grpSpPr>
            <p:sp>
              <p:nvSpPr>
                <p:cNvPr id="276" name="AutoShape 25"/>
                <p:cNvSpPr/>
                <p:nvPr/>
              </p:nvSpPr>
              <p:spPr>
                <a:xfrm flipH="1" flipV="1" rot="1528800">
                  <a:off x="8135280" y="5850360"/>
                  <a:ext cx="18072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77" name="AutoShape 26"/>
                <p:cNvSpPr/>
                <p:nvPr/>
              </p:nvSpPr>
              <p:spPr>
                <a:xfrm flipH="1" flipV="1" rot="2344200">
                  <a:off x="8077320" y="5960160"/>
                  <a:ext cx="18072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78" name="AutoShape 27"/>
                <p:cNvSpPr/>
                <p:nvPr/>
              </p:nvSpPr>
              <p:spPr>
                <a:xfrm flipH="1" flipV="1" rot="2640000">
                  <a:off x="8030160" y="6013440"/>
                  <a:ext cx="18072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79" name="AutoShape 28"/>
                <p:cNvSpPr/>
                <p:nvPr/>
              </p:nvSpPr>
              <p:spPr>
                <a:xfrm flipH="1" flipV="1" rot="3172200">
                  <a:off x="7970760" y="6074280"/>
                  <a:ext cx="18072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80" name="Group 29"/>
              <p:cNvGrpSpPr/>
              <p:nvPr/>
            </p:nvGrpSpPr>
            <p:grpSpPr>
              <a:xfrm>
                <a:off x="7482600" y="6094080"/>
                <a:ext cx="956160" cy="657000"/>
                <a:chOff x="7482600" y="6094080"/>
                <a:chExt cx="956160" cy="657000"/>
              </a:xfrm>
            </p:grpSpPr>
            <p:sp>
              <p:nvSpPr>
                <p:cNvPr id="281" name="AutoShape 30"/>
                <p:cNvSpPr/>
                <p:nvPr/>
              </p:nvSpPr>
              <p:spPr>
                <a:xfrm flipH="1" flipV="1" rot="2881800">
                  <a:off x="8011080" y="6038640"/>
                  <a:ext cx="181800" cy="74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82" name="AutoShape 31"/>
                <p:cNvSpPr/>
                <p:nvPr/>
              </p:nvSpPr>
              <p:spPr>
                <a:xfrm flipH="1" flipV="1" rot="3697200">
                  <a:off x="7916760" y="6117120"/>
                  <a:ext cx="18180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83" name="AutoShape 32"/>
                <p:cNvSpPr/>
                <p:nvPr/>
              </p:nvSpPr>
              <p:spPr>
                <a:xfrm flipH="1" flipV="1" rot="3993000">
                  <a:off x="7851600" y="6148800"/>
                  <a:ext cx="18180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84" name="AutoShape 33"/>
                <p:cNvSpPr/>
                <p:nvPr/>
              </p:nvSpPr>
              <p:spPr>
                <a:xfrm flipH="1" flipV="1" rot="4525200">
                  <a:off x="7773480" y="6182280"/>
                  <a:ext cx="181800" cy="74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</p:grpSp>
      <p:grpSp>
        <p:nvGrpSpPr>
          <p:cNvPr id="285" name="Group 34"/>
          <p:cNvGrpSpPr/>
          <p:nvPr/>
        </p:nvGrpSpPr>
        <p:grpSpPr>
          <a:xfrm>
            <a:off x="7236000" y="2421000"/>
            <a:ext cx="1451880" cy="1521720"/>
            <a:chOff x="7236000" y="2421000"/>
            <a:chExt cx="1451880" cy="1521720"/>
          </a:xfrm>
        </p:grpSpPr>
        <p:pic>
          <p:nvPicPr>
            <p:cNvPr id="286" name="Picture 35" descr="circuler_1"/>
            <p:cNvPicPr/>
            <p:nvPr/>
          </p:nvPicPr>
          <p:blipFill>
            <a:blip r:embed="rId4"/>
            <a:stretch/>
          </p:blipFill>
          <p:spPr>
            <a:xfrm>
              <a:off x="7247520" y="2476440"/>
              <a:ext cx="1380240" cy="13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36"/>
            <p:cNvSpPr/>
            <p:nvPr/>
          </p:nvSpPr>
          <p:spPr>
            <a:xfrm>
              <a:off x="7247520" y="2476440"/>
              <a:ext cx="1389600" cy="1397880"/>
            </a:xfrm>
            <a:prstGeom prst="ellipse">
              <a:avLst/>
            </a:prstGeom>
            <a:solidFill>
              <a:srgbClr val="b9d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288" name="Picture 37" descr="light_shadow1"/>
            <p:cNvPicPr/>
            <p:nvPr/>
          </p:nvPicPr>
          <p:blipFill>
            <a:blip r:embed="rId5"/>
            <a:srcRect l="0" t="14286" r="0" b="0"/>
            <a:stretch/>
          </p:blipFill>
          <p:spPr>
            <a:xfrm>
              <a:off x="7236000" y="2421000"/>
              <a:ext cx="1017000" cy="87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9" name="Group 38"/>
            <p:cNvGrpSpPr/>
            <p:nvPr/>
          </p:nvGrpSpPr>
          <p:grpSpPr>
            <a:xfrm>
              <a:off x="7698600" y="3039840"/>
              <a:ext cx="989280" cy="902880"/>
              <a:chOff x="7698600" y="3039840"/>
              <a:chExt cx="989280" cy="902880"/>
            </a:xfrm>
          </p:grpSpPr>
          <p:grpSp>
            <p:nvGrpSpPr>
              <p:cNvPr id="290" name="Group 39"/>
              <p:cNvGrpSpPr/>
              <p:nvPr/>
            </p:nvGrpSpPr>
            <p:grpSpPr>
              <a:xfrm>
                <a:off x="7927200" y="3039840"/>
                <a:ext cx="760680" cy="893880"/>
                <a:chOff x="7927200" y="3039840"/>
                <a:chExt cx="760680" cy="893880"/>
              </a:xfrm>
            </p:grpSpPr>
            <p:sp>
              <p:nvSpPr>
                <p:cNvPr id="291" name="AutoShape 40"/>
                <p:cNvSpPr/>
                <p:nvPr/>
              </p:nvSpPr>
              <p:spPr>
                <a:xfrm flipH="1" flipV="1" rot="1528800">
                  <a:off x="8351280" y="3042000"/>
                  <a:ext cx="18072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2" name="AutoShape 41"/>
                <p:cNvSpPr/>
                <p:nvPr/>
              </p:nvSpPr>
              <p:spPr>
                <a:xfrm flipH="1" flipV="1" rot="2344200">
                  <a:off x="8293320" y="3151800"/>
                  <a:ext cx="18072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3" name="AutoShape 42"/>
                <p:cNvSpPr/>
                <p:nvPr/>
              </p:nvSpPr>
              <p:spPr>
                <a:xfrm flipH="1" flipV="1" rot="2640000">
                  <a:off x="8246160" y="3205080"/>
                  <a:ext cx="18072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4" name="AutoShape 43"/>
                <p:cNvSpPr/>
                <p:nvPr/>
              </p:nvSpPr>
              <p:spPr>
                <a:xfrm flipH="1" flipV="1" rot="3172200">
                  <a:off x="8186760" y="3265920"/>
                  <a:ext cx="18072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95" name="Group 44"/>
              <p:cNvGrpSpPr/>
              <p:nvPr/>
            </p:nvGrpSpPr>
            <p:grpSpPr>
              <a:xfrm>
                <a:off x="7698600" y="3285720"/>
                <a:ext cx="956160" cy="657000"/>
                <a:chOff x="7698600" y="3285720"/>
                <a:chExt cx="956160" cy="657000"/>
              </a:xfrm>
            </p:grpSpPr>
            <p:sp>
              <p:nvSpPr>
                <p:cNvPr id="296" name="AutoShape 45"/>
                <p:cNvSpPr/>
                <p:nvPr/>
              </p:nvSpPr>
              <p:spPr>
                <a:xfrm flipH="1" flipV="1" rot="2881800">
                  <a:off x="8227080" y="3230280"/>
                  <a:ext cx="181800" cy="74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7" name="AutoShape 46"/>
                <p:cNvSpPr/>
                <p:nvPr/>
              </p:nvSpPr>
              <p:spPr>
                <a:xfrm flipH="1" flipV="1" rot="3697200">
                  <a:off x="8132760" y="3308760"/>
                  <a:ext cx="18180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8" name="AutoShape 47"/>
                <p:cNvSpPr/>
                <p:nvPr/>
              </p:nvSpPr>
              <p:spPr>
                <a:xfrm flipH="1" flipV="1" rot="3993000">
                  <a:off x="8067600" y="3340440"/>
                  <a:ext cx="181800" cy="74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9" name="AutoShape 48"/>
                <p:cNvSpPr/>
                <p:nvPr/>
              </p:nvSpPr>
              <p:spPr>
                <a:xfrm flipH="1" flipV="1" rot="4525200">
                  <a:off x="7989480" y="3373920"/>
                  <a:ext cx="181800" cy="74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</p:grpSp>
      <p:grpSp>
        <p:nvGrpSpPr>
          <p:cNvPr id="300" name="Group 49"/>
          <p:cNvGrpSpPr/>
          <p:nvPr/>
        </p:nvGrpSpPr>
        <p:grpSpPr>
          <a:xfrm>
            <a:off x="0" y="2500200"/>
            <a:ext cx="1598040" cy="1653480"/>
            <a:chOff x="0" y="2500200"/>
            <a:chExt cx="1598040" cy="1653480"/>
          </a:xfrm>
        </p:grpSpPr>
        <p:pic>
          <p:nvPicPr>
            <p:cNvPr id="301" name="Picture 50" descr="circuler_1"/>
            <p:cNvPicPr/>
            <p:nvPr/>
          </p:nvPicPr>
          <p:blipFill>
            <a:blip r:embed="rId6"/>
            <a:stretch/>
          </p:blipFill>
          <p:spPr>
            <a:xfrm>
              <a:off x="12600" y="2560680"/>
              <a:ext cx="152424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51"/>
            <p:cNvSpPr/>
            <p:nvPr/>
          </p:nvSpPr>
          <p:spPr>
            <a:xfrm>
              <a:off x="12600" y="2560680"/>
              <a:ext cx="1534680" cy="1518120"/>
            </a:xfrm>
            <a:prstGeom prst="ellipse">
              <a:avLst/>
            </a:prstGeom>
            <a:solidFill>
              <a:srgbClr val="90c2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303" name="Picture 52" descr="light_shadow1"/>
            <p:cNvPicPr/>
            <p:nvPr/>
          </p:nvPicPr>
          <p:blipFill>
            <a:blip r:embed="rId7"/>
            <a:srcRect l="0" t="14295" r="0" b="0"/>
            <a:stretch/>
          </p:blipFill>
          <p:spPr>
            <a:xfrm>
              <a:off x="0" y="2500200"/>
              <a:ext cx="1123200" cy="94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Group 53"/>
            <p:cNvGrpSpPr/>
            <p:nvPr/>
          </p:nvGrpSpPr>
          <p:grpSpPr>
            <a:xfrm>
              <a:off x="520920" y="3171960"/>
              <a:ext cx="1077120" cy="981720"/>
              <a:chOff x="520920" y="3171960"/>
              <a:chExt cx="1077120" cy="981720"/>
            </a:xfrm>
          </p:grpSpPr>
          <p:grpSp>
            <p:nvGrpSpPr>
              <p:cNvPr id="305" name="Group 54"/>
              <p:cNvGrpSpPr/>
              <p:nvPr/>
            </p:nvGrpSpPr>
            <p:grpSpPr>
              <a:xfrm>
                <a:off x="768960" y="3171960"/>
                <a:ext cx="829080" cy="973080"/>
                <a:chOff x="768960" y="3171960"/>
                <a:chExt cx="829080" cy="973080"/>
              </a:xfrm>
            </p:grpSpPr>
            <p:sp>
              <p:nvSpPr>
                <p:cNvPr id="306" name="AutoShape 55"/>
                <p:cNvSpPr/>
                <p:nvPr/>
              </p:nvSpPr>
              <p:spPr>
                <a:xfrm flipH="1" flipV="1" rot="1528800">
                  <a:off x="1229400" y="3175560"/>
                  <a:ext cx="199440" cy="806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7" name="AutoShape 56"/>
                <p:cNvSpPr/>
                <p:nvPr/>
              </p:nvSpPr>
              <p:spPr>
                <a:xfrm flipH="1" flipV="1" rot="2344200">
                  <a:off x="1166400" y="3295080"/>
                  <a:ext cx="199440" cy="80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8" name="AutoShape 57"/>
                <p:cNvSpPr/>
                <p:nvPr/>
              </p:nvSpPr>
              <p:spPr>
                <a:xfrm flipH="1" flipV="1" rot="2640000">
                  <a:off x="1114560" y="3351960"/>
                  <a:ext cx="199440" cy="80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9" name="AutoShape 58"/>
                <p:cNvSpPr/>
                <p:nvPr/>
              </p:nvSpPr>
              <p:spPr>
                <a:xfrm flipH="1" flipV="1" rot="3172200">
                  <a:off x="1050480" y="3419280"/>
                  <a:ext cx="199440" cy="80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10" name="Group 59"/>
              <p:cNvGrpSpPr/>
              <p:nvPr/>
            </p:nvGrpSpPr>
            <p:grpSpPr>
              <a:xfrm>
                <a:off x="520920" y="3439080"/>
                <a:ext cx="1040760" cy="714600"/>
                <a:chOff x="520920" y="3439080"/>
                <a:chExt cx="1040760" cy="714600"/>
              </a:xfrm>
            </p:grpSpPr>
            <p:sp>
              <p:nvSpPr>
                <p:cNvPr id="311" name="AutoShape 60"/>
                <p:cNvSpPr/>
                <p:nvPr/>
              </p:nvSpPr>
              <p:spPr>
                <a:xfrm flipH="1" flipV="1" rot="2881800">
                  <a:off x="1094400" y="3379320"/>
                  <a:ext cx="200520" cy="80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2" name="AutoShape 61"/>
                <p:cNvSpPr/>
                <p:nvPr/>
              </p:nvSpPr>
              <p:spPr>
                <a:xfrm flipH="1" flipV="1" rot="3697200">
                  <a:off x="990720" y="3465000"/>
                  <a:ext cx="200520" cy="80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3" name="AutoShape 62"/>
                <p:cNvSpPr/>
                <p:nvPr/>
              </p:nvSpPr>
              <p:spPr>
                <a:xfrm flipH="1" flipV="1" rot="3993000">
                  <a:off x="921240" y="3497400"/>
                  <a:ext cx="200520" cy="80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4" name="AutoShape 63"/>
                <p:cNvSpPr/>
                <p:nvPr/>
              </p:nvSpPr>
              <p:spPr>
                <a:xfrm flipH="1" flipV="1" rot="4525200">
                  <a:off x="835200" y="3535200"/>
                  <a:ext cx="200520" cy="80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3920" y="260280"/>
            <a:ext cx="741852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Segoe Print"/>
              </a:rPr>
              <a:t>Спасибо за внимание! Успехов Вам и вашим детям!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4:52:24Z</dcterms:created>
  <dc:creator>Люба</dc:creator>
  <dc:description/>
  <dc:language>en-US</dc:language>
  <cp:lastModifiedBy>Zverdvd.org</cp:lastModifiedBy>
  <dcterms:modified xsi:type="dcterms:W3CDTF">2020-01-28T12:27:17Z</dcterms:modified>
  <cp:revision>97</cp:revision>
  <dc:subject/>
  <dc:title>PowerTemplate</dc:title>
</cp:coreProperties>
</file>