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07F-CF85-40E5-AC1E-BE5AF5C6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773-5B3E-4633-8C71-BB188F29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AAC-994F-416E-BCF1-BC48B91C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8D0-CDFB-4E6B-8A35-55C0D8B6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708A-0E93-4576-B410-985C3C72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C96A-2DAC-4463-8416-D51CA08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8A14-7009-435C-88F9-AB962B1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3901-0512-40A3-897E-340C292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B4E4-6509-42CC-91EE-4A03D72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607A-9015-40C4-B491-894BAD9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6F73-4C37-42F4-B614-EC16656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5C8-6E1C-430C-95BE-B86BAD03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6044-118B-4C87-8E31-F3F1E54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342-AE7D-47B4-BA88-90B4B26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1B4-554C-4BAB-8D04-5CC17B8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A4E-F42D-4D23-BCD4-F52DABB9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B734-57EB-4E55-8F2F-5558EBC4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1A5-1DE0-4A95-A50C-CDE1801F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966-144C-48F0-965C-D31FA6F0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94B-BFAF-4E51-88DD-A0E8494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CE1-406A-45BA-B2E2-9710F15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62B-B622-4D74-9E53-422CD8E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3C9-234B-4997-8769-B2609C7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A97-0E92-4FF1-BAD2-5BF4EBC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 u="sng">
                    <a:solidFill>
                      <a:srgbClr val="006699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 u="sng">
                    <a:solidFill>
                      <a:srgbClr val="006699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800" spc="-1" strike="noStrike" u="sng">
                    <a:solidFill>
                      <a:srgbClr val="006699"/>
                    </a:solidFill>
                    <a:uFillTx/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66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66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D77B-27B5-48EA-ACCE-84905FC4C6B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 u="sng">
                  <a:solidFill>
                    <a:srgbClr val="006699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 u="sng">
                <a:solidFill>
                  <a:srgbClr val="0066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6699"/>
              </a:solidFill>
              <a:uFillTx/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6699"/>
              </a:solidFill>
              <a:uFillTx/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86A-90E5-4191-975B-BCF70CE32E6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596880"/>
            <a:ext cx="76770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 u="sng">
                <a:solidFill>
                  <a:srgbClr val="006666"/>
                </a:solidFill>
                <a:uFillTx/>
                <a:latin typeface="Monotype Corsiva"/>
              </a:rPr>
              <a:t>Использование </a:t>
            </a:r>
            <a:br>
              <a:rPr sz="5200"/>
            </a:br>
            <a:r>
              <a:rPr b="1" lang="ru-RU" sz="5200" spc="-1" strike="noStrike" u="sng">
                <a:solidFill>
                  <a:srgbClr val="006666"/>
                </a:solidFill>
                <a:uFillTx/>
                <a:latin typeface="Monotype Corsiva"/>
              </a:rPr>
              <a:t>игровой терапии в психокоррекционном процесс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Monotype Corsiva"/>
              </a:rPr>
              <a:t>Выполнила: воспита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Monotype Corsiva"/>
              </a:rPr>
              <a:t>Мороз Н.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тот факт должен использоваться в работе с детьми и там, где развитие речи происходит своевременно и особенно там, где имеется отставание, задержка развития моторной стороны реч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комендуется стимулировать речевое развитие путём тренировки пальцев рук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едлагаю игры на развитие моторики пальцев рук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astellar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4" descr="rose3[1]"/>
          <p:cNvPicPr/>
          <p:nvPr/>
        </p:nvPicPr>
        <p:blipFill>
          <a:blip r:embed="rId1"/>
          <a:stretch/>
        </p:blipFill>
        <p:spPr>
          <a:xfrm>
            <a:off x="5292720" y="3284640"/>
            <a:ext cx="2376360" cy="295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Monotype Corsiva"/>
              </a:rPr>
              <a:t>Значение игры.</a:t>
            </a:r>
            <a:r>
              <a:rPr b="1" lang="ru-RU" sz="3600" spc="-1" strike="noStrike">
                <a:solidFill>
                  <a:srgbClr val="006699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Игра имеет исключительное значение для психического развития ребёнка и является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ведущей деятельностью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Игра является мостиком между конкретным опытом и абстрактным мышлением. В игре ребёнок на сенсорном уровне демонстрирует с помощью конкретных предметов, которые являются символами чего-то другого, то что он когда-либо прямым или косвенным образом испытыва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Игра представляет собой попытку детей организовать свой опыт и с игрой связать те редкие моменты жизни детей, когда они чувствуют себя в безопасности и могут контролировать собственную жизн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Именно поэтому всё большее значение приобретает игровая терапия.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гровая терапия –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пособ коррекции эмоциональных и поведенческих нарушений у детей, в основу которого положена игр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Чтобы понять детей, найти подход к ним, мы должны взглянуть на ребёнка с эмоциональной точки зрения. Не следует рассматривать детей, как маленьких взрослых. Их мир реально существует, и они рассказывают о нём в игр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 своей работе я остановилась на играх по развитию памяти, внимания, мышл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азвитая памяти – это впоследствии собранность и внутренняя организованность ребё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нимание – это его сосредоточенность, устойчивость, сообразительность и наблюдательность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едлагаю вашему вниманию перечень игр на развитие этих процессов. Также предлагаю некоторые игры на развитие мышл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ледующим о чём надо сказать – это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развитие памя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Хорошая память у детей  - это важнейшее условие их успеха в школ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едлагаем тетрадь «Развиваем память». В этой тетради собраны занимательные упражнения, которые помогут развивать зрительную и слуховую память. Тетрадь предназначена для совместной работы взрослого и ребёнка. Многие упражнения в ней состоят из 2-х частей. Первая часть содержит материал для запоминания, а вторая предназначена для провер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Задания в тетради расположены по степени возрастания сложности поэтому с ребёнком следует заниматься последовательно, не пропуская заданий. Если ребёнок не справился с упражнением, помогите ему, объясните задание ещё раз. К следующему заданию переходите только тогда, когда ребёнок справился с предыдущим. Если регулярно заниматься по этой тетради 20-25 минут, то память ребёнка значительно улучши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едлагаем материал из рабочей тетрад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Игры на развитие слухового восприят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ти игры очень важны: большое количество информации мы воспринимаем на слух. Это и телефонные разговоры с друзьями и знакомыми и повседневное общение с близкими людьми, одноклассниками. Самое главное – школьные уроки, на которых вашему ребёнку нужно будет внимательно следить за объяснением учителя. Между тем большая часть информации, содержащейся в игре вокруг нас рассчитана на визуальное (зрительное) восприятие: это мультфильмы, компьютерные игры и даже песн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оит ли напоминать о том, что удивительный мир музыки способен открыться перед ребёнком лишь в том случае, если у него будет развито слуховое восприят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едлагаю перечень игр на развитие слухового восприят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акже хочу остановиться на проблеме – влияние пальцев руки на развитие реч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 детей при ряде речевых нарушений отмечается выраженная в разной степени общая моторная неустойчивость, а также отклонения в развитии движений пальцев рук, так как движения пальцев рук тесно связаны с речевой функцие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ак на основе произведённых опытов и обследований большого количества детей была выявлена следующая закономерность. Если движения пальцев рук соответствуют возрасту, то и речевое развитие находится в пределах нормы. Если же развитие движений пальцев отстаёт, то задерживается и речевое развит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.М. Кольцова пришла к заключению, что формирование речевых областей совершается под влиянием кинестетических импульсов от рук, а потом от пальцев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9:09:19Z</dcterms:created>
  <dc:creator>катенька</dc:creator>
  <dc:description/>
  <dc:language>en-US</dc:language>
  <cp:lastModifiedBy>PC</cp:lastModifiedBy>
  <dcterms:modified xsi:type="dcterms:W3CDTF">2021-10-26T16:29:58Z</dcterms:modified>
  <cp:revision>3</cp:revision>
  <dc:subject/>
  <dc:title>Использование  игровой терапии в психокоррекционном процессе</dc:title>
</cp:coreProperties>
</file>