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1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D771-F177-4DA4-8196-5AC0F2974F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006F-3290-43AE-B5F6-1C5BF60E6C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77BE-2F86-482E-9276-E1ACC84E9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E15-953E-4BC7-A147-1C7A0961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5A0-5B23-47DA-AFF3-1B7D32A2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F83-70A3-4C62-878E-831BD119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CF1-F13C-473C-BCA6-2BE1E52C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D77F-D94E-4AEB-A8A3-BDDF69E7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0B80-180B-413B-8C5A-8F84834F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D84F-8934-40BD-B501-D709D637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BBF1-1599-488C-857C-82046418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3593-D992-41EF-B5D2-16BCC3BF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15E-C1BE-438D-AED7-94E4C29E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9EB1-931C-4A60-B11D-0AB591E4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0CB-AA62-447A-A9A5-8280F23C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D823-BA7C-4744-95C0-50DC7CC3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BE8E-0B96-4C3A-9129-5AB6E78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ED7D-9D25-4B39-B6BF-52E98770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ABC7-289A-4826-B5E4-2AB21378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F71C-6E33-418B-93B4-D2DB2CF1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A1032-23A3-468C-AE2E-AF70EFB9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4B007-A8BD-42E2-8CE3-B25D0958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18108-D9FA-4C1A-A4C5-C557FD13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BBF61-CB09-47CB-8C1C-B55F84CE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B36BC-DD5F-4722-84FD-253CB68C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802-DB18-421E-9FC0-7F7304C0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4A2E7-8D99-409F-8603-E9939D54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975A6-D2C5-44B9-9CE4-17A8BAE7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2B270-9183-46BB-8659-90F7A7E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1805C-E2A4-48B7-A253-9C554296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B1637-F5EC-4E7F-B4C2-77EA4632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1F365-2655-428B-BE59-2E32057F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E575D-0B47-44C4-A5C5-8A513D33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3390C-98C7-458D-B7CE-27E2DE8D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E4699-7C97-47F8-900D-06E06C9F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7A7B-2BC3-43B1-9331-B5B7E8EA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557-CC8D-42C3-9F8F-15BF1B99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53AE-0D8B-4736-86D7-20BC0EAE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39EBE-FC0E-4527-B5D2-F3E794C0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70CF2-14B3-434E-9763-7A3C05BB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AEC4-5DC0-48F8-91E3-9269AACC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1D2B7-F8E3-4306-A1AC-376D46E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25EA-955A-4EEC-B324-70927F9C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AD4F9-835C-4E48-9400-B3A518A6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6B0D-7038-4152-A0EE-02B5435A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1E1D-FB98-45D4-939C-2466665C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A54EC-AEE3-40D0-BC59-ECF18876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80D-F2FB-41CA-A84C-DD5197B0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5953C-3714-4865-9566-ADD55F56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70EF4-BE2C-4EBF-8CB8-E39DAE25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85A65-43F6-4C1A-A354-3CAA40FE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D2D7E-3C1A-495D-B99A-44326352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88613-34E7-4858-9073-99AA5938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D6A38-B728-4C03-8F87-14CA6D6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58BE9-B8E6-4881-B88F-36E949DA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78D59-4080-474A-8189-A5A62A61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14F10-0133-4DFB-B483-870B8927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B0B3A-C42E-465F-BC4E-A7F035AB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685-0749-4C79-B98A-5E1172AC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29025-E913-4D6B-AB52-4282658B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CD79B-A3CA-4DAC-93A5-91F73DC2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8A36D-29D3-4C80-BB87-7B2324D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284E5-6217-4EF1-94E1-C30EF6D6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FA59F-04BB-4A0C-B45A-CE39DE29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E0A1B-60AF-4FB6-8682-8B6A91B1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47521-C2EE-4FDB-82E3-7FBFCBA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033FD-4A37-4187-A748-1DDE45E5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16188-0C18-4ECD-B12F-8F5C3B01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2A689-0BEA-4730-A06B-4A2B965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F16-1BEF-4AF8-9360-5570E56D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F6F0F-C542-43A3-8C46-82D4420C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F3D28-0F72-46C3-8BEB-6F66BAF0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344B3-B310-4ED0-B83B-469F4FA4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82823-9710-4C7B-ABBD-1FB275F5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15E80-49E0-4F76-9E1D-8C64BE12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845D2-7DB5-4254-990F-281A803E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568BC-7D49-4D5B-A513-9AE896F5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48682-0150-473F-8712-B747F8C4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3D83A-8FD5-4A36-9BD4-C942A1D9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631A2-687E-4524-8569-CB299F4C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C4B-1DA7-4A91-850A-C20C353F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1CF8F-A871-41F7-B5E9-C7D83DF4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2A20D-9545-4F09-86ED-118D3B47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E617E-2D68-47E7-B68A-A63B71C4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A8A87-9600-4CF6-B636-9E3F230E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3CE66-06D1-4483-B347-54EE6C68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35A-5294-4CEE-903B-593E7536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A78F-E950-4E2E-AF64-ECEA28A18A16}" type="datetime"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B678-EEF5-47B0-B06A-4C12E12B79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0BE4-54E9-444F-8828-A9716A6EF6F8}" type="datetime"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1F69-9905-4985-844C-CE79F5DA84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6989-C76D-4E38-BC52-304CC744B608}" type="datetime"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B11A-E5CA-48E8-B92E-74653C5FBF9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FCAE-87A2-4EA2-9B0B-D79EE819B878}" type="datetime"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759B-AF16-4373-A96E-C5036A43BD7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35DB-E21C-4F76-8134-213AB827A99F}" type="datetime"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D12A-B17D-40EB-A628-A0E57DE38A3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045B-C190-4477-A633-3CBCC8842176}" type="datetime"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F606-0A1A-4A7C-AA6A-A7537D71AC2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8FB8-3271-45DF-9384-EFABE5683BB6}" type="datetime"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0ED0-6048-4102-9A56-83D3025C05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71520" y="356760"/>
            <a:ext cx="571500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4617b"/>
                </a:solidFill>
                <a:latin typeface="Georgia"/>
              </a:rPr>
              <a:t>ПОДГОТОВКА К ЕГЭ: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43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64276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Georgia"/>
              </a:rPr>
              <a:t>решение задач на фотоэффект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3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7467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ВИСИМОСТЬ ЗАДЕРЖИВАЮЩЕГО НАПРЯЖЕНИЯ ОТ ЧАСТОТЫ ПАДАЮЩЕГО СВЕТА. 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01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0EEC-9E09-4A86-9E9B-ACA9A957472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одержимое 2"/>
          <p:cNvSpPr/>
          <p:nvPr/>
        </p:nvSpPr>
        <p:spPr>
          <a:xfrm>
            <a:off x="642960" y="357192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сеч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расная граница фотоэфф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наклона одинаков для  всех графиков, пр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6"/>
          <p:cNvGraphicFramePr/>
          <p:nvPr/>
        </p:nvGraphicFramePr>
        <p:xfrm>
          <a:off x="1846440" y="1214280"/>
          <a:ext cx="3987720" cy="32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6440" y="1214280"/>
                    <a:ext cx="398772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ВИСИМОСТЬ ЗАДЕРЖИВАЮЩЕГО НАПРЯЖЕНИЯ ОТ ДЛИНЫ ВОЛНЫ</a:t>
            </a:r>
            <a:br>
              <a:rPr sz="2700"/>
            </a:b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06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56BC-9769-43A8-A995-AEC22FEB7B9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6"/>
          <p:cNvGraphicFramePr/>
          <p:nvPr/>
        </p:nvGraphicFramePr>
        <p:xfrm>
          <a:off x="5000760" y="857160"/>
          <a:ext cx="3468600" cy="24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857160"/>
                    <a:ext cx="3468600" cy="24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Содержимое 2"/>
          <p:cNvSpPr/>
          <p:nvPr/>
        </p:nvSpPr>
        <p:spPr>
          <a:xfrm>
            <a:off x="642960" y="4643280"/>
            <a:ext cx="74674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фик -  гипербола, смещенная по оси абсци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3211560" y="4897440"/>
                <a:ext cx="330372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сh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num>
                      <m:den>
                        <m:r>
                          <m:t xml:space="preserve">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Прямоугольник 6"/>
          <p:cNvSpPr/>
          <p:nvPr/>
        </p:nvSpPr>
        <p:spPr>
          <a:xfrm>
            <a:off x="928800" y="114300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держивающее напряжение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это напряжение при котором все выбитые из катода электроны тормозятся у анода , после чего возвращаются наза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висит от максимальной кинетической энергии, которую имеют вырванные светом элект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изменяется при изменении интенсивности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8"/>
              <p:cNvSpPr txBox="1"/>
              <p:nvPr/>
            </p:nvSpPr>
            <p:spPr>
              <a:xfrm>
                <a:off x="214200" y="2428920"/>
                <a:ext cx="714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9"/>
              <p:cNvSpPr txBox="1"/>
              <p:nvPr/>
            </p:nvSpPr>
            <p:spPr>
              <a:xfrm>
                <a:off x="4929120" y="3357720"/>
                <a:ext cx="228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ВИСИМОСТЬ МАКСИМАЛЬНОЙ СКОРОСТИ ФОТОЭЛЕКТРОНОВ ОТ ЭНЕРГИИ ПАДАЮЩИХ НА ВЕЩЕСТВО ФОТОНОВ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5" name="Номер слайда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E2AB-3030-4F7F-9871-0D69641089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6"/>
          <p:cNvGraphicFramePr/>
          <p:nvPr/>
        </p:nvGraphicFramePr>
        <p:xfrm>
          <a:off x="2214720" y="1428840"/>
          <a:ext cx="439704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1428840"/>
                    <a:ext cx="43970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Содержимое 3"/>
          <p:cNvSpPr/>
          <p:nvPr/>
        </p:nvSpPr>
        <p:spPr>
          <a:xfrm>
            <a:off x="642960" y="4929120"/>
            <a:ext cx="7758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1866960" y="5094360"/>
                <a:ext cx="32050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мах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hν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ых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1" name="Прямоугольник 11"/>
          <p:cNvSpPr/>
          <p:nvPr/>
        </p:nvSpPr>
        <p:spPr>
          <a:xfrm>
            <a:off x="571680" y="45720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– ветвь параболы, смещенная по оси абсцисс  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2000160" y="1500120"/>
          <a:ext cx="439740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500120"/>
                    <a:ext cx="439740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Заголовок 1"/>
          <p:cNvSpPr/>
          <p:nvPr/>
        </p:nvSpPr>
        <p:spPr>
          <a:xfrm>
            <a:off x="500040" y="500040"/>
            <a:ext cx="7467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ПРЯМАЯ  ЭЙНШТЕЙ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BE91-5E39-4CC5-BE50-5D943A22EBC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785880" y="4643280"/>
            <a:ext cx="7000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-  прямая линия, точка пересечения с осью частот д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ую границу фотоэфф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entury Schoolbook"/>
              </a:rPr>
              <a:t>РЕШЕНИЕ ЗАДАЧ</a:t>
            </a:r>
            <a:endParaRPr b="0" lang="en-US" sz="6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9" name="Номер слайда 2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509-E5D9-40AF-A52E-0C8314898EE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entury Schoolbook"/>
              </a:rPr>
              <a:t>ЗАДАЧА 1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равнение Эйнштейна для фотоэффекта  представляет собо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менение к данному явлению закона сохран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мпульс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заря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энерги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мента импульс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EF26-492D-4693-8C0E-70CC485C9C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 rot="5400000">
            <a:off x="7083360" y="3774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entury Schoolbook"/>
              </a:rPr>
              <a:t>ЗАДАЧА 2</a:t>
            </a: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изучении фотоэффекта увеличили частоту излучения без изменения светового потока. При этом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величилось  количество вылетающих из металла электрон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Увеличилась скорость вылетающих электрон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величилась сила фототока насыщения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величилась работа выхода электронов из металл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Содержимое 2"/>
          <p:cNvSpPr/>
          <p:nvPr/>
        </p:nvSpPr>
        <p:spPr>
          <a:xfrm>
            <a:off x="571680" y="4000680"/>
            <a:ext cx="746748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Решение.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Согласно 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закону фотоэффекта при увеличении частоты света  увеличится линейно связанная с частотой кинетическая энергия, соответственно и скор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1777-F6B4-41D9-A73A-9C87C2BBEE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3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фотоэффекте с увеличением длины волны  падающего свет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бота выхода  фотоэлектрон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уменьшается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величивается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е изменяется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величивается или уменьшается в зависимости от кинетической энергии фотоэлектрон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Содержимое 2"/>
          <p:cNvSpPr/>
          <p:nvPr/>
        </p:nvSpPr>
        <p:spPr>
          <a:xfrm>
            <a:off x="571680" y="4214880"/>
            <a:ext cx="79293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Решение.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Согласно 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II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‌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‌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закону фотоэффекта, каждому  веществу соответствует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Своя красная граница фотоэфф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Запишем формулу для расчета  работы вы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Следовательно, при увеличении длины волны, работа выхода уменьш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5429160" y="4572000"/>
                <a:ext cx="2195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h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BC92-88B7-4FB7-89A8-1BFF3718A5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entury Schoolbook"/>
              </a:rPr>
              <a:t>ЗАДАЧА 4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увеличением интенсивности света, падающего  на фотокатод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меньшается максимальная кинетическая энергия фотоэлектрон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увеличивается число фотоэлектрон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величивается скорость фотоэлектрон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величивается работа выхода электрон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Содержимое 2"/>
          <p:cNvSpPr/>
          <p:nvPr/>
        </p:nvSpPr>
        <p:spPr>
          <a:xfrm>
            <a:off x="500040" y="43578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Решение. 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о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‌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закону фотоэффекта увеличение интенсивности света приводит к увеличению числа фотоэлектр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2F19-1096-483A-ABE3-C57E4899C7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ижний колонтитул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46784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entury Schoolbook"/>
              </a:rPr>
              <a:t>ЗАДАЧА 5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кое (-ие) из утверждений справедливо (-ы)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. Максимальная кинетическая теория фотоэлектронов линейно возрастает с частотой и не зависит от интенсивности све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. Максимальная кинетическая теория фотоэлектронов обратно пропорциональна частоте света и зависит от интенсивности све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только 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олько 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 А, и 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и А, ни 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5A71-2095-439A-8F4D-8FC114FEB9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ижний колонтитул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СОДЕРЖАНИЕ ПРЕЗЕНТАЦИИ: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00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5395"/>
                </a:solidFill>
                <a:latin typeface="Century Schoolbook"/>
              </a:rPr>
              <a:t>1 раздел. </a:t>
            </a:r>
            <a:r>
              <a:rPr b="1" lang="ru-RU" sz="2400" spc="-1" strike="noStrike">
                <a:solidFill>
                  <a:srgbClr val="0b5395"/>
                </a:solidFill>
                <a:latin typeface="Century Schoolbook"/>
              </a:rPr>
              <a:t>Теория фотоэффек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5395"/>
                </a:solidFill>
                <a:latin typeface="Century Schoolbook"/>
              </a:rPr>
              <a:t>2 раздел. </a:t>
            </a:r>
            <a:r>
              <a:rPr b="1" lang="ru-RU" sz="2400" spc="-1" strike="noStrike">
                <a:solidFill>
                  <a:srgbClr val="0b5395"/>
                </a:solidFill>
                <a:latin typeface="Century Schoolbook"/>
              </a:rPr>
              <a:t>Графики зависимостей величин при фотоэффект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5395"/>
                </a:solidFill>
                <a:latin typeface="Century Schoolbook"/>
              </a:rPr>
              <a:t>3 раздел. </a:t>
            </a:r>
            <a:r>
              <a:rPr b="1" lang="ru-RU" sz="2400" spc="-1" strike="noStrike">
                <a:solidFill>
                  <a:srgbClr val="0b5395"/>
                </a:solidFill>
                <a:latin typeface="Century Schoolbook"/>
              </a:rPr>
              <a:t>Решение задач уровня А и 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5395"/>
                </a:solidFill>
                <a:latin typeface="Century Schoolbook"/>
              </a:rPr>
              <a:t>4 раздел. </a:t>
            </a:r>
            <a:r>
              <a:rPr b="1" lang="ru-RU" sz="2400" spc="-1" strike="noStrike">
                <a:solidFill>
                  <a:srgbClr val="0b5395"/>
                </a:solidFill>
                <a:latin typeface="Century Schoolbook"/>
              </a:rPr>
              <a:t>Решение расчетных задач уровня 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9539-8172-4D91-BABA-CADCE3DACB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entury Schoolbook"/>
              </a:rPr>
              <a:t>ЗАДАЧА 6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4422-D0AA-4FAC-B42C-88E43777DF1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ижний колонтитул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714240" y="107136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дним из фактов, подтверждающих квантовую природу света, является внешний фотоэффект. Фотоэффект- эт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. возникновение тока в замкнутом контуре или разности потенциалов на концах разомкнутого контура при изменении магнитного потока, пронизывающего контур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. выбивание электронов с поверхности металла под действием све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. Взаимное проникновение соприкасающихся веществ вследствие беспорядочного движения составляющих их частиц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кое (-ие) из утверждений справедливо (-ы)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олько 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Только 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олько 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 и 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7</a:t>
            </a:r>
            <a:br>
              <a:rPr sz="2700"/>
            </a:b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14200" y="499680"/>
            <a:ext cx="83296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 опытах по фотоэффекту взяли металлическую пластину с работой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ыхода 3,5 эВ и стали освещать ее светом с частотой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. Затем частоту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адающего  света увеличили в  2 раза, а интенсивность  падающего света оставил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ежней. В результате этого максимальная кинетическая энергия фотоэлектрон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величилась в 2 раз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е изменилас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увеличилась более чем в 2 раз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фотоэлектронов нет ни в первом, ни во втором случае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Решение.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 1. По уравнению Эйнштейна для фотоэффекта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2. Выразим в эВ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3.Вычислим для 1 случая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4. Вычислим для 2 случая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5. Сравним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Содержимое 2"/>
          <p:cNvSpPr/>
          <p:nvPr/>
        </p:nvSpPr>
        <p:spPr>
          <a:xfrm>
            <a:off x="214200" y="571680"/>
            <a:ext cx="857268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8585-22B0-4BAF-B834-8F2157C4B9A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5"/>
          <p:cNvSpPr/>
          <p:nvPr/>
        </p:nvSpPr>
        <p:spPr>
          <a:xfrm>
            <a:off x="5500800" y="7858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0"/>
              <p:cNvSpPr txBox="1"/>
              <p:nvPr/>
            </p:nvSpPr>
            <p:spPr>
              <a:xfrm>
                <a:off x="5929200" y="3071880"/>
                <a:ext cx="16416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28880" y="3500280"/>
                <a:ext cx="4779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,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num>
                      <m:den>
                        <m:r>
                          <m:t xml:space="preserve">1,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num>
                      <m:den>
                        <m:r>
                          <m:t xml:space="preserve">1,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857840" y="4286160"/>
                <a:ext cx="35528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  <m:r>
                      <m:t xml:space="preserve">−</m:t>
                    </m:r>
                    <m:r>
                      <m:t xml:space="preserve">3,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6"/>
              <p:cNvSpPr txBox="1"/>
              <p:nvPr/>
            </p:nvSpPr>
            <p:spPr>
              <a:xfrm>
                <a:off x="2857680" y="4714920"/>
                <a:ext cx="18079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ν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1"/>
              <p:cNvSpPr txBox="1"/>
              <p:nvPr/>
            </p:nvSpPr>
            <p:spPr>
              <a:xfrm>
                <a:off x="714240" y="5072040"/>
                <a:ext cx="5029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ν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t xml:space="preserve">−</m:t>
                    </m:r>
                    <m:r>
                      <m:t xml:space="preserve">3,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3"/>
              <p:cNvSpPr txBox="1"/>
              <p:nvPr/>
            </p:nvSpPr>
            <p:spPr>
              <a:xfrm>
                <a:off x="1959120" y="5572080"/>
                <a:ext cx="2244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ин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ин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Нижний колонтитул 1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повышен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5"/>
              <p:cNvSpPr txBox="1"/>
              <p:nvPr/>
            </p:nvSpPr>
            <p:spPr>
              <a:xfrm>
                <a:off x="2124000" y="4292640"/>
                <a:ext cx="1683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8</a:t>
            </a:r>
            <a:br>
              <a:rPr sz="2700"/>
            </a:b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14200" y="499680"/>
            <a:ext cx="83296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 опытах по фотоэффекту взяли металлическую пластину с работой   выхода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 стали освещать ее светом с частотой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    . Затем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частоту увеличили в  2 раза, оставив неизменным число фотонов, падающих 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ластину за 1 с. В результате число фотоэлектронов, покидающих пластину за 1с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е изменилос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стало не равным нулю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величилось в два раз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величилось менее чем в 2 раз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Решение.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 1. По уравнению Эйнштейна для фотоэффекта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2. Вычислим энергию кванта и сравним с работой выхода: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3.Т.е первоначальной энергии недостаточно, чтобы начался процесс  выбивания электрон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Ответ:2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Содержимое 2"/>
          <p:cNvSpPr/>
          <p:nvPr/>
        </p:nvSpPr>
        <p:spPr>
          <a:xfrm>
            <a:off x="214200" y="571680"/>
            <a:ext cx="857268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04EA-6E4B-4FA2-8F91-5536677CD5C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5"/>
          <p:cNvSpPr/>
          <p:nvPr/>
        </p:nvSpPr>
        <p:spPr>
          <a:xfrm>
            <a:off x="6072120" y="78588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AE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 1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10"/>
              <p:cNvSpPr txBox="1"/>
              <p:nvPr/>
            </p:nvSpPr>
            <p:spPr>
              <a:xfrm>
                <a:off x="6072120" y="2928960"/>
                <a:ext cx="16416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1614600" y="3929040"/>
                <a:ext cx="62132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,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Нижний колонтитул 1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повышен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5"/>
          <p:cNvSpPr/>
          <p:nvPr/>
        </p:nvSpPr>
        <p:spPr>
          <a:xfrm>
            <a:off x="214200" y="7858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, 4</a:t>
            </a:r>
            <a:r>
              <a:rPr b="0" lang="ar-AE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 -1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9"/>
              <p:cNvSpPr txBox="1"/>
              <p:nvPr/>
            </p:nvSpPr>
            <p:spPr>
              <a:xfrm>
                <a:off x="2743200" y="4726080"/>
                <a:ext cx="41562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,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Прямоугольник 5"/>
          <p:cNvSpPr/>
          <p:nvPr/>
        </p:nvSpPr>
        <p:spPr>
          <a:xfrm>
            <a:off x="214200" y="7858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, 4</a:t>
            </a:r>
            <a:r>
              <a:rPr b="0" lang="ar-AE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 -1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9 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14200" y="713880"/>
            <a:ext cx="532944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028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а рисунке представлен график зависимост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028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илы фототока в фотоэлементе от приложенного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028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 нему напряжения. Если начать увеличиват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028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частоту падающего  на катод света ( пр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028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инаковой интенсивности света). Н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028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аком из приведенных ниже графиков правильно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0280" indent="-26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оказано изменение графика? (первоначальное состояние –пунктирная линия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0280" indent="-2602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0546-F1C2-4A73-AAB8-C7ABF752A5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Нижний колонтитул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повышенны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1"/>
          <p:cNvGraphicFramePr/>
          <p:nvPr/>
        </p:nvGraphicFramePr>
        <p:xfrm>
          <a:off x="5857920" y="642960"/>
          <a:ext cx="279252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920" y="642960"/>
                    <a:ext cx="279252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Рисунок 6" descr=""/>
          <p:cNvPicPr/>
          <p:nvPr/>
        </p:nvPicPr>
        <p:blipFill>
          <a:blip r:embed="rId3"/>
          <a:srcRect l="0" t="35346" r="60113" b="32271"/>
          <a:stretch/>
        </p:blipFill>
        <p:spPr>
          <a:xfrm>
            <a:off x="214200" y="2714760"/>
            <a:ext cx="1785960" cy="135720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7" descr=""/>
          <p:cNvPicPr/>
          <p:nvPr/>
        </p:nvPicPr>
        <p:blipFill>
          <a:blip r:embed="rId4"/>
          <a:srcRect l="-845" t="68639" r="62343" b="0"/>
          <a:stretch/>
        </p:blipFill>
        <p:spPr>
          <a:xfrm>
            <a:off x="2214720" y="2714760"/>
            <a:ext cx="1714320" cy="135720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8" descr=""/>
          <p:cNvPicPr/>
          <p:nvPr/>
        </p:nvPicPr>
        <p:blipFill>
          <a:blip r:embed="rId5"/>
          <a:srcRect l="51490" t="35346" r="7021" b="32271"/>
          <a:stretch/>
        </p:blipFill>
        <p:spPr>
          <a:xfrm>
            <a:off x="4214880" y="2714760"/>
            <a:ext cx="1857240" cy="135720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9" descr=""/>
          <p:cNvPicPr/>
          <p:nvPr/>
        </p:nvPicPr>
        <p:blipFill>
          <a:blip r:embed="rId6"/>
          <a:srcRect l="52979" t="68192" r="8728" b="-558"/>
          <a:stretch/>
        </p:blipFill>
        <p:spPr>
          <a:xfrm>
            <a:off x="6286680" y="2714760"/>
            <a:ext cx="1714320" cy="1357200"/>
          </a:xfrm>
          <a:prstGeom prst="rect">
            <a:avLst/>
          </a:prstGeom>
          <a:ln w="0">
            <a:noFill/>
          </a:ln>
        </p:spPr>
      </p:pic>
      <p:sp>
        <p:nvSpPr>
          <p:cNvPr id="492" name="Содержимое 2"/>
          <p:cNvSpPr/>
          <p:nvPr/>
        </p:nvSpPr>
        <p:spPr>
          <a:xfrm>
            <a:off x="214200" y="4357800"/>
            <a:ext cx="82155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Решение.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Запишем уравнение Эйнштейна для фотоэффекта чер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задерживающее напряжение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Выразим задерживающее напряжение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, следова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При увеличении  частоты запирающее напряжение уменьшается, нижняя ч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графика будет сдвигаться вле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Ответ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4"/>
              <p:cNvSpPr txBox="1"/>
              <p:nvPr/>
            </p:nvSpPr>
            <p:spPr>
              <a:xfrm>
                <a:off x="3857760" y="4643280"/>
                <a:ext cx="15714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6"/>
              <p:cNvSpPr txBox="1"/>
              <p:nvPr/>
            </p:nvSpPr>
            <p:spPr>
              <a:xfrm>
                <a:off x="4143240" y="5143680"/>
                <a:ext cx="1857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99680" y="1571760"/>
            <a:ext cx="74674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2 способ решения: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Интенсивность падающего света определяется отношением суммарной энергии падающих фотонов к интервалу времени и площади поверхности, на которую они падают  С ростом частоты  постоянная интенсивность излучения означает уменьшение числа фотонов. Т.е с увеличением частоты падает ток насыщения. Следовательно, уменьшается значение запирающего напряж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32C4-7132-4479-91A3-BD415306A3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ижний колонтитул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базовы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entury Schoolbook"/>
              </a:rPr>
              <a:t>ЗАДАЧА 10 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99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BF3B-7D96-4DD7-BFBA-393D397184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Нижний колонтитул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повышенны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99680" y="642960"/>
            <a:ext cx="5643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а рисунке представлен график зависимост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илы фототока в фотоэлементе от приложенного  к нему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апряжения. В случае  увеличения интенсивности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адающего света  той же частоты график изменится. Н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аком из приведенных ниже графиков правильно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оказано изменение графика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02" name="Object 1"/>
          <p:cNvGraphicFramePr/>
          <p:nvPr/>
        </p:nvGraphicFramePr>
        <p:xfrm>
          <a:off x="5857920" y="642960"/>
          <a:ext cx="279252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920" y="642960"/>
                    <a:ext cx="279252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Содержимое 2"/>
          <p:cNvSpPr/>
          <p:nvPr/>
        </p:nvSpPr>
        <p:spPr>
          <a:xfrm>
            <a:off x="214200" y="4357800"/>
            <a:ext cx="82155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Решение.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Запишем уравнение Эйнштейна для фотоэффекта через задерживающее напряжение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так как задерживающее напряжение не меняется ,  а увели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интенсивности  приводит к увеличению  числа электронов, то, значен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не изменяется , то график будет сдвигаться ввер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Ответ: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5"/>
              <p:cNvSpPr txBox="1"/>
              <p:nvPr/>
            </p:nvSpPr>
            <p:spPr>
              <a:xfrm>
                <a:off x="5857920" y="4643280"/>
                <a:ext cx="178596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10"/>
              <p:cNvSpPr txBox="1"/>
              <p:nvPr/>
            </p:nvSpPr>
            <p:spPr>
              <a:xfrm>
                <a:off x="7358040" y="5429160"/>
                <a:ext cx="361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07" name="Рисунок 16" descr=""/>
          <p:cNvPicPr/>
          <p:nvPr/>
        </p:nvPicPr>
        <p:blipFill>
          <a:blip r:embed="rId3"/>
          <a:srcRect l="0" t="35346" r="60113" b="32271"/>
          <a:stretch/>
        </p:blipFill>
        <p:spPr>
          <a:xfrm>
            <a:off x="250920" y="2781360"/>
            <a:ext cx="1785960" cy="135720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17" descr=""/>
          <p:cNvPicPr/>
          <p:nvPr/>
        </p:nvPicPr>
        <p:blipFill>
          <a:blip r:embed="rId4"/>
          <a:srcRect l="-845" t="68639" r="62343" b="0"/>
          <a:stretch/>
        </p:blipFill>
        <p:spPr>
          <a:xfrm>
            <a:off x="2050920" y="2781360"/>
            <a:ext cx="1714680" cy="135720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8" descr=""/>
          <p:cNvPicPr/>
          <p:nvPr/>
        </p:nvPicPr>
        <p:blipFill>
          <a:blip r:embed="rId5"/>
          <a:srcRect l="51490" t="35346" r="7021" b="32271"/>
          <a:stretch/>
        </p:blipFill>
        <p:spPr>
          <a:xfrm>
            <a:off x="3780000" y="2781360"/>
            <a:ext cx="1857240" cy="13572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9" descr=""/>
          <p:cNvPicPr/>
          <p:nvPr/>
        </p:nvPicPr>
        <p:blipFill>
          <a:blip r:embed="rId6"/>
          <a:srcRect l="52979" t="68192" r="8728" b="-558"/>
          <a:stretch/>
        </p:blipFill>
        <p:spPr>
          <a:xfrm>
            <a:off x="5651640" y="2781360"/>
            <a:ext cx="1714320" cy="135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11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85480" y="714240"/>
            <a:ext cx="84294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лой оксида кальция облучается светом и  испускает электроны. На рисунк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казан график  изменения максимальной энергии  фотоэлектронов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 зависимости от частоты падающего света. Какова  работа выхода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тоэлектронов из оксида кальция?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,7 э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,4 э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2,1 э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2,8 э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13" name="Object 3"/>
          <p:cNvGraphicFramePr/>
          <p:nvPr/>
        </p:nvGraphicFramePr>
        <p:xfrm>
          <a:off x="5364000" y="2205000"/>
          <a:ext cx="3143520" cy="22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205000"/>
                    <a:ext cx="31435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Содержимое 2"/>
          <p:cNvSpPr/>
          <p:nvPr/>
        </p:nvSpPr>
        <p:spPr>
          <a:xfrm>
            <a:off x="571680" y="4572000"/>
            <a:ext cx="79293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Решение. 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о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‌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графику определим численное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о формуле для работы вы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ереводим Дж в э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6143760" y="4572000"/>
                <a:ext cx="19634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6"/>
              <p:cNvSpPr txBox="1"/>
              <p:nvPr/>
            </p:nvSpPr>
            <p:spPr>
              <a:xfrm>
                <a:off x="3929040" y="4857840"/>
                <a:ext cx="1300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8" name="Номер слайда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5097-84AC-4DF8-A8F4-F349EB20189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ижний колонтитул 8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повышен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entury Schoolbook"/>
              </a:rPr>
              <a:t>ЗАДАЧА 12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599840"/>
            <a:ext cx="48290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рисунке представлен график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зависимости максимально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инетической энергии фотоэлектронов от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астоты фотонов,  падающих н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верхность катода. Какова работа выход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лектрона с поверхности катода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э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5 э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э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,5 э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4402-E27B-47FB-9C1F-8A43E7A0F8B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3"/>
          <p:cNvGraphicFramePr/>
          <p:nvPr/>
        </p:nvGraphicFramePr>
        <p:xfrm>
          <a:off x="4786200" y="1428840"/>
          <a:ext cx="3516480" cy="30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428840"/>
                    <a:ext cx="351648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Прямоугольник 5"/>
          <p:cNvSpPr/>
          <p:nvPr/>
        </p:nvSpPr>
        <p:spPr>
          <a:xfrm>
            <a:off x="500040" y="4857840"/>
            <a:ext cx="7786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Решение.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‌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уравнению Эйнштейна для фотоэфф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 графику находим, что при частоте равной 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10"/>
              <p:cNvSpPr txBox="1"/>
              <p:nvPr/>
            </p:nvSpPr>
            <p:spPr>
              <a:xfrm>
                <a:off x="6786720" y="4857840"/>
                <a:ext cx="16412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4"/>
              <p:cNvSpPr txBox="1"/>
              <p:nvPr/>
            </p:nvSpPr>
            <p:spPr>
              <a:xfrm>
                <a:off x="5857920" y="5286240"/>
                <a:ext cx="274320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5"/>
              <p:cNvSpPr txBox="1"/>
              <p:nvPr/>
            </p:nvSpPr>
            <p:spPr>
              <a:xfrm>
                <a:off x="603360" y="5786280"/>
                <a:ext cx="25351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9" name="Нижний колонтитул 9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А (повышенны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entury Schoolbook"/>
              </a:rPr>
              <a:t>ЗАДАЧА 13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B61B-DFC9-48DF-9DFC-3E107D98DF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 В (базовы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14200" y="142884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 каждому элементу первого столбца подберите  соответствующи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лемент из второго и внесите в  строку ответов выбранные цифры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д  соответствующими буквам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71680" y="2643120"/>
          <a:ext cx="7929360" cy="1621080"/>
        </p:xfrm>
        <a:graphic>
          <a:graphicData uri="http://schemas.openxmlformats.org/drawingml/2006/table">
            <a:tbl>
              <a:tblPr/>
              <a:tblGrid>
                <a:gridCol w="3965400"/>
                <a:gridCol w="3963960"/>
              </a:tblGrid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изическое я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вание я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. Явление вырывания электронов из вещества под действие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) Внутренний фотоэфф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. Явление вырывания электронов из вещества, при котором электроны остаются внутри н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) Внешний фотоэфф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428840" y="4929120"/>
          <a:ext cx="6076800" cy="42696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entury Schoolbook"/>
              </a:rPr>
              <a:t>ЗАДАЧА 14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13840" y="642600"/>
            <a:ext cx="8286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ую пластину освещали монохроматическим светом с длиной волны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00нм одинаковой интенсивности. Что происходит с частотой падающего свет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ульсом фотонов и кинетической энергией вылетающих электронов пр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ии  этой пластины монохроматическим светом с длиной волны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00нм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ждому элементу первого столбца подберите соответствующий элемент из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го и  внесите строку ответов выбранные цифры под соответствующим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A0D5-2A42-4ADA-924C-AC0BEA3A5F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285840" y="3143160"/>
          <a:ext cx="7929360" cy="1630440"/>
        </p:xfrm>
        <a:graphic>
          <a:graphicData uri="http://schemas.openxmlformats.org/drawingml/2006/table">
            <a:tbl>
              <a:tblPr/>
              <a:tblGrid>
                <a:gridCol w="3965400"/>
                <a:gridCol w="39639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изические вел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арактер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. частота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) увели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. импульс фот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) уменьш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. кинетическая энергия вылетающих 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) не измен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1500120" y="5286240"/>
          <a:ext cx="6096240" cy="741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В (повышенны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ФОТОЭФФЕКТ. ТЕОРИЯ.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2266920" cy="3171600"/>
          </a:xfrm>
          <a:prstGeom prst="rect">
            <a:avLst/>
          </a:prstGeom>
          <a:ln w="0">
            <a:noFill/>
          </a:ln>
        </p:spPr>
      </p:pic>
      <p:sp>
        <p:nvSpPr>
          <p:cNvPr id="365" name="Содержимое 2"/>
          <p:cNvSpPr/>
          <p:nvPr/>
        </p:nvSpPr>
        <p:spPr>
          <a:xfrm>
            <a:off x="3143160" y="2714760"/>
            <a:ext cx="4924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Фотоэффектом называется явление, состоящее в выбивании светом электронов, находящихся в метал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E70B-BA64-48B7-91C6-5F9EE727653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ЗАДАЧА 15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0D75-022D-42A1-A3A9-8142A2C5046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Нижний колонтитул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 В (повышенны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5" descr=""/>
          <p:cNvPicPr/>
          <p:nvPr/>
        </p:nvPicPr>
        <p:blipFill>
          <a:blip r:embed="rId1"/>
          <a:srcRect l="9077" t="44775" r="6555" b="23575"/>
          <a:stretch/>
        </p:blipFill>
        <p:spPr>
          <a:xfrm>
            <a:off x="2147760" y="1747800"/>
            <a:ext cx="478152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>
          <a:off x="1428840" y="4929120"/>
          <a:ext cx="6076800" cy="42696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Rectangle 2"/>
          <p:cNvSpPr/>
          <p:nvPr/>
        </p:nvSpPr>
        <p:spPr>
          <a:xfrm>
            <a:off x="2143080" y="1714680"/>
            <a:ext cx="2858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97256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entury Schoolbook"/>
              </a:rPr>
              <a:t>РЕШЕНИЕ </a:t>
            </a:r>
            <a:br>
              <a:rPr sz="5400"/>
            </a:br>
            <a:r>
              <a:rPr b="1" lang="ru-RU" sz="5400" spc="-1" strike="noStrike">
                <a:solidFill>
                  <a:srgbClr val="04617b"/>
                </a:solidFill>
                <a:latin typeface="Century Schoolbook"/>
              </a:rPr>
              <a:t>РАСЧЕТНЫХ ЗАДАЧ, ИСПОЛЬЗУЯ КВАНТОВОЕ ДЕРЕВО</a:t>
            </a:r>
            <a:endParaRPr b="0" lang="en-US" sz="5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3D6D-2D02-4631-982F-7FBE17F8D92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entury Schoolbook"/>
              </a:rPr>
              <a:t>КВАНТОВОЕ ДЕРЕВО 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607-C62A-4524-81A9-137D6743CD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ижний колонтитул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Схема 9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pic>
        <p:nvPicPr>
          <p:cNvPr id="554" name="Схема 15" descr=""/>
          <p:cNvPicPr/>
          <p:nvPr/>
        </p:nvPicPr>
        <p:blipFill>
          <a:blip r:embed="rId2"/>
          <a:stretch/>
        </p:blipFill>
        <p:spPr>
          <a:xfrm>
            <a:off x="-6480" y="420840"/>
            <a:ext cx="8729640" cy="6656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entury Schoolbook"/>
              </a:rPr>
              <a:t>ЗАДАЧА 15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99680" y="857160"/>
            <a:ext cx="7467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токатод освещается  монохроматически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етом  , энергия которого равна 4эВ. Чему рав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бота выхода материала катода, есл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ерживающее напряжение равно 1, 5 эВ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9394-E671-4B8F-AB7B-E7EBCEB781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4"/>
          <p:cNvSpPr/>
          <p:nvPr/>
        </p:nvSpPr>
        <p:spPr>
          <a:xfrm>
            <a:off x="500040" y="3029040"/>
            <a:ext cx="78580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Решение.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огласно уравнению Эйнштейна для  фотоэффекта, по основной вет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ыразим  работу вых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ычисл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5"/>
              <p:cNvSpPr txBox="1"/>
              <p:nvPr/>
            </p:nvSpPr>
            <p:spPr>
              <a:xfrm>
                <a:off x="3071880" y="3429000"/>
                <a:ext cx="1785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4"/>
              <p:cNvSpPr txBox="1"/>
              <p:nvPr/>
            </p:nvSpPr>
            <p:spPr>
              <a:xfrm>
                <a:off x="3786120" y="4143240"/>
                <a:ext cx="1808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2071800" y="4786200"/>
                <a:ext cx="2960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  <m:r>
                      <m:t xml:space="preserve">−</m:t>
                    </m:r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  <m:r>
                      <m:t xml:space="preserve">=</m:t>
                    </m:r>
                    <m:r>
                      <m:t xml:space="preserve">2,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Нижний колонтитул 8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16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857160"/>
            <a:ext cx="8186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тоны, имеющие энергию 5 эВ, выбивают  электроны с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верхности металла. Работа выхода  электронов из металл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вна 4,7 эВ. Какой  импульс приобретает электрон при вылете с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верхности металла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 </a:t>
            </a: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Century Schoolbook"/>
              </a:rPr>
              <a:t>Решение. 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Согласно уравнению Эйнштейна для  фотоэффект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000" spc="-1" strike="noStrike">
                <a:solidFill>
                  <a:srgbClr val="c00000"/>
                </a:solidFill>
                <a:latin typeface="Century Schoolbook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0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0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кинетическая энергия фотоэлектронов равн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, импульс равен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Следовательно,  решая совместно уравнения получим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5"/>
              <p:cNvSpPr txBox="1"/>
              <p:nvPr/>
            </p:nvSpPr>
            <p:spPr>
              <a:xfrm>
                <a:off x="1071720" y="2714760"/>
                <a:ext cx="1785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6"/>
              <p:cNvSpPr txBox="1"/>
              <p:nvPr/>
            </p:nvSpPr>
            <p:spPr>
              <a:xfrm>
                <a:off x="1143000" y="3429000"/>
                <a:ext cx="1714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7"/>
              <p:cNvSpPr txBox="1"/>
              <p:nvPr/>
            </p:nvSpPr>
            <p:spPr>
              <a:xfrm>
                <a:off x="3357720" y="3714840"/>
                <a:ext cx="2989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8"/>
              <p:cNvSpPr txBox="1"/>
              <p:nvPr/>
            </p:nvSpPr>
            <p:spPr>
              <a:xfrm>
                <a:off x="5357880" y="3286080"/>
                <a:ext cx="9428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r>
                      <m:t xml:space="preserve">m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9"/>
              <p:cNvSpPr txBox="1"/>
              <p:nvPr/>
            </p:nvSpPr>
            <p:spPr>
              <a:xfrm>
                <a:off x="2786040" y="5072040"/>
                <a:ext cx="3702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ин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hν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0"/>
              <p:cNvSpPr txBox="1"/>
              <p:nvPr/>
            </p:nvSpPr>
            <p:spPr>
              <a:xfrm>
                <a:off x="3286080" y="5643720"/>
                <a:ext cx="22622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≈</m:t>
                    </m:r>
                    <m:r>
                      <m:t xml:space="preserve">2,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Номер слайда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074C-CF00-4D89-927B-7D3A26E9C0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Нижний колонтитул 10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17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6840" y="713880"/>
            <a:ext cx="825804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и облучении металла светом с длиной волны 245 нм наблюдается  фотоэффект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абота выхода электрона из металла  равна 2,4 эВ.  Рассчитайте величину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апряжения, которое нужно  приложить к металлу,  чтобы уменьшить максимальную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корость вылетающих фотоэлектронов в 2 раз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Содержимое 3"/>
          <p:cNvSpPr/>
          <p:nvPr/>
        </p:nvSpPr>
        <p:spPr>
          <a:xfrm>
            <a:off x="241200" y="2016000"/>
            <a:ext cx="868680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Решение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10"/>
              <p:cNvSpPr txBox="1"/>
              <p:nvPr/>
            </p:nvSpPr>
            <p:spPr>
              <a:xfrm>
                <a:off x="6143760" y="2286000"/>
                <a:ext cx="1849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Rectangle 11"/>
          <p:cNvSpPr/>
          <p:nvPr/>
        </p:nvSpPr>
        <p:spPr>
          <a:xfrm>
            <a:off x="285840" y="2430720"/>
            <a:ext cx="814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Запишем уравн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Эйнштейна для фотоэффекта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14"/>
              <p:cNvSpPr txBox="1"/>
              <p:nvPr/>
            </p:nvSpPr>
            <p:spPr>
              <a:xfrm>
                <a:off x="3214800" y="2500200"/>
                <a:ext cx="15159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9" name="Прямоугольник 16"/>
          <p:cNvSpPr/>
          <p:nvPr/>
        </p:nvSpPr>
        <p:spPr>
          <a:xfrm>
            <a:off x="285840" y="3000240"/>
            <a:ext cx="850104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Формулу для расчета работы электрического поля при описании движения  фотоэлектро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Решим систему двух уравнени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5"/>
              <p:cNvSpPr txBox="1"/>
              <p:nvPr/>
            </p:nvSpPr>
            <p:spPr>
              <a:xfrm>
                <a:off x="4286160" y="3214800"/>
                <a:ext cx="8715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16"/>
              <p:cNvSpPr txBox="1"/>
              <p:nvPr/>
            </p:nvSpPr>
            <p:spPr>
              <a:xfrm>
                <a:off x="3341520" y="3797280"/>
                <a:ext cx="1194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ых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3" name="Прямоугольник 21"/>
          <p:cNvSpPr/>
          <p:nvPr/>
        </p:nvSpPr>
        <p:spPr>
          <a:xfrm>
            <a:off x="285840" y="4929120"/>
            <a:ext cx="85010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корость движения электронов после вырывания с поверхности металла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корость движения электронов под влиянием электрического п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Решая совместно уравнения, получи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18"/>
              <p:cNvSpPr txBox="1"/>
              <p:nvPr/>
            </p:nvSpPr>
            <p:spPr>
              <a:xfrm>
                <a:off x="4786200" y="5357880"/>
                <a:ext cx="2235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q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5" name="Rectangle 20"/>
          <p:cNvSpPr/>
          <p:nvPr/>
        </p:nvSpPr>
        <p:spPr>
          <a:xfrm>
            <a:off x="4436640" y="35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25"/>
          <p:cNvSpPr/>
          <p:nvPr/>
        </p:nvSpPr>
        <p:spPr>
          <a:xfrm>
            <a:off x="2439720" y="6143760"/>
            <a:ext cx="187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омер слайда 1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77F3-21C1-41DE-B8AC-5355AE000B2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Нижний колонтитул 1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18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571320"/>
            <a:ext cx="746748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5680" indent="-26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Фотокатод, покрытый кальцием (работа выхода   4,42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entury Schoolbook"/>
              </a:rPr>
              <a:t>–19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 Дж), освещается светом с длиной волны 300 нм. Вылетевшие из катода электроны попадают в однородное магнитное поле с индукцией  8,3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entury Schoolbook"/>
              </a:rPr>
              <a:t>–4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 Тл перпендикулярно линиям индукции этого поля. Каков максимальный радиус окружности, по которой движутся электроны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5680" indent="-26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Прямоугольник 3"/>
          <p:cNvSpPr/>
          <p:nvPr/>
        </p:nvSpPr>
        <p:spPr>
          <a:xfrm>
            <a:off x="500040" y="214308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Уравнение Эйнштейна для фотоэфф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Уравнение, связывающее на основе второго закона Ньютона силу Лоренца, действующую на электрон, с величиной центростремительного ускор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2"/>
              <p:cNvSpPr txBox="1"/>
              <p:nvPr/>
            </p:nvSpPr>
            <p:spPr>
              <a:xfrm>
                <a:off x="5715000" y="2071800"/>
                <a:ext cx="1515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4654440" y="3246480"/>
                <a:ext cx="701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Прямоугольник 7"/>
          <p:cNvSpPr/>
          <p:nvPr/>
        </p:nvSpPr>
        <p:spPr>
          <a:xfrm>
            <a:off x="439920" y="350028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Решая систему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5"/>
              <p:cNvSpPr txBox="1"/>
              <p:nvPr/>
            </p:nvSpPr>
            <p:spPr>
              <a:xfrm>
                <a:off x="3887640" y="3836880"/>
                <a:ext cx="12733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f>
                                  <m:num>
                                    <m:r>
                                      <m:t xml:space="preserve">с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8" name="Прямоугольник 10"/>
          <p:cNvSpPr/>
          <p:nvPr/>
        </p:nvSpPr>
        <p:spPr>
          <a:xfrm>
            <a:off x="3525120" y="514368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,7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11"/>
          <p:cNvSpPr/>
          <p:nvPr/>
        </p:nvSpPr>
        <p:spPr>
          <a:xfrm>
            <a:off x="571680" y="185724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Номер слайда 1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466C-30A4-4E9F-A4CF-86110CE76D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Нижний колонтитул 1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19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28400" y="1000080"/>
            <a:ext cx="8429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9480" indent="-24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В вакууме находятся два электрода, к которым подключен конденсатор емкостью С = 4000 пФ. При длительном освещении одного электрода светом с длиной волны λ= 300 нм фототок между электродами, возникший вначале, прекращается, а на конденсаторе появляется заряд </a:t>
            </a: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q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 = 5,5·10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Century Schoolbook"/>
              </a:rPr>
              <a:t>-9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Кл. Какова работа выхода А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entury Schoolbook"/>
              </a:rPr>
              <a:t>вых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 электронов из вещества фотокатода? Емкостью системы электродов пренебречь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49480" indent="-24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 </a:t>
            </a: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Century Schoolbook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9480" indent="-24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Запишем уравнение Эйнштейна для фотоэффекта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44960" indent="-1677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49480" indent="-24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9480" indent="-24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Запишем равенство кинетической энергии электрона его энергии в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9480" indent="-24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лектрическом поле конденсатор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9480" indent="-24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рмулу расчета электроемкости конденсатора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1071720" y="3286080"/>
                <a:ext cx="1515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4"/>
              <p:cNvSpPr txBox="1"/>
              <p:nvPr/>
            </p:nvSpPr>
            <p:spPr>
              <a:xfrm>
                <a:off x="3929040" y="3143160"/>
                <a:ext cx="1620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h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5"/>
              <p:cNvSpPr txBox="1"/>
              <p:nvPr/>
            </p:nvSpPr>
            <p:spPr>
              <a:xfrm>
                <a:off x="4398840" y="4214880"/>
                <a:ext cx="11210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6"/>
              <p:cNvSpPr txBox="1"/>
              <p:nvPr/>
            </p:nvSpPr>
            <p:spPr>
              <a:xfrm>
                <a:off x="6072120" y="4429080"/>
                <a:ext cx="6652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8"/>
              <p:cNvSpPr txBox="1"/>
              <p:nvPr/>
            </p:nvSpPr>
            <p:spPr>
              <a:xfrm>
                <a:off x="3929040" y="5072040"/>
                <a:ext cx="1500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h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е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9" name="Rectangle 9"/>
          <p:cNvSpPr/>
          <p:nvPr/>
        </p:nvSpPr>
        <p:spPr>
          <a:xfrm>
            <a:off x="462240" y="5360760"/>
            <a:ext cx="658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Совместно решая уравнения 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1285920" y="58582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,4·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ж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Номер слайда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15EF-7CEA-48BB-9BB4-AB20D8655B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Нижний колонтитул 1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7467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20 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785520"/>
            <a:ext cx="80438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расная граница фотоэффекта для вольфрама равна 275 нм. Найт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еличину задерживающего напряжения,  если вольфрам облучается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тонами, масса которых  равна 1,2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·10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Century Schoolbook"/>
              </a:rPr>
              <a:t>-35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кг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5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5106-F1C8-4646-9C8D-2078181CA9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4"/>
          <p:cNvSpPr/>
          <p:nvPr/>
        </p:nvSpPr>
        <p:spPr>
          <a:xfrm>
            <a:off x="285840" y="2071800"/>
            <a:ext cx="835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Решение.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 уравнению Эйнштейна для  фотоэфф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инетическая энергия фотоэлектронов ра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бота выхода ра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Энергия  фо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ледовательно,  решая совместно уравнения получ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твет: 2,2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3"/>
              <p:cNvSpPr txBox="1"/>
              <p:nvPr/>
            </p:nvSpPr>
            <p:spPr>
              <a:xfrm>
                <a:off x="6715080" y="2143080"/>
                <a:ext cx="1515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5"/>
              <p:cNvSpPr txBox="1"/>
              <p:nvPr/>
            </p:nvSpPr>
            <p:spPr>
              <a:xfrm>
                <a:off x="5572080" y="2571840"/>
                <a:ext cx="11206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10"/>
              <p:cNvSpPr txBox="1"/>
              <p:nvPr/>
            </p:nvSpPr>
            <p:spPr>
              <a:xfrm>
                <a:off x="3000240" y="3000240"/>
                <a:ext cx="164160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5"/>
              <p:cNvSpPr txBox="1"/>
              <p:nvPr/>
            </p:nvSpPr>
            <p:spPr>
              <a:xfrm>
                <a:off x="2857680" y="3429000"/>
                <a:ext cx="12650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8"/>
              <p:cNvSpPr txBox="1"/>
              <p:nvPr/>
            </p:nvSpPr>
            <p:spPr>
              <a:xfrm>
                <a:off x="2428920" y="3929040"/>
                <a:ext cx="17143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7"/>
              <p:cNvSpPr txBox="1"/>
              <p:nvPr/>
            </p:nvSpPr>
            <p:spPr>
              <a:xfrm>
                <a:off x="6429240" y="4429080"/>
                <a:ext cx="1808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8"/>
              <p:cNvSpPr txBox="1"/>
              <p:nvPr/>
            </p:nvSpPr>
            <p:spPr>
              <a:xfrm>
                <a:off x="2286000" y="4929120"/>
                <a:ext cx="2036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е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с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р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Нижний колонтитул 1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ДАЧА 21</a:t>
            </a:r>
            <a:br>
              <a:rPr sz="2700"/>
            </a:b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28400" y="7142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отокатод, покрытый кальцием (работа выхода   4,4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</a:rPr>
              <a:t>–19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Дж), освещается светом с  частотой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 Вылетевшие из катода электроны попадают в однородное магнитное поле с индукцией  4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entury Schoolbook"/>
              </a:rPr>
              <a:t>–4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Тл перпендикулярно линиям индукции этого поля и движутся  по окружности максимального радиуса, равного 10мм. Какова частота падающего света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62EF-DABF-4369-846E-7317BEAE7BC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2"/>
              <p:cNvSpPr txBox="1"/>
              <p:nvPr/>
            </p:nvSpPr>
            <p:spPr>
              <a:xfrm>
                <a:off x="4857840" y="3714840"/>
                <a:ext cx="9954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еВR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Прямоугольник 3"/>
          <p:cNvSpPr/>
          <p:nvPr/>
        </p:nvSpPr>
        <p:spPr>
          <a:xfrm>
            <a:off x="500040" y="2500200"/>
            <a:ext cx="82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Решение: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1.Уравнение Эйнштейна для фотоэфф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.Уравнение, связывающее на основе второго закона Ньютона силу Лоренца, действующую на электрон, с величиной  центростремительного ускор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3. Выражаем скорость из 2)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4. Подставим в 1)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5. Выв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твет: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3"/>
              <p:cNvSpPr txBox="1"/>
              <p:nvPr/>
            </p:nvSpPr>
            <p:spPr>
              <a:xfrm>
                <a:off x="6429240" y="2500200"/>
                <a:ext cx="15163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2109960" y="3400560"/>
                <a:ext cx="928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6"/>
              <p:cNvSpPr txBox="1"/>
              <p:nvPr/>
            </p:nvSpPr>
            <p:spPr>
              <a:xfrm>
                <a:off x="4284720" y="4508640"/>
                <a:ext cx="38829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2050920" y="5084640"/>
                <a:ext cx="22212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Прямоугольник 11"/>
          <p:cNvSpPr/>
          <p:nvPr/>
        </p:nvSpPr>
        <p:spPr>
          <a:xfrm>
            <a:off x="1407960" y="5786280"/>
            <a:ext cx="8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00000"/>
                </a:solidFill>
                <a:latin typeface="Symbol"/>
                <a:ea typeface="Symbol"/>
              </a:rPr>
              <a:t>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0" lang="ru-RU" sz="1800" spc="-1" strike="noStrike" baseline="30000">
                <a:solidFill>
                  <a:srgbClr val="c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Нижний колонтитул 1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Уровень 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КОНЫ ФОТОЭФФЕКТА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400" y="78588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зако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личина фототока насыщения пропорциональ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тенсивности светового пот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І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зако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ксимальная кинетическая энергия фотоэлектрон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нейно возрастает с увеличением частоты и н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висит от его интенсив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ІІ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закон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каждого вещества существует минима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ота света, называемая красной границ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тоэффекта, ниже которой фотоэффект невозможе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7027-64DA-4243-9168-197389099E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entury Schoolbook"/>
              </a:rPr>
              <a:t>ИСПОЛЬЗУЕМАЯ ЛИТЕРАТУРА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714680"/>
            <a:ext cx="81867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якишев Г.Я. Физика: Учебник  для 11 кл. общеобразовательных учреждений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ЕГЭ 2010. Физика:экзаменационные задания/М.Ю.Демидова, И.И. Нурминский. - М.: Эксмо, 2010.-304 с. – (ЕГЭ. Федеральный банк экзаменационных материалов)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Е. Б. Колпакова. СОШ № 2, с. Богучаны, Красноярский край. Издательский дом «Первое сентября». Физика. № 19 2006г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Фадеева А.А. ЕГЭ 2011. Физика: тематические тренировочные задания. –М. : Эксмо, 2010. – 112 с. (ЕГЭ. Тематические тренировочные задания)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.Э. Родионова. Графические задачи по теме «Фотоэффект» Издательский дом «Первое сентября» Физика. №6.2009 г.  17стр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9DFD-65FA-47BA-A81F-03CC89A79D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11540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4617b"/>
                </a:solidFill>
                <a:latin typeface="Garamond"/>
              </a:rPr>
              <a:t>СПАСИБО </a:t>
            </a:r>
            <a:br>
              <a:rPr sz="7200"/>
            </a:br>
            <a:r>
              <a:rPr b="1" lang="ru-RU" sz="7200" spc="-1" strike="noStrike">
                <a:solidFill>
                  <a:srgbClr val="04617b"/>
                </a:solidFill>
                <a:latin typeface="Garamond"/>
              </a:rPr>
              <a:t>ЗА </a:t>
            </a:r>
            <a:br>
              <a:rPr sz="7200"/>
            </a:br>
            <a:r>
              <a:rPr b="1" lang="ru-RU" sz="7200" spc="-1" strike="noStrike">
                <a:solidFill>
                  <a:srgbClr val="04617b"/>
                </a:solidFill>
                <a:latin typeface="Garamond"/>
              </a:rPr>
              <a:t>ВНИМАНИЕ!</a:t>
            </a:r>
            <a:br>
              <a:rPr sz="7200"/>
            </a:br>
            <a:endParaRPr b="0" lang="en-US" sz="7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92C5-B9BF-47FA-9E02-AB2F36217B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Рисунок 30" descr="WB01238_.GIF"/>
          <p:cNvPicPr/>
          <p:nvPr/>
        </p:nvPicPr>
        <p:blipFill>
          <a:blip r:embed="rId1"/>
          <a:stretch/>
        </p:blipFill>
        <p:spPr>
          <a:xfrm>
            <a:off x="914400" y="4952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42" name="Рисунок 30" descr="WB01238_.GIF"/>
          <p:cNvPicPr/>
          <p:nvPr/>
        </p:nvPicPr>
        <p:blipFill>
          <a:blip r:embed="rId2"/>
          <a:stretch/>
        </p:blipFill>
        <p:spPr>
          <a:xfrm>
            <a:off x="2071800" y="37148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30" descr="WB01238_.GIF"/>
          <p:cNvPicPr/>
          <p:nvPr/>
        </p:nvPicPr>
        <p:blipFill>
          <a:blip r:embed="rId3"/>
          <a:stretch/>
        </p:blipFill>
        <p:spPr>
          <a:xfrm>
            <a:off x="3643200" y="4643280"/>
            <a:ext cx="424080" cy="38124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 30" descr="WB01238_.GIF"/>
          <p:cNvPicPr/>
          <p:nvPr/>
        </p:nvPicPr>
        <p:blipFill>
          <a:blip r:embed="rId4"/>
          <a:stretch/>
        </p:blipFill>
        <p:spPr>
          <a:xfrm>
            <a:off x="3143160" y="61437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30" descr="WB01238_.GIF"/>
          <p:cNvPicPr/>
          <p:nvPr/>
        </p:nvPicPr>
        <p:blipFill>
          <a:blip r:embed="rId5"/>
          <a:stretch/>
        </p:blipFill>
        <p:spPr>
          <a:xfrm>
            <a:off x="6143760" y="535788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entury Schoolbook"/>
              </a:rPr>
              <a:t>ФОРМУЛА ЭЙНШТЕЙНА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28400" y="2286000"/>
            <a:ext cx="80722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ЗСЭ в явлении фотоэффекта : Энергия фотона расходуется н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совершение работы выхода электронов с поверхности метал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сообщение электрону кинетической энер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"/>
              <p:cNvSpPr txBox="1"/>
              <p:nvPr/>
            </p:nvSpPr>
            <p:spPr>
              <a:xfrm>
                <a:off x="2571840" y="785880"/>
                <a:ext cx="358776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7B08-0BC4-4967-848E-F58297FFF3B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entury Schoolbook"/>
              </a:rPr>
              <a:t>НЕОБХОДИМЫЕ УСЛОВИЯ, ПРИ КОТОРОМ ВОЗМОЖЕН ФОТОЭФФЕКТ</a:t>
            </a: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4286160" y="1071720"/>
                <a:ext cx="32148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6" name="Прямоугольник 3"/>
          <p:cNvSpPr/>
          <p:nvPr/>
        </p:nvSpPr>
        <p:spPr>
          <a:xfrm>
            <a:off x="357120" y="11430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Вылета электронов 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2571840" y="2500200"/>
                <a:ext cx="3483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Прямоугольник 5"/>
          <p:cNvSpPr/>
          <p:nvPr/>
        </p:nvSpPr>
        <p:spPr>
          <a:xfrm>
            <a:off x="214200" y="1857240"/>
            <a:ext cx="850104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Вылет электронов может наступить, но при кинетической энергии равной 0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асная граница фотоэфф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2143080" y="3786120"/>
                <a:ext cx="3384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Прямоугольник 9"/>
          <p:cNvSpPr/>
          <p:nvPr/>
        </p:nvSpPr>
        <p:spPr>
          <a:xfrm>
            <a:off x="285840" y="31431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Наблюдается  вылет электронов обладающих кинетической энергие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C0E5-4CA2-48E2-9D11-F140AC8CCFA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1187280" y="5013360"/>
                <a:ext cx="58262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еU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Прямоугольник 11"/>
          <p:cNvSpPr/>
          <p:nvPr/>
        </p:nvSpPr>
        <p:spPr>
          <a:xfrm>
            <a:off x="142920" y="442908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Если кинетическая энергия электронов не максим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6438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entury Schoolbook"/>
              </a:rPr>
              <a:t>ГРАФИКИ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entury Schoolbook"/>
              </a:rPr>
              <a:t>ЗАВИСИМОСТЕЙ ВЕЛИЧИН ПРИ ФОТОЭФФЕКТЕ</a:t>
            </a:r>
            <a:endParaRPr b="0" lang="en-US" sz="4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0BB3-7CDE-4388-9E2D-0154810F740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ВИСИМОСТЬ СИЛЫ ФОТОТОКА </a:t>
            </a: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ОТ ПРИЛОЖЕННОГО НАПРЯЖЕНИЯ. </a:t>
            </a:r>
            <a:br>
              <a:rPr sz="2700"/>
            </a:b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000080" y="2000160"/>
                <a:ext cx="23590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ф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ф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Содержимое 2"/>
          <p:cNvSpPr/>
          <p:nvPr/>
        </p:nvSpPr>
        <p:spPr>
          <a:xfrm>
            <a:off x="642960" y="3000240"/>
            <a:ext cx="74674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Чем выше расположен график, тем больше ток насыщения, тем боль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интенсивность падающего с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нтенсивность падающего света пропорциональна числу электронов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ырванных из мет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  максимальное число фот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 минимальное число фот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6"/>
              <p:cNvSpPr txBox="1"/>
              <p:nvPr/>
            </p:nvSpPr>
            <p:spPr>
              <a:xfrm>
                <a:off x="2571840" y="4572000"/>
                <a:ext cx="785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ф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7"/>
              <p:cNvSpPr txBox="1"/>
              <p:nvPr/>
            </p:nvSpPr>
            <p:spPr>
              <a:xfrm>
                <a:off x="2571840" y="5072040"/>
                <a:ext cx="749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ф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1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F4AE-03E8-4B76-B155-EA094052DC2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5"/>
          <p:cNvGraphicFramePr/>
          <p:nvPr/>
        </p:nvGraphicFramePr>
        <p:xfrm>
          <a:off x="5429160" y="1143000"/>
          <a:ext cx="2716200" cy="22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9160" y="1143000"/>
                    <a:ext cx="2716200" cy="22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40096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ЗАВИСИМОСТЬ МАКСИМАЛЬНОЙ ЭНЕРГИИ ЭЛЕКТРОНОВ ОТ ИНТЕНСИВНОСТИ ПАДАЮЩЕГО СВЕТА</a:t>
            </a:r>
            <a:br>
              <a:rPr sz="2700"/>
            </a:b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Номер слайда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6BA9-5923-4414-8B51-BF03BBD70C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6"/>
          <p:cNvGraphicFramePr/>
          <p:nvPr/>
        </p:nvGraphicFramePr>
        <p:xfrm>
          <a:off x="2214720" y="1214280"/>
          <a:ext cx="4397040" cy="31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1214280"/>
                    <a:ext cx="4397040" cy="31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Содержимое 7"/>
          <p:cNvSpPr/>
          <p:nvPr/>
        </p:nvSpPr>
        <p:spPr>
          <a:xfrm>
            <a:off x="357120" y="44290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Максимальная кинетическая  энергия электроно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c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не зависит от интенсивности падающего света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8:58:34Z</dcterms:created>
  <dc:creator>Adams</dc:creator>
  <dc:description/>
  <dc:language>en-US</dc:language>
  <cp:lastModifiedBy>Samsung</cp:lastModifiedBy>
  <dcterms:modified xsi:type="dcterms:W3CDTF">2014-04-17T17:29:52Z</dcterms:modified>
  <cp:revision>209</cp:revision>
  <dc:subject/>
  <dc:title>Подготовка к ЕГЭ:   решение задач на фотоэффект   </dc:title>
</cp:coreProperties>
</file>