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3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7FB-0F29-4212-AF05-61D28573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99F-2538-49A0-9C72-44BC90B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843-D2CD-4F8D-A941-380CDDF1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E4A-8FF1-4842-924A-FFA2E027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0AF-A62C-40DF-9F60-127C66A3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77C-A056-4229-A866-2B4DFB9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233-2A7B-433E-9627-9644F88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95C-68F0-413E-9EAA-72C3992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25F-78DB-422F-98D3-CA4870E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39C-7EDD-4DE8-BE9F-2E826EAF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1EA-F893-4ED7-BB1A-B745CB8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922-B61B-4B70-862F-86A0C6D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0E3B-728D-441D-A4D0-A51984884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31.jpeg"/><Relationship Id="rId4" Type="http://schemas.openxmlformats.org/officeDocument/2006/relationships/image" Target="../media/image18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33.jpeg"/><Relationship Id="rId4" Type="http://schemas.openxmlformats.org/officeDocument/2006/relationships/image" Target="../media/image18.jpeg"/><Relationship Id="rId5" Type="http://schemas.openxmlformats.org/officeDocument/2006/relationships/image" Target="../media/image34.jpeg"/><Relationship Id="rId6" Type="http://schemas.openxmlformats.org/officeDocument/2006/relationships/image" Target="../media/image18.jpeg"/><Relationship Id="rId7" Type="http://schemas.openxmlformats.org/officeDocument/2006/relationships/image" Target="../media/image35.jpeg"/><Relationship Id="rId8" Type="http://schemas.openxmlformats.org/officeDocument/2006/relationships/image" Target="../media/image18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18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image" Target="../media/image6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" Target="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image" Target="../media/image20.jpeg"/><Relationship Id="rId6" Type="http://schemas.openxmlformats.org/officeDocument/2006/relationships/image" Target="../media/image18.jpeg"/><Relationship Id="rId7" Type="http://schemas.openxmlformats.org/officeDocument/2006/relationships/image" Target="../media/image21.jpeg"/><Relationship Id="rId8" Type="http://schemas.openxmlformats.org/officeDocument/2006/relationships/image" Target="../media/image18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25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image" Target="../media/image18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lod_Debyussi-Lunniy_svet(kolibel'naya_dlya_moih_lyubimih_devochek_i_mal'chikov!Spite_krepko_i_sladko,a_ya_progonyu_vse_durnie_i_strashnie_sni))).mp3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Documents and Settings\IrinaAnatol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2468520" y="396720"/>
            <a:ext cx="4213440" cy="1157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4"/>
          <a:stretch/>
        </p:blipFill>
        <p:spPr>
          <a:xfrm>
            <a:off x="182520" y="2505240"/>
            <a:ext cx="8790120" cy="1725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3564000" y="6021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258920" y="5533920"/>
            <a:ext cx="76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основа Ирина Анатольевна, учитель ИЗО и МХ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БОУ  «Умётская СОШ» Тамб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Морис Равель. Павана_mp3cut.foxcom.su_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3"/>
          <p:cNvSpPr/>
          <p:nvPr/>
        </p:nvSpPr>
        <p:spPr>
          <a:xfrm>
            <a:off x="179280" y="907920"/>
            <a:ext cx="47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  <a:ea typeface="Times New Roman"/>
              </a:rPr>
              <a:t>Поль Сеза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630080" y="2060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(1839-19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20"/>
          <p:cNvGrpSpPr/>
          <p:nvPr/>
        </p:nvGrpSpPr>
        <p:grpSpPr>
          <a:xfrm>
            <a:off x="5076720" y="620640"/>
            <a:ext cx="2810160" cy="3579840"/>
            <a:chOff x="5076720" y="620640"/>
            <a:chExt cx="2810160" cy="3579840"/>
          </a:xfrm>
        </p:grpSpPr>
        <p:pic>
          <p:nvPicPr>
            <p:cNvPr id="149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5076720" y="620640"/>
              <a:ext cx="2810160" cy="357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D:\Documents and Settings\IrinaAnatol\Мои документы\Мои рисунки\сезанн.jpg"/>
            <p:cNvPicPr/>
            <p:nvPr/>
          </p:nvPicPr>
          <p:blipFill>
            <a:blip r:embed="rId3"/>
            <a:stretch/>
          </p:blipFill>
          <p:spPr>
            <a:xfrm>
              <a:off x="5292720" y="957240"/>
              <a:ext cx="2364120" cy="28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9"/>
          <p:cNvSpPr/>
          <p:nvPr/>
        </p:nvSpPr>
        <p:spPr>
          <a:xfrm>
            <a:off x="250920" y="51609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Французский живописец, один из крупнейших представителей постимпрессион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Клод Дебюсси. Мелодия слёз_mp3cut.foxcom.su_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9"/>
          <p:cNvSpPr/>
          <p:nvPr/>
        </p:nvSpPr>
        <p:spPr>
          <a:xfrm>
            <a:off x="0" y="374976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Сезанн писал натюрморты на протяжении всей жизни, но особое внимание он уделял этому жанру в период с 1883 по 1895 годы, когда создал 59 картин этого жанра. Преодолев статус второсортного, жанр натюрморта после Сезанна стал полноправным выражением художественного видения многих крупнейших мастеров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20"/>
          <p:cNvGrpSpPr/>
          <p:nvPr/>
        </p:nvGrpSpPr>
        <p:grpSpPr>
          <a:xfrm>
            <a:off x="1979640" y="189000"/>
            <a:ext cx="5184720" cy="5128920"/>
            <a:chOff x="1979640" y="189000"/>
            <a:chExt cx="5184720" cy="5128920"/>
          </a:xfrm>
        </p:grpSpPr>
        <p:grpSp>
          <p:nvGrpSpPr>
            <p:cNvPr id="156" name="Группа 9"/>
            <p:cNvGrpSpPr/>
            <p:nvPr/>
          </p:nvGrpSpPr>
          <p:grpSpPr>
            <a:xfrm>
              <a:off x="1979640" y="189000"/>
              <a:ext cx="5184720" cy="5128920"/>
              <a:chOff x="1979640" y="189000"/>
              <a:chExt cx="5184720" cy="5128920"/>
            </a:xfrm>
          </p:grpSpPr>
          <p:pic>
            <p:nvPicPr>
              <p:cNvPr id="157" name="Picture 33" descr="C:\Users\Мила\Desktop\64895786_ramka_3.jpg"/>
              <p:cNvPicPr/>
              <p:nvPr/>
            </p:nvPicPr>
            <p:blipFill>
              <a:blip r:embed="rId2"/>
              <a:stretch/>
            </p:blipFill>
            <p:spPr>
              <a:xfrm>
                <a:off x="2411640" y="189000"/>
                <a:ext cx="396072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Прямоугольник 24"/>
              <p:cNvSpPr/>
              <p:nvPr/>
            </p:nvSpPr>
            <p:spPr>
              <a:xfrm>
                <a:off x="1979640" y="4797360"/>
                <a:ext cx="518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Натюрморт с голубой вазой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9" descr="D:\Documents and Settings\IrinaAnatol\Мои документы\Мои рисунки\с голубой вазой.jpg"/>
            <p:cNvPicPr/>
            <p:nvPr/>
          </p:nvPicPr>
          <p:blipFill>
            <a:blip r:embed="rId3"/>
            <a:stretch/>
          </p:blipFill>
          <p:spPr>
            <a:xfrm>
              <a:off x="2694600" y="623520"/>
              <a:ext cx="3322440" cy="387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Группа 25"/>
          <p:cNvGrpSpPr/>
          <p:nvPr/>
        </p:nvGrpSpPr>
        <p:grpSpPr>
          <a:xfrm>
            <a:off x="2071800" y="214200"/>
            <a:ext cx="5400720" cy="4984920"/>
            <a:chOff x="2071800" y="214200"/>
            <a:chExt cx="5400720" cy="4984920"/>
          </a:xfrm>
        </p:grpSpPr>
        <p:grpSp>
          <p:nvGrpSpPr>
            <p:cNvPr id="161" name="Группа 9"/>
            <p:cNvGrpSpPr/>
            <p:nvPr/>
          </p:nvGrpSpPr>
          <p:grpSpPr>
            <a:xfrm>
              <a:off x="2071800" y="214200"/>
              <a:ext cx="5400720" cy="4984920"/>
              <a:chOff x="2071800" y="214200"/>
              <a:chExt cx="5400720" cy="4984920"/>
            </a:xfrm>
          </p:grpSpPr>
          <p:pic>
            <p:nvPicPr>
              <p:cNvPr id="162" name="Picture 33" descr="C:\Users\Мила\Desktop\64895786_ramka_3.jpg"/>
              <p:cNvPicPr/>
              <p:nvPr/>
            </p:nvPicPr>
            <p:blipFill>
              <a:blip r:embed="rId4"/>
              <a:stretch/>
            </p:blipFill>
            <p:spPr>
              <a:xfrm>
                <a:off x="2071800" y="214200"/>
                <a:ext cx="5400720" cy="44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Прямоугольник 29"/>
              <p:cNvSpPr/>
              <p:nvPr/>
            </p:nvSpPr>
            <p:spPr>
              <a:xfrm>
                <a:off x="2792520" y="4678560"/>
                <a:ext cx="41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Натюрморт с корзиной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10" descr="D:\Documents and Settings\IrinaAnatol\Мои документы\Мои рисунки\с корзиной.jpg"/>
            <p:cNvPicPr/>
            <p:nvPr/>
          </p:nvPicPr>
          <p:blipFill>
            <a:blip r:embed="rId5"/>
            <a:stretch/>
          </p:blipFill>
          <p:spPr>
            <a:xfrm>
              <a:off x="2517120" y="631800"/>
              <a:ext cx="4580280" cy="362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163440" y="361800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Вместе с пейзажами и натюрмортами он создавал и портреты. Большинство портретов, имеет одно отличительное свойство: художник так мало заботился о сходстве с оригиналом, что его портреты кажутся портретами вообще. Героями портретов были его жена, которую он писал более сорока раз, и он сам. Сохранилось более 35 его автопортр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3"/>
          <p:cNvGrpSpPr/>
          <p:nvPr/>
        </p:nvGrpSpPr>
        <p:grpSpPr>
          <a:xfrm>
            <a:off x="2411280" y="333360"/>
            <a:ext cx="4105440" cy="5487840"/>
            <a:chOff x="2411280" y="333360"/>
            <a:chExt cx="4105440" cy="5487840"/>
          </a:xfrm>
        </p:grpSpPr>
        <p:grpSp>
          <p:nvGrpSpPr>
            <p:cNvPr id="168" name="Группа 9"/>
            <p:cNvGrpSpPr/>
            <p:nvPr/>
          </p:nvGrpSpPr>
          <p:grpSpPr>
            <a:xfrm>
              <a:off x="2411280" y="333360"/>
              <a:ext cx="4105440" cy="5487840"/>
              <a:chOff x="2411280" y="333360"/>
              <a:chExt cx="4105440" cy="5487840"/>
            </a:xfrm>
          </p:grpSpPr>
          <p:pic>
            <p:nvPicPr>
              <p:cNvPr id="169" name="Picture 33" descr="C:\Users\Мила\Desktop\64895786_ramka_3.jpg"/>
              <p:cNvPicPr/>
              <p:nvPr/>
            </p:nvPicPr>
            <p:blipFill>
              <a:blip r:embed="rId2"/>
              <a:stretch/>
            </p:blipFill>
            <p:spPr>
              <a:xfrm>
                <a:off x="2535120" y="333360"/>
                <a:ext cx="3909600" cy="496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Прямоугольник 7"/>
              <p:cNvSpPr/>
              <p:nvPr/>
            </p:nvSpPr>
            <p:spPr>
              <a:xfrm>
                <a:off x="2411280" y="5300640"/>
                <a:ext cx="41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Портрет мадам Сезанн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4" descr="D:\Documents and Settings\IrinaAnatol\Мои документы\Мои рисунки\Портрет мадам Сезанн.jpg"/>
            <p:cNvPicPr/>
            <p:nvPr/>
          </p:nvPicPr>
          <p:blipFill>
            <a:blip r:embed="rId3"/>
            <a:stretch/>
          </p:blipFill>
          <p:spPr>
            <a:xfrm>
              <a:off x="2867760" y="794880"/>
              <a:ext cx="3221640" cy="407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Группа 8"/>
          <p:cNvGrpSpPr/>
          <p:nvPr/>
        </p:nvGrpSpPr>
        <p:grpSpPr>
          <a:xfrm>
            <a:off x="2484360" y="333360"/>
            <a:ext cx="4105440" cy="5487840"/>
            <a:chOff x="2484360" y="333360"/>
            <a:chExt cx="4105440" cy="5487840"/>
          </a:xfrm>
        </p:grpSpPr>
        <p:grpSp>
          <p:nvGrpSpPr>
            <p:cNvPr id="173" name="Группа 9"/>
            <p:cNvGrpSpPr/>
            <p:nvPr/>
          </p:nvGrpSpPr>
          <p:grpSpPr>
            <a:xfrm>
              <a:off x="2484360" y="333360"/>
              <a:ext cx="4105440" cy="5487840"/>
              <a:chOff x="2484360" y="333360"/>
              <a:chExt cx="4105440" cy="5487840"/>
            </a:xfrm>
          </p:grpSpPr>
          <p:pic>
            <p:nvPicPr>
              <p:cNvPr id="174" name="Picture 33" descr="C:\Users\Мила\Desktop\64895786_ramka_3.jpg"/>
              <p:cNvPicPr/>
              <p:nvPr/>
            </p:nvPicPr>
            <p:blipFill>
              <a:blip r:embed="rId4"/>
              <a:stretch/>
            </p:blipFill>
            <p:spPr>
              <a:xfrm>
                <a:off x="2608200" y="333360"/>
                <a:ext cx="3909600" cy="496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Прямоугольник 12"/>
              <p:cNvSpPr/>
              <p:nvPr/>
            </p:nvSpPr>
            <p:spPr>
              <a:xfrm>
                <a:off x="2484360" y="5300640"/>
                <a:ext cx="41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Портрет мадам Сезанн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15" descr="D:\Documents and Settings\IrinaAnatol\Мои документы\Мои рисунки\03.jpg"/>
            <p:cNvPicPr/>
            <p:nvPr/>
          </p:nvPicPr>
          <p:blipFill>
            <a:blip r:embed="rId5"/>
            <a:stretch/>
          </p:blipFill>
          <p:spPr>
            <a:xfrm>
              <a:off x="2916360" y="765360"/>
              <a:ext cx="3241080" cy="41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4"/>
          <p:cNvGrpSpPr/>
          <p:nvPr/>
        </p:nvGrpSpPr>
        <p:grpSpPr>
          <a:xfrm>
            <a:off x="2627280" y="333360"/>
            <a:ext cx="3908520" cy="5487840"/>
            <a:chOff x="2627280" y="333360"/>
            <a:chExt cx="3908520" cy="5487840"/>
          </a:xfrm>
        </p:grpSpPr>
        <p:grpSp>
          <p:nvGrpSpPr>
            <p:cNvPr id="178" name="Группа 9"/>
            <p:cNvGrpSpPr/>
            <p:nvPr/>
          </p:nvGrpSpPr>
          <p:grpSpPr>
            <a:xfrm>
              <a:off x="2627280" y="333360"/>
              <a:ext cx="3908520" cy="5487840"/>
              <a:chOff x="2627280" y="333360"/>
              <a:chExt cx="3908520" cy="5487840"/>
            </a:xfrm>
          </p:grpSpPr>
          <p:pic>
            <p:nvPicPr>
              <p:cNvPr id="179" name="Picture 33" descr="C:\Users\Мила\Desktop\64895786_ramka_3.jpg"/>
              <p:cNvPicPr/>
              <p:nvPr/>
            </p:nvPicPr>
            <p:blipFill>
              <a:blip r:embed="rId6"/>
              <a:stretch/>
            </p:blipFill>
            <p:spPr>
              <a:xfrm>
                <a:off x="2627280" y="333360"/>
                <a:ext cx="3908520" cy="496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Прямоугольник 18"/>
              <p:cNvSpPr/>
              <p:nvPr/>
            </p:nvSpPr>
            <p:spPr>
              <a:xfrm>
                <a:off x="3367080" y="5300640"/>
                <a:ext cx="244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Автопортрет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1" name="Picture 16" descr="D:\Documents and Settings\IrinaAnatol\Мои документы\Мои рисунки\автопортрет.jpg"/>
            <p:cNvPicPr/>
            <p:nvPr/>
          </p:nvPicPr>
          <p:blipFill>
            <a:blip r:embed="rId7"/>
            <a:stretch/>
          </p:blipFill>
          <p:spPr>
            <a:xfrm>
              <a:off x="2935440" y="765360"/>
              <a:ext cx="3312360" cy="41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Группа 19"/>
          <p:cNvGrpSpPr/>
          <p:nvPr/>
        </p:nvGrpSpPr>
        <p:grpSpPr>
          <a:xfrm>
            <a:off x="2050920" y="404640"/>
            <a:ext cx="5257800" cy="5488200"/>
            <a:chOff x="2050920" y="404640"/>
            <a:chExt cx="5257800" cy="5488200"/>
          </a:xfrm>
        </p:grpSpPr>
        <p:grpSp>
          <p:nvGrpSpPr>
            <p:cNvPr id="183" name="Группа 9"/>
            <p:cNvGrpSpPr/>
            <p:nvPr/>
          </p:nvGrpSpPr>
          <p:grpSpPr>
            <a:xfrm>
              <a:off x="2050920" y="404640"/>
              <a:ext cx="5257800" cy="5488200"/>
              <a:chOff x="2050920" y="404640"/>
              <a:chExt cx="5257800" cy="5488200"/>
            </a:xfrm>
          </p:grpSpPr>
          <p:pic>
            <p:nvPicPr>
              <p:cNvPr id="184" name="Picture 33" descr="C:\Users\Мила\Desktop\64895786_ramka_3.jpg"/>
              <p:cNvPicPr/>
              <p:nvPr/>
            </p:nvPicPr>
            <p:blipFill>
              <a:blip r:embed="rId8"/>
              <a:stretch/>
            </p:blipFill>
            <p:spPr>
              <a:xfrm>
                <a:off x="2606760" y="404640"/>
                <a:ext cx="3909600" cy="49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Прямоугольник 23"/>
              <p:cNvSpPr/>
              <p:nvPr/>
            </p:nvSpPr>
            <p:spPr>
              <a:xfrm>
                <a:off x="2050920" y="5372280"/>
                <a:ext cx="525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Автопортрет на розовом фоне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17" descr="D:\Documents and Settings\IrinaAnatol\Мои документы\Мои рисунки\0_72332_ce649497_XL.jpg"/>
            <p:cNvPicPr/>
            <p:nvPr/>
          </p:nvPicPr>
          <p:blipFill>
            <a:blip r:embed="rId9"/>
            <a:stretch/>
          </p:blipFill>
          <p:spPr>
            <a:xfrm>
              <a:off x="2914920" y="836640"/>
              <a:ext cx="3312720" cy="41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8" name="Группа 24"/>
          <p:cNvGrpSpPr/>
          <p:nvPr/>
        </p:nvGrpSpPr>
        <p:grpSpPr>
          <a:xfrm>
            <a:off x="468360" y="765000"/>
            <a:ext cx="2603520" cy="3902400"/>
            <a:chOff x="468360" y="765000"/>
            <a:chExt cx="2603520" cy="3902400"/>
          </a:xfrm>
        </p:grpSpPr>
        <p:pic>
          <p:nvPicPr>
            <p:cNvPr id="189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468360" y="765000"/>
              <a:ext cx="2603520" cy="39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" descr="D:\Documents and Settings\IrinaAnatol\Мои документы\Мои рисунки\Тулуз.jpg"/>
            <p:cNvPicPr/>
            <p:nvPr/>
          </p:nvPicPr>
          <p:blipFill>
            <a:blip r:embed="rId3"/>
            <a:stretch/>
          </p:blipFill>
          <p:spPr>
            <a:xfrm>
              <a:off x="675720" y="1134000"/>
              <a:ext cx="2180160" cy="31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23"/>
          <p:cNvSpPr/>
          <p:nvPr/>
        </p:nvSpPr>
        <p:spPr>
          <a:xfrm>
            <a:off x="3132000" y="981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  <a:ea typeface="Times New Roman"/>
              </a:rPr>
              <a:t>Анри де Тулуз-Лот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4942440" y="2276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(1864-19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466560" y="5229360"/>
            <a:ext cx="86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Французский художник – постимпрессионист из графского рода, мастер графики и рекламного плак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Клод Дебюсси. Музыка ангелов_mp3cut.foxcom.su_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136440" y="4896000"/>
            <a:ext cx="889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Сугубо индивидуальной манере Анри де Тулуз-Лотрека свойственны обобщенный, гибкий и ломкий рисунок, длинные вибрирующие мазки, холодная гамма, оттененная крупными, яркими красочными пят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5"/>
          <p:cNvGrpSpPr/>
          <p:nvPr/>
        </p:nvGrpSpPr>
        <p:grpSpPr>
          <a:xfrm>
            <a:off x="2411280" y="189000"/>
            <a:ext cx="4464360" cy="6191280"/>
            <a:chOff x="2411280" y="189000"/>
            <a:chExt cx="4464360" cy="6191280"/>
          </a:xfrm>
        </p:grpSpPr>
        <p:pic>
          <p:nvPicPr>
            <p:cNvPr id="198" name="Picture 33" descr="C:\Users\Мила\Desktop\64895786_ramka_3.jpg"/>
            <p:cNvPicPr/>
            <p:nvPr/>
          </p:nvPicPr>
          <p:blipFill>
            <a:blip r:embed="rId2"/>
            <a:stretch/>
          </p:blipFill>
          <p:spPr>
            <a:xfrm>
              <a:off x="2411280" y="189000"/>
              <a:ext cx="4464360" cy="56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" descr="D:\Documents and Settings\IrinaAnatol\Мои документы\Мои рисунки\lautrec4.jpg"/>
            <p:cNvPicPr/>
            <p:nvPr/>
          </p:nvPicPr>
          <p:blipFill>
            <a:blip r:embed="rId3"/>
            <a:stretch/>
          </p:blipFill>
          <p:spPr>
            <a:xfrm>
              <a:off x="2771280" y="711360"/>
              <a:ext cx="375228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Прямоугольник 8"/>
            <p:cNvSpPr/>
            <p:nvPr/>
          </p:nvSpPr>
          <p:spPr>
            <a:xfrm>
              <a:off x="2771640" y="5859720"/>
              <a:ext cx="37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984807"/>
                  </a:solidFill>
                  <a:latin typeface="Calibri"/>
                </a:rPr>
                <a:t>«Чтение газеты в сад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0" y="4179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Великолепное мастерство рисовальщика Тулуз-Лотрека особенно ярко проявилось в литографированных театральных афишах с их графически-острым лаконизмом, декоративной броскостью цвета, причудливо-гибким рису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10"/>
          <p:cNvGrpSpPr/>
          <p:nvPr/>
        </p:nvGrpSpPr>
        <p:grpSpPr>
          <a:xfrm>
            <a:off x="2571840" y="142920"/>
            <a:ext cx="4464000" cy="6208560"/>
            <a:chOff x="2571840" y="142920"/>
            <a:chExt cx="4464000" cy="6208560"/>
          </a:xfrm>
        </p:grpSpPr>
        <p:grpSp>
          <p:nvGrpSpPr>
            <p:cNvPr id="204" name="Группа 6"/>
            <p:cNvGrpSpPr/>
            <p:nvPr/>
          </p:nvGrpSpPr>
          <p:grpSpPr>
            <a:xfrm>
              <a:off x="2571840" y="142920"/>
              <a:ext cx="4464000" cy="6208560"/>
              <a:chOff x="2571840" y="142920"/>
              <a:chExt cx="4464000" cy="6208560"/>
            </a:xfrm>
          </p:grpSpPr>
          <p:pic>
            <p:nvPicPr>
              <p:cNvPr id="205" name="Picture 33" descr="C:\Users\Мила\Desktop\64895786_ramka_3.jpg"/>
              <p:cNvPicPr/>
              <p:nvPr/>
            </p:nvPicPr>
            <p:blipFill>
              <a:blip r:embed="rId2"/>
              <a:stretch/>
            </p:blipFill>
            <p:spPr>
              <a:xfrm>
                <a:off x="2571840" y="142920"/>
                <a:ext cx="4464000" cy="568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Прямоугольник 14"/>
              <p:cNvSpPr/>
              <p:nvPr/>
            </p:nvSpPr>
            <p:spPr>
              <a:xfrm>
                <a:off x="3435480" y="583092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Джейн Авриль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Picture 6" descr="D:\Documents and Settings\IrinaAnatol\Мои документы\Мои рисунки\983199280.jpg"/>
            <p:cNvPicPr/>
            <p:nvPr/>
          </p:nvPicPr>
          <p:blipFill>
            <a:blip r:embed="rId3"/>
            <a:stretch/>
          </p:blipFill>
          <p:spPr>
            <a:xfrm>
              <a:off x="2931840" y="574920"/>
              <a:ext cx="3744000" cy="47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D:\Documents and Settings\IrinaAnatol\Мои документы\Мои рисунки\фоны\iCA0BTWPX.jpg"/>
          <p:cNvPicPr/>
          <p:nvPr/>
        </p:nvPicPr>
        <p:blipFill>
          <a:blip r:embed="rId2"/>
          <a:stretch/>
        </p:blipFill>
        <p:spPr>
          <a:xfrm>
            <a:off x="8244000" y="6093000"/>
            <a:ext cx="696960" cy="59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4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Просуществовав всего лишь до начала 1910-х годов, постимпрессионизм в европейском искусстве сказал довольно веское слово, предрешив пути развития живописи всего Х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Группа 4"/>
          <p:cNvGrpSpPr/>
          <p:nvPr/>
        </p:nvGrpSpPr>
        <p:grpSpPr>
          <a:xfrm>
            <a:off x="2987640" y="189000"/>
            <a:ext cx="3600360" cy="4911480"/>
            <a:chOff x="2987640" y="189000"/>
            <a:chExt cx="3600360" cy="4911480"/>
          </a:xfrm>
        </p:grpSpPr>
        <p:grpSp>
          <p:nvGrpSpPr>
            <p:cNvPr id="212" name="Группа 7"/>
            <p:cNvGrpSpPr/>
            <p:nvPr/>
          </p:nvGrpSpPr>
          <p:grpSpPr>
            <a:xfrm>
              <a:off x="2987640" y="189000"/>
              <a:ext cx="3600360" cy="4911480"/>
              <a:chOff x="2987640" y="189000"/>
              <a:chExt cx="3600360" cy="4911480"/>
            </a:xfrm>
          </p:grpSpPr>
          <p:pic>
            <p:nvPicPr>
              <p:cNvPr id="213" name="Picture 33" descr="C:\Users\Мила\Desktop\64895786_ramka_3.jpg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189000"/>
                <a:ext cx="3600360" cy="43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Прямоугольник 8"/>
              <p:cNvSpPr/>
              <p:nvPr/>
            </p:nvSpPr>
            <p:spPr>
              <a:xfrm>
                <a:off x="3274920" y="4579920"/>
                <a:ext cx="302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Сеятель». Ван Го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" name="Picture 4" descr="D:\Documents and Settings\IrinaAnatol\Мои документы\Мои рисунки\Van_gog_46-241x300.jpg"/>
            <p:cNvPicPr/>
            <p:nvPr/>
          </p:nvPicPr>
          <p:blipFill>
            <a:blip r:embed="rId4"/>
            <a:stretch/>
          </p:blipFill>
          <p:spPr>
            <a:xfrm>
              <a:off x="3275640" y="620640"/>
              <a:ext cx="3024360" cy="358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10"/>
          <p:cNvGrpSpPr/>
          <p:nvPr/>
        </p:nvGrpSpPr>
        <p:grpSpPr>
          <a:xfrm>
            <a:off x="6653880" y="692280"/>
            <a:ext cx="2093400" cy="2652120"/>
            <a:chOff x="6653880" y="692280"/>
            <a:chExt cx="2093400" cy="2652120"/>
          </a:xfrm>
        </p:grpSpPr>
        <p:pic>
          <p:nvPicPr>
            <p:cNvPr id="50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6734160" y="692280"/>
              <a:ext cx="201312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D:\Documents and Settings\IrinaAnatol\Мои документы\Мои рисунки\99.jpg"/>
            <p:cNvPicPr/>
            <p:nvPr/>
          </p:nvPicPr>
          <p:blipFill>
            <a:blip r:embed="rId3"/>
            <a:stretch/>
          </p:blipFill>
          <p:spPr>
            <a:xfrm>
              <a:off x="6913080" y="891000"/>
              <a:ext cx="166392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8"/>
            <p:cNvSpPr/>
            <p:nvPr/>
          </p:nvSpPr>
          <p:spPr>
            <a:xfrm>
              <a:off x="6653880" y="2884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15968"/>
                  </a:solidFill>
                  <a:latin typeface="Calibri"/>
                  <a:ea typeface="Times New Roman"/>
                </a:rPr>
                <a:t>В. Ван Го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4" descr="D:\Documents and Settings\IrinaAnatol\Мои документы\Мои рисунки\Сеть тв\0_7214a_68210ab2_XL.png"/>
          <p:cNvPicPr/>
          <p:nvPr/>
        </p:nvPicPr>
        <p:blipFill>
          <a:blip r:embed="rId4"/>
          <a:stretch/>
        </p:blipFill>
        <p:spPr>
          <a:xfrm>
            <a:off x="179280" y="765000"/>
            <a:ext cx="2681280" cy="225288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6" descr=""/>
          <p:cNvPicPr/>
          <p:nvPr/>
        </p:nvPicPr>
        <p:blipFill>
          <a:blip r:embed="rId5"/>
          <a:stretch/>
        </p:blipFill>
        <p:spPr>
          <a:xfrm>
            <a:off x="353880" y="371520"/>
            <a:ext cx="24447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20"/>
          <p:cNvGrpSpPr/>
          <p:nvPr/>
        </p:nvGrpSpPr>
        <p:grpSpPr>
          <a:xfrm>
            <a:off x="3564000" y="3789360"/>
            <a:ext cx="1944720" cy="2763360"/>
            <a:chOff x="3564000" y="3789360"/>
            <a:chExt cx="1944720" cy="2763360"/>
          </a:xfrm>
        </p:grpSpPr>
        <p:pic>
          <p:nvPicPr>
            <p:cNvPr id="56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6"/>
            <a:stretch/>
          </p:blipFill>
          <p:spPr>
            <a:xfrm>
              <a:off x="3564000" y="3789360"/>
              <a:ext cx="1944720" cy="23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D:\Documents and Settings\IrinaAnatol\Мои документы\Мои рисунки\сезанн.jpg"/>
            <p:cNvPicPr/>
            <p:nvPr/>
          </p:nvPicPr>
          <p:blipFill>
            <a:blip r:embed="rId7"/>
            <a:stretch/>
          </p:blipFill>
          <p:spPr>
            <a:xfrm>
              <a:off x="3738600" y="4012200"/>
              <a:ext cx="161100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18"/>
            <p:cNvSpPr/>
            <p:nvPr/>
          </p:nvSpPr>
          <p:spPr>
            <a:xfrm>
              <a:off x="3933720" y="609300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15968"/>
                  </a:solidFill>
                  <a:latin typeface="Calibri"/>
                  <a:ea typeface="Times New Roman"/>
                </a:rPr>
                <a:t>П.Сезан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24"/>
          <p:cNvGrpSpPr/>
          <p:nvPr/>
        </p:nvGrpSpPr>
        <p:grpSpPr>
          <a:xfrm>
            <a:off x="250920" y="3789360"/>
            <a:ext cx="2736720" cy="2820240"/>
            <a:chOff x="250920" y="3789360"/>
            <a:chExt cx="2736720" cy="2820240"/>
          </a:xfrm>
        </p:grpSpPr>
        <p:pic>
          <p:nvPicPr>
            <p:cNvPr id="60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8"/>
            <a:stretch/>
          </p:blipFill>
          <p:spPr>
            <a:xfrm>
              <a:off x="505440" y="3789360"/>
              <a:ext cx="1761840" cy="230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D:\Documents and Settings\IrinaAnatol\Мои документы\Мои рисунки\Тулуз.jpg"/>
            <p:cNvPicPr/>
            <p:nvPr/>
          </p:nvPicPr>
          <p:blipFill>
            <a:blip r:embed="rId9"/>
            <a:stretch/>
          </p:blipFill>
          <p:spPr>
            <a:xfrm>
              <a:off x="657360" y="4007520"/>
              <a:ext cx="14662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8"/>
            <p:cNvSpPr/>
            <p:nvPr/>
          </p:nvSpPr>
          <p:spPr>
            <a:xfrm>
              <a:off x="250920" y="614988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15968"/>
                  </a:solidFill>
                  <a:latin typeface="Calibri"/>
                  <a:ea typeface="Times New Roman"/>
                </a:rPr>
                <a:t>А. де Тулуз-Лотре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0"/>
          <p:cNvGrpSpPr/>
          <p:nvPr/>
        </p:nvGrpSpPr>
        <p:grpSpPr>
          <a:xfrm>
            <a:off x="6588000" y="3789360"/>
            <a:ext cx="2160720" cy="2682360"/>
            <a:chOff x="6588000" y="3789360"/>
            <a:chExt cx="2160720" cy="2682360"/>
          </a:xfrm>
        </p:grpSpPr>
        <p:pic>
          <p:nvPicPr>
            <p:cNvPr id="64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10"/>
            <a:stretch/>
          </p:blipFill>
          <p:spPr>
            <a:xfrm>
              <a:off x="6588000" y="3789360"/>
              <a:ext cx="2160720" cy="222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D:\Documents and Settings\IrinaAnatol\Мои документы\Мои рисунки\гоген.jpg"/>
            <p:cNvPicPr/>
            <p:nvPr/>
          </p:nvPicPr>
          <p:blipFill>
            <a:blip r:embed="rId11"/>
            <a:stretch/>
          </p:blipFill>
          <p:spPr>
            <a:xfrm>
              <a:off x="6757200" y="4020840"/>
              <a:ext cx="1811160" cy="17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8"/>
            <p:cNvSpPr/>
            <p:nvPr/>
          </p:nvSpPr>
          <p:spPr>
            <a:xfrm>
              <a:off x="7045920" y="60120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15968"/>
                  </a:solidFill>
                  <a:latin typeface="Calibri"/>
                  <a:ea typeface="Times New Roman"/>
                </a:rPr>
                <a:t>П. Гог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Рисунок 15" descr="D:\Documents and Settings\IrinaAnatol\Мои документы\Мои рисунки\paintbrushes.jpg"/>
          <p:cNvPicPr/>
          <p:nvPr/>
        </p:nvPicPr>
        <p:blipFill>
          <a:blip r:embed="rId12"/>
          <a:stretch/>
        </p:blipFill>
        <p:spPr>
          <a:xfrm>
            <a:off x="826920" y="1628640"/>
            <a:ext cx="1285920" cy="11509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2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994040" y="1073160"/>
            <a:ext cx="12618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7338 L 0.68577 -0.03125 E">
                                      <p:cBhvr>
                                        <p:cTn id="25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577 -0.03125 L 0.68577 0.46226 E">
                                      <p:cBhvr>
                                        <p:cTn id="2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577 0.46227 L 0.31563 0.45186 E">
                                      <p:cBhvr>
                                        <p:cTn id="31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63 0.45186 L -0.0309 0.45186 E">
                                      <p:cBhvr>
                                        <p:cTn id="34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45185 L 0.02431 0.02129 E">
                                      <p:cBhvr>
                                        <p:cTn id="3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0" y="374976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Постимпрессионизм (от фр. 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postimpressionisme – 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после импрессионизма) – совокупность разрозненных течений изобразительного искусства, возникших во Франции во второй половине 80-х годов 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 века как реакция на разложение импрессионизма и попытка на его основе осуществить собственные 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эстетические иск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26"/>
          <p:cNvGrpSpPr/>
          <p:nvPr/>
        </p:nvGrpSpPr>
        <p:grpSpPr>
          <a:xfrm>
            <a:off x="1857240" y="642960"/>
            <a:ext cx="2232000" cy="2519280"/>
            <a:chOff x="1857240" y="642960"/>
            <a:chExt cx="2232000" cy="2519280"/>
          </a:xfrm>
        </p:grpSpPr>
        <p:pic>
          <p:nvPicPr>
            <p:cNvPr id="72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1857240" y="642960"/>
              <a:ext cx="223200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D:\Documents and Settings\IrinaAnatol\Мои документы\Мои рисунки\Подсолнухи.jpg"/>
            <p:cNvPicPr/>
            <p:nvPr/>
          </p:nvPicPr>
          <p:blipFill>
            <a:blip r:embed="rId3"/>
            <a:stretch/>
          </p:blipFill>
          <p:spPr>
            <a:xfrm>
              <a:off x="2066400" y="889920"/>
              <a:ext cx="1851840" cy="20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Группа 20"/>
          <p:cNvGrpSpPr/>
          <p:nvPr/>
        </p:nvGrpSpPr>
        <p:grpSpPr>
          <a:xfrm>
            <a:off x="5643720" y="571680"/>
            <a:ext cx="2160360" cy="2590560"/>
            <a:chOff x="5643720" y="571680"/>
            <a:chExt cx="2160360" cy="2590560"/>
          </a:xfrm>
        </p:grpSpPr>
        <p:pic>
          <p:nvPicPr>
            <p:cNvPr id="75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4"/>
            <a:stretch/>
          </p:blipFill>
          <p:spPr>
            <a:xfrm>
              <a:off x="5643720" y="571680"/>
              <a:ext cx="21603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D:\Documents and Settings\IrinaAnatol\Мои документы\Мои рисунки\Пейзаж слежащей женщиной.jpg"/>
            <p:cNvPicPr/>
            <p:nvPr/>
          </p:nvPicPr>
          <p:blipFill>
            <a:blip r:embed="rId5"/>
            <a:stretch/>
          </p:blipFill>
          <p:spPr>
            <a:xfrm>
              <a:off x="5844600" y="770760"/>
              <a:ext cx="1763280" cy="221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3"/>
          <p:cNvSpPr/>
          <p:nvPr/>
        </p:nvSpPr>
        <p:spPr>
          <a:xfrm>
            <a:off x="3851280" y="105264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  <a:ea typeface="Times New Roman"/>
              </a:rPr>
              <a:t>Винсент Ван Г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446440" y="2205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(1854-18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0"/>
          <p:cNvGrpSpPr/>
          <p:nvPr/>
        </p:nvGrpSpPr>
        <p:grpSpPr>
          <a:xfrm>
            <a:off x="468360" y="836640"/>
            <a:ext cx="3166920" cy="3529080"/>
            <a:chOff x="468360" y="836640"/>
            <a:chExt cx="3166920" cy="3529080"/>
          </a:xfrm>
        </p:grpSpPr>
        <p:pic>
          <p:nvPicPr>
            <p:cNvPr id="81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468360" y="836640"/>
              <a:ext cx="316692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D:\Documents and Settings\IrinaAnatol\Мои документы\Мои рисунки\99.jpg"/>
            <p:cNvPicPr/>
            <p:nvPr/>
          </p:nvPicPr>
          <p:blipFill>
            <a:blip r:embed="rId3"/>
            <a:stretch/>
          </p:blipFill>
          <p:spPr>
            <a:xfrm>
              <a:off x="749880" y="1157400"/>
              <a:ext cx="2617560" cy="28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Прямоугольник 9"/>
          <p:cNvSpPr/>
          <p:nvPr/>
        </p:nvSpPr>
        <p:spPr>
          <a:xfrm>
            <a:off x="395280" y="443700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Величайший художник постимпрессионизма, родоначальник экспрессионизма – течения 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 века. Это был художник, создавший максимально яркие художественные образы путем синтеза рисунка и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Клод Дебюсси. Мелодия слёз_mp3cut.foxcom.su_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79280" y="47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Серия картин с изображением подсолнухов стала одним из самых знаменитых произведений художника. Наряду с фантастической "Звездной ночью" подсолнухи стали, своего рода, символом живописи Ван Г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"/>
          <p:cNvGrpSpPr/>
          <p:nvPr/>
        </p:nvGrpSpPr>
        <p:grpSpPr>
          <a:xfrm>
            <a:off x="2195640" y="260280"/>
            <a:ext cx="6480000" cy="6064200"/>
            <a:chOff x="2195640" y="260280"/>
            <a:chExt cx="6480000" cy="6064200"/>
          </a:xfrm>
        </p:grpSpPr>
        <p:grpSp>
          <p:nvGrpSpPr>
            <p:cNvPr id="88" name="Группа 8"/>
            <p:cNvGrpSpPr/>
            <p:nvPr/>
          </p:nvGrpSpPr>
          <p:grpSpPr>
            <a:xfrm>
              <a:off x="2195640" y="260280"/>
              <a:ext cx="6480000" cy="6064200"/>
              <a:chOff x="2195640" y="260280"/>
              <a:chExt cx="6480000" cy="6064200"/>
            </a:xfrm>
          </p:grpSpPr>
          <p:pic>
            <p:nvPicPr>
              <p:cNvPr id="89" name="Picture 33" descr="C:\Users\Мила\Desktop\64895786_ramka_3.jpg"/>
              <p:cNvPicPr/>
              <p:nvPr/>
            </p:nvPicPr>
            <p:blipFill>
              <a:blip r:embed="rId2"/>
              <a:stretch/>
            </p:blipFill>
            <p:spPr>
              <a:xfrm>
                <a:off x="2843640" y="260280"/>
                <a:ext cx="4392000" cy="55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Прямоугольник 7"/>
              <p:cNvSpPr/>
              <p:nvPr/>
            </p:nvSpPr>
            <p:spPr>
              <a:xfrm>
                <a:off x="2195640" y="5803920"/>
                <a:ext cx="648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Ваза с двенадцатью подсолнухами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4" descr="D:\Documents and Settings\IrinaAnatol\Мои документы\Мои рисунки\12-sunflowers.jpg"/>
            <p:cNvPicPr/>
            <p:nvPr/>
          </p:nvPicPr>
          <p:blipFill>
            <a:blip r:embed="rId3"/>
            <a:stretch/>
          </p:blipFill>
          <p:spPr>
            <a:xfrm>
              <a:off x="3203640" y="620280"/>
              <a:ext cx="3741120" cy="46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Группа 8"/>
          <p:cNvGrpSpPr/>
          <p:nvPr/>
        </p:nvGrpSpPr>
        <p:grpSpPr>
          <a:xfrm>
            <a:off x="2124000" y="260280"/>
            <a:ext cx="6193080" cy="5965920"/>
            <a:chOff x="2124000" y="260280"/>
            <a:chExt cx="6193080" cy="5965920"/>
          </a:xfrm>
        </p:grpSpPr>
        <p:grpSp>
          <p:nvGrpSpPr>
            <p:cNvPr id="93" name="Группа 8"/>
            <p:cNvGrpSpPr/>
            <p:nvPr/>
          </p:nvGrpSpPr>
          <p:grpSpPr>
            <a:xfrm>
              <a:off x="2124000" y="260280"/>
              <a:ext cx="6193080" cy="5965920"/>
              <a:chOff x="2124000" y="260280"/>
              <a:chExt cx="6193080" cy="5965920"/>
            </a:xfrm>
          </p:grpSpPr>
          <p:pic>
            <p:nvPicPr>
              <p:cNvPr id="94" name="Picture 33" descr="C:\Users\Мила\Desktop\64895786_ramka_3.jpg"/>
              <p:cNvPicPr/>
              <p:nvPr/>
            </p:nvPicPr>
            <p:blipFill>
              <a:blip r:embed="rId4"/>
              <a:stretch/>
            </p:blipFill>
            <p:spPr>
              <a:xfrm>
                <a:off x="2844000" y="260280"/>
                <a:ext cx="4392720" cy="55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Прямоугольник 12"/>
              <p:cNvSpPr/>
              <p:nvPr/>
            </p:nvSpPr>
            <p:spPr>
              <a:xfrm>
                <a:off x="2124000" y="5705640"/>
                <a:ext cx="619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Ваза  с пятью подсолнухами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Picture 5" descr="D:\Documents and Settings\IrinaAnatol\Мои документы\Мои рисунки\5 под.jpg"/>
            <p:cNvPicPr/>
            <p:nvPr/>
          </p:nvPicPr>
          <p:blipFill>
            <a:blip r:embed="rId5"/>
            <a:stretch/>
          </p:blipFill>
          <p:spPr>
            <a:xfrm>
              <a:off x="3204000" y="764280"/>
              <a:ext cx="3672360" cy="45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Группа 13"/>
          <p:cNvGrpSpPr/>
          <p:nvPr/>
        </p:nvGrpSpPr>
        <p:grpSpPr>
          <a:xfrm>
            <a:off x="971640" y="189000"/>
            <a:ext cx="7553160" cy="5965560"/>
            <a:chOff x="971640" y="189000"/>
            <a:chExt cx="7553160" cy="5965560"/>
          </a:xfrm>
        </p:grpSpPr>
        <p:grpSp>
          <p:nvGrpSpPr>
            <p:cNvPr id="98" name="Группа 8"/>
            <p:cNvGrpSpPr/>
            <p:nvPr/>
          </p:nvGrpSpPr>
          <p:grpSpPr>
            <a:xfrm>
              <a:off x="971640" y="189000"/>
              <a:ext cx="7553160" cy="5965560"/>
              <a:chOff x="971640" y="189000"/>
              <a:chExt cx="7553160" cy="5965560"/>
            </a:xfrm>
          </p:grpSpPr>
          <p:pic>
            <p:nvPicPr>
              <p:cNvPr id="99" name="Picture 33" descr="C:\Users\Мила\Desktop\64895786_ramka_3.jpg"/>
              <p:cNvPicPr/>
              <p:nvPr/>
            </p:nvPicPr>
            <p:blipFill>
              <a:blip r:embed="rId6"/>
              <a:stretch/>
            </p:blipFill>
            <p:spPr>
              <a:xfrm>
                <a:off x="971640" y="189000"/>
                <a:ext cx="7553160" cy="54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Прямоугольник 17"/>
              <p:cNvSpPr/>
              <p:nvPr/>
            </p:nvSpPr>
            <p:spPr>
              <a:xfrm>
                <a:off x="2411280" y="5634000"/>
                <a:ext cx="48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984807"/>
                    </a:solidFill>
                    <a:latin typeface="Calibri"/>
                  </a:rPr>
                  <a:t>«</a:t>
                </a: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Два срезанных подсолнуха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Picture 6" descr="D:\Documents and Settings\IrinaAnatol\Мои документы\Мои рисунки\два срезаннных подсол.jpg"/>
            <p:cNvPicPr/>
            <p:nvPr/>
          </p:nvPicPr>
          <p:blipFill>
            <a:blip r:embed="rId7"/>
            <a:stretch/>
          </p:blipFill>
          <p:spPr>
            <a:xfrm>
              <a:off x="1619640" y="665640"/>
              <a:ext cx="6235560" cy="440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18"/>
          <p:cNvGrpSpPr/>
          <p:nvPr/>
        </p:nvGrpSpPr>
        <p:grpSpPr>
          <a:xfrm>
            <a:off x="2357280" y="214200"/>
            <a:ext cx="4537080" cy="5991120"/>
            <a:chOff x="2357280" y="214200"/>
            <a:chExt cx="4537080" cy="5991120"/>
          </a:xfrm>
        </p:grpSpPr>
        <p:grpSp>
          <p:nvGrpSpPr>
            <p:cNvPr id="103" name="Группа 8"/>
            <p:cNvGrpSpPr/>
            <p:nvPr/>
          </p:nvGrpSpPr>
          <p:grpSpPr>
            <a:xfrm>
              <a:off x="2357280" y="214200"/>
              <a:ext cx="4537080" cy="5991120"/>
              <a:chOff x="2357280" y="214200"/>
              <a:chExt cx="4537080" cy="5991120"/>
            </a:xfrm>
          </p:grpSpPr>
          <p:pic>
            <p:nvPicPr>
              <p:cNvPr id="104" name="Picture 33" descr="C:\Users\Мила\Desktop\64895786_ramka_3.jpg"/>
              <p:cNvPicPr/>
              <p:nvPr/>
            </p:nvPicPr>
            <p:blipFill>
              <a:blip r:embed="rId8"/>
              <a:stretch/>
            </p:blipFill>
            <p:spPr>
              <a:xfrm>
                <a:off x="2357280" y="214200"/>
                <a:ext cx="4537080" cy="53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Прямоугольник 22"/>
              <p:cNvSpPr/>
              <p:nvPr/>
            </p:nvSpPr>
            <p:spPr>
              <a:xfrm>
                <a:off x="2563560" y="5684760"/>
                <a:ext cx="41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Три подсолнуха в вазе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7" descr="D:\Documents and Settings\IrinaAnatol\Мои документы\Мои рисунки\three-sunflowers-in-a-vase.jpg"/>
            <p:cNvPicPr/>
            <p:nvPr/>
          </p:nvPicPr>
          <p:blipFill>
            <a:blip r:embed="rId9"/>
            <a:stretch/>
          </p:blipFill>
          <p:spPr>
            <a:xfrm>
              <a:off x="2707920" y="717840"/>
              <a:ext cx="3817080" cy="439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461160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Признанным шедевром художника является картина «Звёздная ночь». Ван Гог говорил: «Вид звёзд заставляет меня мечтать». Своеобразным воплощением мечты стала и эта картина, созданная за несколько месяцев до смерти худо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7"/>
          <p:cNvGrpSpPr/>
          <p:nvPr/>
        </p:nvGrpSpPr>
        <p:grpSpPr>
          <a:xfrm>
            <a:off x="1611360" y="93600"/>
            <a:ext cx="6121440" cy="4248360"/>
            <a:chOff x="1611360" y="93600"/>
            <a:chExt cx="6121440" cy="4248360"/>
          </a:xfrm>
        </p:grpSpPr>
        <p:pic>
          <p:nvPicPr>
            <p:cNvPr id="110" name="Picture 33" descr="C:\Users\Мила\Desktop\64895786_ramka_3.jpg"/>
            <p:cNvPicPr/>
            <p:nvPr/>
          </p:nvPicPr>
          <p:blipFill>
            <a:blip r:embed="rId2"/>
            <a:stretch/>
          </p:blipFill>
          <p:spPr>
            <a:xfrm>
              <a:off x="1611360" y="93600"/>
              <a:ext cx="6121440" cy="42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D:\Documents and Settings\IrinaAnatol\Мои документы\Мои рисунки\3.jpg"/>
            <p:cNvPicPr/>
            <p:nvPr/>
          </p:nvPicPr>
          <p:blipFill>
            <a:blip r:embed="rId3"/>
            <a:stretch/>
          </p:blipFill>
          <p:spPr>
            <a:xfrm>
              <a:off x="2115720" y="525240"/>
              <a:ext cx="5081760" cy="346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14" descr="D:\Documents and Settings\IrinaAnatol\Мои документы\Мои рисунки\фоны\iCA0BTWPX.jpg"/>
          <p:cNvPicPr/>
          <p:nvPr/>
        </p:nvPicPr>
        <p:blipFill>
          <a:blip r:embed="rId4"/>
          <a:stretch/>
        </p:blipFill>
        <p:spPr>
          <a:xfrm>
            <a:off x="8269200" y="6132600"/>
            <a:ext cx="69696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2689920" y="4365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ashtube.ru/video/22156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3"/>
          <p:cNvSpPr/>
          <p:nvPr/>
        </p:nvSpPr>
        <p:spPr>
          <a:xfrm>
            <a:off x="4067280" y="119700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  <a:ea typeface="Times New Roman"/>
              </a:rPr>
              <a:t>Поль Г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374800" y="2060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(1848-19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10"/>
          <p:cNvGrpSpPr/>
          <p:nvPr/>
        </p:nvGrpSpPr>
        <p:grpSpPr>
          <a:xfrm>
            <a:off x="395280" y="620640"/>
            <a:ext cx="3600360" cy="3816360"/>
            <a:chOff x="395280" y="620640"/>
            <a:chExt cx="3600360" cy="3816360"/>
          </a:xfrm>
        </p:grpSpPr>
        <p:pic>
          <p:nvPicPr>
            <p:cNvPr id="118" name="Рисунок 14" descr="D:\Documents and Settings\IrinaAnatol\Мои документы\Мои рисунки\Сеть тв\f4efadc83a3a.png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360036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D:\Documents and Settings\IrinaAnatol\Мои документы\Мои рисунки\гоген.jpg"/>
            <p:cNvPicPr/>
            <p:nvPr/>
          </p:nvPicPr>
          <p:blipFill>
            <a:blip r:embed="rId3"/>
            <a:stretch/>
          </p:blipFill>
          <p:spPr>
            <a:xfrm>
              <a:off x="677520" y="980640"/>
              <a:ext cx="3018240" cy="30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Прямоугольник 9"/>
          <p:cNvSpPr/>
          <p:nvPr/>
        </p:nvSpPr>
        <p:spPr>
          <a:xfrm>
            <a:off x="176040" y="4816440"/>
            <a:ext cx="88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Один из самых значительных художников постимпрессионистов, скульптор - керамист и график. В 22 года самостоятельно занялся живописью, к 35 годам решил полностью посвятить себя искус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Клод Дебюсси. Музыка ангелов_mp3cut.foxcom.su_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176040" y="4816440"/>
            <a:ext cx="885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Испытывая с детства тягу к природе художник в 1891 году уезжает на Таити. Здесь Гоген находит гармонию со щедрой тропической природой, его вдохновляют народное творчество с наивным восприят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3"/>
          <p:cNvGrpSpPr/>
          <p:nvPr/>
        </p:nvGrpSpPr>
        <p:grpSpPr>
          <a:xfrm>
            <a:off x="1258920" y="333360"/>
            <a:ext cx="6408720" cy="5559480"/>
            <a:chOff x="1258920" y="333360"/>
            <a:chExt cx="6408720" cy="5559480"/>
          </a:xfrm>
        </p:grpSpPr>
        <p:grpSp>
          <p:nvGrpSpPr>
            <p:cNvPr id="125" name="Группа 8"/>
            <p:cNvGrpSpPr/>
            <p:nvPr/>
          </p:nvGrpSpPr>
          <p:grpSpPr>
            <a:xfrm>
              <a:off x="1258920" y="333360"/>
              <a:ext cx="6408720" cy="5559480"/>
              <a:chOff x="1258920" y="333360"/>
              <a:chExt cx="6408720" cy="5559480"/>
            </a:xfrm>
          </p:grpSpPr>
          <p:pic>
            <p:nvPicPr>
              <p:cNvPr id="126" name="Picture 33" descr="C:\Users\Мила\Desktop\64895786_ramka_3.jpg"/>
              <p:cNvPicPr/>
              <p:nvPr/>
            </p:nvPicPr>
            <p:blipFill>
              <a:blip r:embed="rId2"/>
              <a:stretch/>
            </p:blipFill>
            <p:spPr>
              <a:xfrm>
                <a:off x="1258920" y="333360"/>
                <a:ext cx="6408720" cy="49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Прямоугольник 7"/>
              <p:cNvSpPr/>
              <p:nvPr/>
            </p:nvSpPr>
            <p:spPr>
              <a:xfrm>
                <a:off x="2554200" y="5372280"/>
                <a:ext cx="403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Таитянский пейзаж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Picture 12" descr="D:\Documents and Settings\IrinaAnatol\Мои документы\Мои рисунки\Таитянский пейзаж.jpg"/>
            <p:cNvPicPr/>
            <p:nvPr/>
          </p:nvPicPr>
          <p:blipFill>
            <a:blip r:embed="rId3"/>
            <a:stretch/>
          </p:blipFill>
          <p:spPr>
            <a:xfrm>
              <a:off x="1834920" y="837000"/>
              <a:ext cx="5250240" cy="393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Группа 8"/>
          <p:cNvGrpSpPr/>
          <p:nvPr/>
        </p:nvGrpSpPr>
        <p:grpSpPr>
          <a:xfrm>
            <a:off x="1042920" y="333360"/>
            <a:ext cx="7128000" cy="5776920"/>
            <a:chOff x="1042920" y="333360"/>
            <a:chExt cx="7128000" cy="5776920"/>
          </a:xfrm>
        </p:grpSpPr>
        <p:grpSp>
          <p:nvGrpSpPr>
            <p:cNvPr id="130" name="Группа 8"/>
            <p:cNvGrpSpPr/>
            <p:nvPr/>
          </p:nvGrpSpPr>
          <p:grpSpPr>
            <a:xfrm>
              <a:off x="1042920" y="333360"/>
              <a:ext cx="7128000" cy="5776920"/>
              <a:chOff x="1042920" y="333360"/>
              <a:chExt cx="7128000" cy="5776920"/>
            </a:xfrm>
          </p:grpSpPr>
          <p:pic>
            <p:nvPicPr>
              <p:cNvPr id="131" name="Picture 33" descr="C:\Users\Мила\Desktop\64895786_ramka_3.jpg"/>
              <p:cNvPicPr/>
              <p:nvPr/>
            </p:nvPicPr>
            <p:blipFill>
              <a:blip r:embed="rId4"/>
              <a:stretch/>
            </p:blipFill>
            <p:spPr>
              <a:xfrm>
                <a:off x="1042920" y="333360"/>
                <a:ext cx="7128000" cy="52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Прямоугольник 12"/>
              <p:cNvSpPr/>
              <p:nvPr/>
            </p:nvSpPr>
            <p:spPr>
              <a:xfrm>
                <a:off x="2554200" y="5589720"/>
                <a:ext cx="403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Таитянские женщины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Picture 13" descr="D:\Documents and Settings\IrinaAnatol\Мои документы\Мои рисунки\таитянские женщины.jpg"/>
            <p:cNvPicPr/>
            <p:nvPr/>
          </p:nvPicPr>
          <p:blipFill>
            <a:blip r:embed="rId5"/>
            <a:stretch/>
          </p:blipFill>
          <p:spPr>
            <a:xfrm>
              <a:off x="1546920" y="837360"/>
              <a:ext cx="6085440" cy="427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Группа 13"/>
          <p:cNvGrpSpPr/>
          <p:nvPr/>
        </p:nvGrpSpPr>
        <p:grpSpPr>
          <a:xfrm>
            <a:off x="1835280" y="333360"/>
            <a:ext cx="5688000" cy="5776920"/>
            <a:chOff x="1835280" y="333360"/>
            <a:chExt cx="5688000" cy="5776920"/>
          </a:xfrm>
        </p:grpSpPr>
        <p:grpSp>
          <p:nvGrpSpPr>
            <p:cNvPr id="135" name="Группа 8"/>
            <p:cNvGrpSpPr/>
            <p:nvPr/>
          </p:nvGrpSpPr>
          <p:grpSpPr>
            <a:xfrm>
              <a:off x="1835280" y="333360"/>
              <a:ext cx="5688000" cy="5776920"/>
              <a:chOff x="1835280" y="333360"/>
              <a:chExt cx="5688000" cy="5776920"/>
            </a:xfrm>
          </p:grpSpPr>
          <p:pic>
            <p:nvPicPr>
              <p:cNvPr id="136" name="Picture 33" descr="C:\Users\Мила\Desktop\64895786_ramka_3.jpg"/>
              <p:cNvPicPr/>
              <p:nvPr/>
            </p:nvPicPr>
            <p:blipFill>
              <a:blip r:embed="rId6"/>
              <a:stretch/>
            </p:blipFill>
            <p:spPr>
              <a:xfrm>
                <a:off x="1835280" y="333360"/>
                <a:ext cx="5688000" cy="52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Прямоугольник 17"/>
              <p:cNvSpPr/>
              <p:nvPr/>
            </p:nvSpPr>
            <p:spPr>
              <a:xfrm>
                <a:off x="3635280" y="5589720"/>
                <a:ext cx="273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984807"/>
                    </a:solidFill>
                    <a:latin typeface="Calibri"/>
                  </a:rPr>
                  <a:t>«Две девушки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Picture 14" descr="D:\Documents and Settings\IrinaAnatol\Мои документы\Мои рисунки\две девушки.jpg"/>
            <p:cNvPicPr/>
            <p:nvPr/>
          </p:nvPicPr>
          <p:blipFill>
            <a:blip r:embed="rId7"/>
            <a:stretch/>
          </p:blipFill>
          <p:spPr>
            <a:xfrm>
              <a:off x="2339280" y="837360"/>
              <a:ext cx="4752000" cy="421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:\Documents and Settings\IrinaAnatol\Мои документы\Мои рисунки\14.png"/>
          <p:cNvPicPr/>
          <p:nvPr/>
        </p:nvPicPr>
        <p:blipFill>
          <a:blip r:embed="rId1"/>
          <a:srcRect l="5121" t="6255" r="6689" b="6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63440" y="452916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В большом панно «Откуда мы? Кто мы? Куда идем?», собраны вместе различные фигуры, являвшиеся мотивами прежних его произведений. Здесь как бы обобщены бесконечные вопросы, поставленные в прежних работах Го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5"/>
          <p:cNvGrpSpPr/>
          <p:nvPr/>
        </p:nvGrpSpPr>
        <p:grpSpPr>
          <a:xfrm>
            <a:off x="250920" y="142920"/>
            <a:ext cx="8893080" cy="4241880"/>
            <a:chOff x="250920" y="142920"/>
            <a:chExt cx="8893080" cy="4241880"/>
          </a:xfrm>
        </p:grpSpPr>
        <p:pic>
          <p:nvPicPr>
            <p:cNvPr id="142" name="Picture 33" descr="C:\Users\Мила\Desktop\64895786_ramka_3.jpg"/>
            <p:cNvPicPr/>
            <p:nvPr/>
          </p:nvPicPr>
          <p:blipFill>
            <a:blip r:embed="rId2"/>
            <a:stretch/>
          </p:blipFill>
          <p:spPr>
            <a:xfrm>
              <a:off x="250920" y="142920"/>
              <a:ext cx="8893080" cy="424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9" descr="D:\Documents and Settings\IrinaAnatol\Мои документы\Мои рисунки\Woher_kommen_wir_Wer_sind_wir_Wohin_gehen_wir.jpg"/>
            <p:cNvPicPr/>
            <p:nvPr/>
          </p:nvPicPr>
          <p:blipFill>
            <a:blip r:embed="rId3"/>
            <a:stretch/>
          </p:blipFill>
          <p:spPr>
            <a:xfrm>
              <a:off x="903600" y="541440"/>
              <a:ext cx="7620480" cy="348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14" descr="D:\Documents and Settings\IrinaAnatol\Мои документы\Мои рисунки\фоны\iCA0BTWPX.jpg"/>
          <p:cNvPicPr/>
          <p:nvPr/>
        </p:nvPicPr>
        <p:blipFill>
          <a:blip r:embed="rId4"/>
          <a:stretch/>
        </p:blipFill>
        <p:spPr>
          <a:xfrm>
            <a:off x="8244000" y="6072120"/>
            <a:ext cx="6969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1:58:31Z</dcterms:created>
  <dc:creator>Irina</dc:creator>
  <dc:description/>
  <dc:language>en-US</dc:language>
  <cp:lastModifiedBy>user</cp:lastModifiedBy>
  <dcterms:modified xsi:type="dcterms:W3CDTF">2021-10-26T16:42:06Z</dcterms:modified>
  <cp:revision>168</cp:revision>
  <dc:subject/>
  <dc:title>Слайд 1</dc:title>
</cp:coreProperties>
</file>