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A96-2B57-4612-98F2-AB027BD9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2EC-FD1E-4762-B5D4-93766A9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FF7-23F3-419B-A489-C1415512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D17-48B7-4DB3-9C47-C65DD23B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5E68-73A8-4DB2-A117-421CFCF8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8F4D-ACFB-4B7A-B395-4D62F68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9BDE-DF65-4807-BC74-9BF05244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EF4E-06AC-4D8D-B1A0-813D817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95AD-84BB-4D2A-84B4-06A6D1E7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2D5-9F94-4781-A9BC-D0916E5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84C0-29FE-4726-95B3-5783E84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066-66C9-4C6B-B8E5-500F95CA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5FE2-141E-46DF-B616-B17600F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FFD-36D9-425D-A276-7D1564A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7A86-434A-40C1-8DC8-AF46DD28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A91-4F5D-4AB2-B152-6979B53C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443-D2E4-4384-B9A5-08502B9A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C9E5-66EE-4F7E-9CCA-33E9C788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535D-5FB9-4360-BA53-1827210B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231C-0D39-4C9C-B6ED-49E6124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15F0-4D37-4013-AB48-29D5633C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95AD-52D5-4663-89C5-52C9767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CCC-DD10-4D21-A1A4-BD777365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6FFA-A95B-426D-A5F1-200B263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4F64-22E6-4B2C-9536-43AC21D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B754-258E-4B0E-8C16-D6CA32F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C3A3-CCF8-4FE7-A3C8-AA9BD16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75F3-6BC1-4F2A-8D92-696F4F3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62FD-AA83-43ED-86B5-0AB76DFC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675D-0C73-4FC7-B091-7F89D16C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0AC1-EEF5-4C30-B638-744B6F8D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25E0-7627-4A16-8026-37C9776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9B7B-1F6B-40D9-9698-F7AEC742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093-D08B-400A-B90F-991A5C46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5758-397D-4C6A-85EF-FE19641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460F-4286-4FEC-BFD6-D89DCEA5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CD9D-69BB-4E6E-9189-9AF95B6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012F-83F7-4356-B29E-4686DD4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9E82-00B6-4BAC-A5C8-3754A68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DE695-8CAD-498E-B0FB-FE91974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8C24-54DE-40FC-9982-A2D7F8E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B71B-F329-4B30-A766-7110BD8C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191E-3296-4611-8E54-12816503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15A6-7AE3-44F0-86BD-729EA322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7F4-C0F6-476B-AF21-EB35EB3B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CF0A-B82D-4A0C-B7EE-5AB2B7C6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32DD-915B-488F-B949-4EAB1014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7836-02DE-49BE-A210-0160AE7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662D-C5EE-435F-9F1F-1AB81F1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6165-6A83-43CC-B6FF-C87076F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9F3C-9BE1-44CD-9089-9758AF4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21D8-713A-4B19-BBEA-23D57B0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71A0-689C-46E7-B2B1-CB92689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AADF1-B182-4AF8-AE1C-7059112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2B5C-389C-462C-A88C-79DE1C7D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C45-D0E5-4489-8AAF-15C44DA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B396C-AA6C-4C65-975F-7C9338EA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AF58-0E67-48DC-AABF-A67C248E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625E-AD0A-43BD-A589-EDF757B2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38D3-D6BD-4ADE-8C97-9B717340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680A1-F98E-4655-BECA-B307C54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0430-A0B3-47D1-A110-E496334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C4F3-85FD-4C07-BE95-293C9416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F5E02-671C-45D3-97AB-AED8DD9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1C51-80C4-485E-8ED7-7BC961B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E13E4-89C8-43AD-92DE-43F7BD1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68F-4A02-40B6-A89D-016E948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0C88-715F-43E8-AD8B-BCE4AF3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8D1D-E21B-446B-BAEE-07CD29FD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A37C2-9767-4B90-9CC5-AA0249D6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9CEA-9BF7-41CE-AC9C-DAAB4651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C430-B936-465E-96D1-AF10609A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F7D1C-CB3F-4E41-B30D-3CED8068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30AF-FB5F-4CB4-8A66-E954925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0F352-DF80-40E3-91BC-F5C2A79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CD592-FD5E-41BD-8649-4A8F7712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36604-0E5C-4821-B0CE-EC2CCE8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B8D-CEE6-400A-9C06-E698D9D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55EB-0F7D-4873-BD4B-5A3310A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FDE8-E1BE-42B4-8E85-5FB6193E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2609B-3E42-48C3-ACA8-A81FC6D0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1E61-0595-4B7B-8027-433FB7B5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7816-3E77-4688-8743-52F352DE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229-C679-4A26-8231-59E9391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58B-8186-4CEE-BEC5-81F6990D1CFA}" type="slidenum">
              <a:rPr b="0" lang="ru-RU" sz="16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511-CA05-4C47-87AA-DFEEC3544F32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32B-F3B0-4EF4-A788-8DE386D00FB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3120" y="1476720"/>
            <a:ext cx="3943080" cy="5486760"/>
          </a:xfrm>
          <a:custGeom>
            <a:avLst/>
            <a:gdLst/>
            <a:ahLst/>
            <a:rect l="l" t="t" r="r" b="b"/>
            <a:pathLst>
              <a:path w="3943350" h="5486400">
                <a:moveTo>
                  <a:pt x="0" y="0"/>
                </a:moveTo>
                <a:lnTo>
                  <a:pt x="3799575" y="0"/>
                </a:lnTo>
                <a:lnTo>
                  <a:pt x="3943350" y="143775"/>
                </a:lnTo>
                <a:lnTo>
                  <a:pt x="3943350" y="5486400"/>
                </a:lnTo>
                <a:lnTo>
                  <a:pt x="0" y="54864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3720" y="7144560"/>
            <a:ext cx="115560" cy="208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3286080" y="82929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360 h 851040"/>
              <a:gd name="textAreaBottom" fmla="*/ 85176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A883-FDF7-4B4B-AB3C-A1A928B67ECA}" type="slidenum">
              <a:rPr b="0" lang="ru-RU" sz="16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9F8-D061-4FA0-BA73-574906D7CDCB}" type="slidenum">
              <a:rPr b="0" lang="ru-RU" sz="16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7F3-86EE-4D15-B02B-3B1E94AA55D1}" type="slidenum">
              <a:rPr b="0" lang="ru-RU" sz="16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4400" y="271440"/>
              <a:ext cx="6872760" cy="863640"/>
              <a:chOff x="-14400" y="271440"/>
              <a:chExt cx="6872760" cy="86364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418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404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4400" y="345600"/>
              <a:ext cx="6885000" cy="724320"/>
              <a:chOff x="-14400" y="345600"/>
              <a:chExt cx="6885000" cy="72432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600"/>
                <a:ext cx="6861600" cy="72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4040" y="6033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52480" indent="-326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2" marL="1217520" indent="-326880">
              <a:spcBef>
                <a:spcPts val="8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3" marL="1582560" indent="-277560">
              <a:spcBef>
                <a:spcPts val="85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4" marL="1947960" indent="-277920">
              <a:spcBef>
                <a:spcPts val="85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5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6" marL="1947960" indent="-2779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EDD-409A-4B66-923E-57DB5430A50B}" type="slidenum">
              <a:rPr b="0" lang="ru-RU" sz="16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74320" y="7188120"/>
            <a:ext cx="6375240" cy="1625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аздник Новый год – особенный праздник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Для детей это ёлки, каникулы, масса подарков, ожидание чуда, для взрослых -  возможность вернуться в своё детство, в волшебный мир, когда подарки приносят Дед Мороз и Снегурочк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90680" y="836640"/>
            <a:ext cx="61592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возникновения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празднование Нового года.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7" name="Рисунок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35719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1" descr="i"/>
          <p:cNvPicPr/>
          <p:nvPr/>
        </p:nvPicPr>
        <p:blipFill>
          <a:blip r:embed="rId1"/>
          <a:stretch/>
        </p:blipFill>
        <p:spPr>
          <a:xfrm>
            <a:off x="762120" y="1143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-3240" y="5409720"/>
            <a:ext cx="64771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-338040" algn="just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радиция встречать Новый год 1 января существует всего 3 – 4 века. Обычай же отмечать праздник Нового года – один из самых древних. Первые упоминания об этом празднике встречаются примерно 25 веков назад. Празднование Нового года перешло в Европу благодаря иудеям, позаимствовавшим традицию праздника у вавилонян. Таким способом Новый год пришёл сначала к грекам, а затем ко всем народам Западной Европы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8040" indent="-338040" algn="just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 Риме год начинался с 1 марта. Во Франции с VIII по конец X века начало года совпадало с Рождеством, затем с Пасхой. В 1654 году король Карл IX постановил отмечать Новый год 1 января. В Германии встречают Новый год 1 января с 1691г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i (2)"/>
          <p:cNvPicPr/>
          <p:nvPr/>
        </p:nvPicPr>
        <p:blipFill>
          <a:blip r:embed="rId1"/>
          <a:stretch/>
        </p:blipFill>
        <p:spPr>
          <a:xfrm>
            <a:off x="333360" y="1143000"/>
            <a:ext cx="6226200" cy="38163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26880" y="5029200"/>
            <a:ext cx="607392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6080" indent="-316080" algn="just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 славян новогодний вечер (31 декабря) известен как  Васильев. Щедрый вечер, канун Нового года. На стол подавали обильную праздничную трапезу: «Свинку да боровка для Васильева вечерка». В язычестве этому дню предшествовала Велесова неделя, в честь святого Василия Велеса, покровителя скота. Поэтому особенным блюдом новогоднего стола всегда был поросёнок, зажаренный целиком. Считалось, что это блюдо приносит в дом достаток и благополучие.  Не разрешалось использовать птицу или зайца (существовало поверие, что удача в новом году улетит или ускачет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16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69560" y="1142640"/>
            <a:ext cx="635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5240" indent="-3452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Древней Руси встреча Нового года была связана с весной, как с началом возрождения всего живого и ожиданием нового урожая. Славили богов, особенно Перуна, Берегиню, Ярило-Солнце, просили о благополучии в новом году. С принятием христианства год в России стал начинаться строго с 1 марта, затем с 1 сентябр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5240" indent="-3452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1699 году Пётр I издал указ «О праздновании Нового года», в котором повелел «впредь лета исчислять» с 1 января (1700г.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Picture 7" descr="i (5)"/>
          <p:cNvPicPr/>
          <p:nvPr/>
        </p:nvPicPr>
        <p:blipFill>
          <a:blip r:embed="rId1"/>
          <a:stretch/>
        </p:blipFill>
        <p:spPr>
          <a:xfrm>
            <a:off x="379440" y="4419720"/>
            <a:ext cx="612288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3" descr="rgh1262552243x"/>
          <p:cNvPicPr/>
          <p:nvPr/>
        </p:nvPicPr>
        <p:blipFill>
          <a:blip r:embed="rId1"/>
          <a:stretch/>
        </p:blipFill>
        <p:spPr>
          <a:xfrm>
            <a:off x="254160" y="1444680"/>
            <a:ext cx="6324480" cy="48038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3160" y="6248520"/>
            <a:ext cx="5763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1434960" indent="0" algn="ctr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34960" algn="just">
              <a:spcBef>
                <a:spcPts val="47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 Петре I в России стали популярны маскарады. Утро начиналось колокольным перезвоном. Вечером все улицы и дома ярко освещались. После фейерверка торжество заканчивалось балом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12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0b1dac1118425aefaa66cb687be9636b"/>
          <p:cNvPicPr/>
          <p:nvPr/>
        </p:nvPicPr>
        <p:blipFill>
          <a:blip r:embed="rId1"/>
          <a:stretch/>
        </p:blipFill>
        <p:spPr>
          <a:xfrm>
            <a:off x="1447920" y="1143000"/>
            <a:ext cx="3962160" cy="51814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228240" y="6476760"/>
            <a:ext cx="60958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19680" indent="-319680" algn="just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Императрица Елизавета Петровна продолжила традиции увеселений, но в цивилизованной форме. Она устраивала роскошные новогодние елки, на которые приглашала до 15 тысяч гостей. С не меньшим размахом гуляли и при Екатерине II, но тут уже на первый план выступали "праздники живота": для Нового года откладывали лучшие продукты и накрывали самый лучший сто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196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i (3)"/>
          <p:cNvPicPr/>
          <p:nvPr/>
        </p:nvPicPr>
        <p:blipFill>
          <a:blip r:embed="rId1"/>
          <a:stretch/>
        </p:blipFill>
        <p:spPr>
          <a:xfrm>
            <a:off x="341280" y="114300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2680" y="502884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1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164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плоть до 1852 г. Наряженная  игрушками ель стояла лишь во дворце и домах петербургских немцев, пока Николай I не распорядился выставить ее на площади перед вокзалом. Немцы научили наряжать елку и русских: петербургские кондитеры в 40-е годы XIX века организовали массовую продажу маленьких елок с заранее прикрепленными к ним свечами и сладостями – к концу XIX века елочки стояли уже по всей России, даже в деревенских избах! Тогда же распространился и обычай встречать Новый год бокалом шампанског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41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60195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1914 г. царь объявил новогоднюю елку "вражеской, немецкой затеей". И лишь Ленин реабилитировал ее: 31 декабря 1917 г. во всех районах Петрограда зажглись "пролетарские" елки для детей рабочих. Правда, рождественскую звезду на макушке сменила красная, пятиконечная. Однако в стране уже начинался голод. Вскоре Ленин запретил елку снова, и только в 1935 г. ее реабилитировал Сталин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 1947 г. 1 января стало не детским праздником, а официальным "красным днем календаря"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7" descr="1968"/>
          <p:cNvPicPr/>
          <p:nvPr/>
        </p:nvPicPr>
        <p:blipFill>
          <a:blip r:embed="rId1"/>
          <a:stretch/>
        </p:blipFill>
        <p:spPr>
          <a:xfrm>
            <a:off x="457200" y="4267080"/>
            <a:ext cx="6019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15:03:26Z</dcterms:created>
  <dc:creator>Ромыч</dc:creator>
  <dc:description/>
  <dc:language>en-US</dc:language>
  <cp:lastModifiedBy>Людмила</cp:lastModifiedBy>
  <dcterms:modified xsi:type="dcterms:W3CDTF">2021-01-07T11:03:2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