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B3E-67C2-40E9-B4D9-85FF8349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B89-DB5B-423F-9F8E-80552E2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842-F7C8-4CC2-8668-86D1D072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57D-2ADF-4D0A-8A8E-F861045F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26A3-A6BB-442B-96E9-1A5D7700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572-642A-4DB5-B460-7F94042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2BE-C5C4-46CA-8BE3-84EED62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D874-3B7E-4A5B-9690-36759FB4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C230-848E-48C1-BB40-B8E8757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2634-E0B0-4158-94AF-9ABC7DF8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0197-3955-4A84-8AA3-3733FDCE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E0B-CABB-4E38-9E57-CA4EF90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8703-3FDF-4C0B-AC3E-3DC59ED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0EE5-7EAD-4DE1-98E4-1300984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C0DE-1C1B-47FE-AB82-A46DA78F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566-9C6E-49FC-9D85-9429F411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B8B0-93D2-4FEA-B796-0A40D62D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227C-81FA-420B-8B08-D8551660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880A-ADB0-4C74-BBA9-E13C39DC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0EB4-877E-4971-864D-8F3D0FA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D298-91E7-401E-9091-D9E948A1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A164-CCD4-4967-B61F-92122B6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6AA-79A3-4CA8-92EC-F63BD07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2C63-C431-4437-A52A-C943727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AC86-4C5A-49F6-A80B-4F876EFE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65EB-E8EC-4566-97B5-29DEFF6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1164-60E7-431D-A080-823791D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A052-5807-447F-A4EC-845EB634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1A83-6475-4864-82D2-501C4EA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273A-E5CE-4633-A4BF-39E67002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FE29-C6E6-4567-9AA5-C06E60B0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0A42-B2F1-4A1F-B6C6-1371618F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2659-1746-4A55-905B-F4A0CC2A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DD9-D7F7-4816-AE9C-6D7F938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12D62-4989-416C-952D-367F30F2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DB53-FC14-4C9B-93AB-8DFE1B9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D496-C10A-4701-AB17-42FC7C9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87C6-3CD5-498E-A43A-37D4154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FFDF-C7C3-4039-8FC4-ABC6428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E784-6323-4937-90F6-51C32EA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2AEE-57BE-4D27-9630-E25B007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B871-315F-4C79-B52D-CE3307EF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8E8F0-31E1-4458-BD52-D79E3371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BF5C-ABD8-4219-957B-D7E1E7B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95B-2828-420B-9383-7A77996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A985-754D-4267-AB5C-3FC143E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E040-E5E2-4948-86B5-D85D08E0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55C6-B059-49D9-BB31-63D23CC0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4F1D-E22A-4DAF-ABE8-1297CC5A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3C26-9A09-444A-9E9D-1B854951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E1BD-273C-46B0-8F10-A5BA066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44D5-6AF1-4EB1-9C6A-4834715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4789-BC85-4C81-8478-2E8ED3C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B924-8E8C-4506-B1FD-AC441D7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B534-F235-43E0-983B-1CE119A0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AFC-4554-4510-9D61-D9500608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05A53-F4AD-4C07-BFC9-6D17516A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FBFC-BCBE-4734-8A69-FF06BA7C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5123-4CC7-4153-BF35-733E4572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19A27-9785-4465-90AB-DEFFBB72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865C-A811-4A84-8C76-D1F3392C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4CBE4-A7B3-4103-838D-4704BBB9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CE14-6EA1-445A-B81E-51D2E144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0B63-77A3-4731-94C2-FCC2DE0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45BE-2F4F-40C0-A2C1-E3BE674D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2167-3B5B-47A4-9545-115AC5A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758-441A-47C9-BE4D-D0ACF60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4CCF-BFAA-4AE2-BBFE-552D82D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0980-2579-4EFD-B3C9-1DE5EE50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B2C9-BA80-42F6-BCF7-0B62BE6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945C6-C5BA-463B-B118-7FE8CD05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57669-FB0B-4791-ADBB-60F5730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1A04-6707-4061-9597-2B7DD2AC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6E0AF-5B90-4CBE-8F0C-DA196E8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5F56-198C-48BB-9C4B-0D69466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116C-67BD-4BC6-8F02-D0E9E96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009AA-4DC0-4154-8948-BA996FB2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890-47C5-41FF-BBD8-E7AB799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F91B-F0AA-40F3-AFE2-87B38FD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623F-C130-4188-B3C1-6653514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F23A-2E1B-43FD-A0AE-AEEA830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2C58-B229-470B-900B-C1199021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4027A-81E6-418E-804C-D0C9765B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A94D-69CB-4C16-BA9A-50AF435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AB6A3-0490-4EA4-916F-7B89BF5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C0D1-1A8B-4954-A29C-97C0C125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406E-5737-4F9A-AB19-C7147879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D7A2-BE36-4640-AA59-1DF02C8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BF3-1A26-400C-896B-B4B8B06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B1C5-1BA0-4038-AF19-4758ED7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2A00-C5F2-4595-96D1-06341DB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210AB-EE2A-4F7D-A79B-DDC72F4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30F18-A3F2-4D9B-9803-D46190C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E7C2-8D30-4BE1-A99B-366E29A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6E0F9-DC3D-40F4-B991-8B3978CC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854C-1D3B-4A47-A57F-D28B34E0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3232-97AE-4C70-8513-298ED16C4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ECE-1CD5-4348-99DB-3455FFA0569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9A0-733D-404F-9CDF-9D19D5E9E4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2B3-7931-44A9-A8AD-BC14712DFE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ADA-BE5C-4A0F-BBB7-AD518688FD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C87A-1297-48E0-8024-BFF533A19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83C-2BCE-44A2-9507-6F5ACB6DD27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B8E-6E8B-4001-80F7-F347886D97A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9" descr=""/>
          <p:cNvPicPr/>
          <p:nvPr/>
        </p:nvPicPr>
        <p:blipFill>
          <a:blip r:embed="rId1"/>
          <a:stretch/>
        </p:blipFill>
        <p:spPr>
          <a:xfrm>
            <a:off x="-341280" y="1957320"/>
            <a:ext cx="7235640" cy="1395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276360" y="5732640"/>
            <a:ext cx="5630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uthor: Julia Andree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ymnasium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159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estuzhevskaya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944640"/>
          </a:xfrm>
          <a:prstGeom prst="rect">
            <a:avLst/>
          </a:prstGeom>
          <a:ln w="0">
            <a:noFill/>
          </a:ln>
        </p:spPr>
      </p:pic>
      <p:pic>
        <p:nvPicPr>
          <p:cNvPr id="348" name="Содержимое 8" descr="А.png"/>
          <p:cNvPicPr/>
          <p:nvPr/>
        </p:nvPicPr>
        <p:blipFill>
          <a:blip r:embed="rId2"/>
          <a:stretch/>
        </p:blipFill>
        <p:spPr>
          <a:xfrm>
            <a:off x="171360" y="1262160"/>
            <a:ext cx="2962440" cy="179856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9" descr="В.png"/>
          <p:cNvPicPr/>
          <p:nvPr/>
        </p:nvPicPr>
        <p:blipFill>
          <a:blip r:embed="rId3"/>
          <a:stretch/>
        </p:blipFill>
        <p:spPr>
          <a:xfrm>
            <a:off x="3097080" y="1262160"/>
            <a:ext cx="2949840" cy="1809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С.png"/>
          <p:cNvPicPr/>
          <p:nvPr/>
        </p:nvPicPr>
        <p:blipFill>
          <a:blip r:embed="rId4"/>
          <a:stretch/>
        </p:blipFill>
        <p:spPr>
          <a:xfrm>
            <a:off x="5956200" y="1262160"/>
            <a:ext cx="3005280" cy="17985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3" descr="D.png"/>
          <p:cNvPicPr/>
          <p:nvPr/>
        </p:nvPicPr>
        <p:blipFill>
          <a:blip r:embed="rId5"/>
          <a:stretch/>
        </p:blipFill>
        <p:spPr>
          <a:xfrm>
            <a:off x="171360" y="3902040"/>
            <a:ext cx="3041640" cy="18763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6" descr="E.png"/>
          <p:cNvPicPr/>
          <p:nvPr/>
        </p:nvPicPr>
        <p:blipFill>
          <a:blip r:embed="rId6"/>
          <a:stretch/>
        </p:blipFill>
        <p:spPr>
          <a:xfrm>
            <a:off x="3097080" y="3902040"/>
            <a:ext cx="3090960" cy="18763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7" descr="F.png"/>
          <p:cNvPicPr/>
          <p:nvPr/>
        </p:nvPicPr>
        <p:blipFill>
          <a:blip r:embed="rId7"/>
          <a:stretch/>
        </p:blipFill>
        <p:spPr>
          <a:xfrm>
            <a:off x="5956200" y="3902040"/>
            <a:ext cx="30416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6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6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6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6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26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236000" cy="1359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944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0 type (rules, traditions, laws of natu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    Present Simple   ,      Present si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 you are happy, you smi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1 type (real present of futu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 Present Simple  ,    Future Si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 the weather is fine,  we will go  for a walk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2 type (unreal present or futu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Past Simple  ,  would + in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f I were you, I would go to the cinema with  friend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236000" cy="1359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971640" y="1916280"/>
            <a:ext cx="6121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are righ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 agree with yo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 don’t agree with yo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at’s not tr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 don’t think it’s good id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bout you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o you think about it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1328760" y="1792440"/>
            <a:ext cx="64008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8:37:45Z</dcterms:created>
  <dc:creator>Иванова</dc:creator>
  <dc:description/>
  <dc:language>en-US</dc:language>
  <cp:lastModifiedBy>Натали</cp:lastModifiedBy>
  <dcterms:modified xsi:type="dcterms:W3CDTF">2021-10-26T18:22:18Z</dcterms:modified>
  <cp:revision>4</cp:revision>
  <dc:subject/>
  <dc:title>Look at the pictures:</dc:title>
</cp:coreProperties>
</file>