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5DF-0743-423E-8121-0ACDF31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57D-3800-4671-8049-49CAE6E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163-D4E8-4ECB-949D-9F2A25EC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B6D-E27A-414F-B065-81A2F08D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F15-6FB4-4299-A6F8-247E2DB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D34-6E2B-488F-BB6F-48E8E50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9BC-9834-4AC8-B7E9-7473B64A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1BA-B190-4ADD-8D0E-C366D92F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48A-6132-4888-AAFB-1BBC38C5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E9-71D5-4CA4-B311-43DE11E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5ED-8AB0-4B11-84A5-CB6C953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CFF-0D45-408D-A701-8ED12F9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98A6-7BC4-49DA-ABB5-DCA9C5C708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vocabulary-sheet"/>
          <p:cNvPicPr/>
          <p:nvPr/>
        </p:nvPicPr>
        <p:blipFill>
          <a:blip r:embed="rId1"/>
          <a:srcRect l="0" t="6494" r="0" b="3897"/>
          <a:stretch/>
        </p:blipFill>
        <p:spPr>
          <a:xfrm>
            <a:off x="2286000" y="457200"/>
            <a:ext cx="5867280" cy="5618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28600" y="380880"/>
            <a:ext cx="1371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cc"/>
                </a:solidFill>
                <a:latin typeface="Comic Sans MS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cc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cc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cc"/>
                </a:solidFill>
                <a:latin typeface="Comic Sans MS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Garamond"/>
              </a:rPr>
              <a:t>Acrosti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380880"/>
            <a:ext cx="1371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Arial Black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Arial Black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Arial Black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Arial Black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m-coffee-260515"/>
          <p:cNvPicPr/>
          <p:nvPr/>
        </p:nvPicPr>
        <p:blipFill>
          <a:blip r:embed="rId1"/>
          <a:stretch/>
        </p:blipFill>
        <p:spPr>
          <a:xfrm>
            <a:off x="228600" y="36360"/>
            <a:ext cx="2057400" cy="15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V1400126"/>
          <p:cNvPicPr/>
          <p:nvPr/>
        </p:nvPicPr>
        <p:blipFill>
          <a:blip r:embed="rId2"/>
          <a:srcRect l="19197" t="0" r="13607" b="1717"/>
          <a:stretch/>
        </p:blipFill>
        <p:spPr>
          <a:xfrm>
            <a:off x="3733920" y="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di76B8nAT"/>
          <p:cNvPicPr/>
          <p:nvPr/>
        </p:nvPicPr>
        <p:blipFill>
          <a:blip r:embed="rId3"/>
          <a:srcRect l="5329" t="3454" r="4006" b="6891"/>
          <a:stretch/>
        </p:blipFill>
        <p:spPr>
          <a:xfrm>
            <a:off x="6477120" y="36360"/>
            <a:ext cx="2286000" cy="174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photodune-1796624-sugar-s"/>
          <p:cNvPicPr/>
          <p:nvPr/>
        </p:nvPicPr>
        <p:blipFill>
          <a:blip r:embed="rId4"/>
          <a:stretch/>
        </p:blipFill>
        <p:spPr>
          <a:xfrm>
            <a:off x="533520" y="2514600"/>
            <a:ext cx="204768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img5"/>
          <p:cNvPicPr/>
          <p:nvPr/>
        </p:nvPicPr>
        <p:blipFill>
          <a:blip r:embed="rId5"/>
          <a:stretch/>
        </p:blipFill>
        <p:spPr>
          <a:xfrm>
            <a:off x="6553080" y="2209680"/>
            <a:ext cx="1828800" cy="1613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6507720" y="617220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A pinch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2970000" y="52578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5653080" y="52578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A spo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7426080" y="46069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44240" y="487692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A loaf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4681080" y="38862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852120" y="57913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A litter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78440" y="44956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2501640" y="411480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A cu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4090320" y="57150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golian Baiti"/>
              </a:rPr>
              <a:t>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6 0.00115 -0.01285 0.003 -0.01945 0.00439 C -0.02292 0.00647 -0.02622 0.00925 -0.02986 0.01064 C -0.03403 0.01202 -0.04254 0.01364 -0.04254 0.01364 C -0.05174 0.02313 -0.06545 0.02567 -0.07691 0.02752 C -0.0809 0.02914 -0.08438 0.03215 -0.08837 0.03354 C -0.0967 0.03631 -0.11372 0.03978 -0.11372 0.03978 C -0.12674 0.03863 -0.13976 0.03863 -0.15278 0.03654 C -0.16945 0.03377 -0.17761 0.00532 -0.18264 -0.01226 C -0.1842 -0.02753 -0.18733 -0.05714 -0.1816 -0.06755 C -0.17361 -0.08212 -0.16563 -0.08744 -0.15278 -0.09045 C -0.13038 -0.08953 -0.11997 -0.08767 -0.10104 -0.08444 C -0.08698 -0.07958 -0.07413 -0.0738 -0.05972 -0.07056 C -0.0434 -0.05645 -0.02882 -0.06686 -0.00573 -0.06755 C 0.00035 -0.06847 0.0066 -0.06894 0.01267 -0.07056 C 0.01892 -0.07218 0.02083 -0.07819 0.02656 -0.0812 C 0.03003 -0.08698 0.03281 -0.09276 0.0368 -0.09808 C 0.03715 -0.10017 0.03715 -0.10248 0.03802 -0.10433 C 0.03871 -0.10595 0.0408 -0.10572 0.04149 -0.10734 C 0.0434 -0.1115 0.04375 -0.11659 0.04496 -0.12098 C 0.04618 -0.12977 0.04774 -0.13857 0.04948 -0.14712 C 0.04861 -0.17188 0.05451 -0.18205 0.04253 -0.19316 C 0.04132 -0.20172 0.03993 -0.20519 0.03455 -0.20981 C 0.02969 -0.21837 0.02344 -0.22508 0.01614 -0.22994 C 0.01128 -0.23318 0.00538 -0.23433 0.00121 -0.23896 C -0.0099 -0.25122 -0.03334 -0.26093 -0.04827 -0.26649 C -0.05816 -0.27412 -0.06667 -0.27805 -0.07813 -0.28036 C -0.12604 -0.30118 -0.19063 -0.30118 -0.23906 -0.30327 C -0.24722 -0.30465 -0.25226 -0.30697 -0.25972 -0.30951 C -0.26858 -0.31252 -0.27952 -0.31298 -0.28837 -0.31414 C -0.29306 -0.31553 -0.29757 -0.31738 -0.30226 -0.31876 C -0.30347 -0.31969 -0.30556 -0.31992 -0.30573 -0.32177 C -0.30643 -0.32802 -0.29774 -0.33079 -0.29531 -0.33403 E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-0.04488 C 0.04826 -0.04256 0.06805 -0.0303 0.08975 -0.02822 C 0.10278 -0.02452 0.1158 -0.02336 0.12882 -0.02059 C 0.16215 -0.02174 0.19687 -0.01249 0.22882 -0.02498 C 0.23819 -0.02868 0.24791 -0.03747 0.25746 -0.04187 C 0.26024 -0.04488 0.2625 -0.04881 0.26562 -0.05112 C 0.26805 -0.05297 0.271 -0.05274 0.27361 -0.05413 C 0.27812 -0.05667 0.29097 -0.065 0.29548 -0.07102 C 0.30642 -0.08536 0.29635 -0.07749 0.30573 -0.09253 C 0.31962 -0.11497 0.30607 -0.08397 0.3184 -0.1108 C 0.32413 -0.12353 0.32465 -0.13625 0.32882 -0.1492 C 0.33125 -0.1566 0.33559 -0.16308 0.33802 -0.17048 C 0.34028 -0.19038 0.34323 -0.21258 0.34722 -0.23178 C 0.34913 -0.24104 0.35295 -0.25931 0.35295 -0.25931 C 0.35573 -0.30488 0.35173 -0.25399 0.35642 -0.28707 C 0.3592 -0.30719 0.35903 -0.32801 0.36215 -0.34814 C 0.36111 -0.43882 0.37587 -0.43049 0.35521 -0.46773 C 0.34809 -0.49456 0.32708 -0.49479 0.3092 -0.49988 C 0.29236 -0.49919 0.27517 -0.50127 0.25868 -0.49688 C 0.25225 -0.49526 0.24271 -0.48878 0.2368 -0.486 C 0.2276 -0.48161 0.21771 -0.47907 0.2092 -0.47236 C 0.20521 -0.46912 0.20191 -0.46449 0.19774 -0.46148 C 0.18698 -0.45385 0.18906 -0.45963 0.17934 -0.45385 C 0.1625 -0.4439 0.14687 -0.42841 0.13107 -0.41568 C 0.12916 -0.41198 0.12795 -0.40759 0.12534 -0.40481 C 0.11875 -0.39741 0.11076 -0.39278 0.10347 -0.38654 C 0.10191 -0.38492 0.09427 -0.37682 0.09427 -0.3759 C 0.09427 -0.37428 0.09774 -0.37728 0.09774 -0.37728 C 0.10451 -0.38353 0.11059 -0.39139 0.11736 -0.39718 C 0.1217 -0.41198 0.11684 -0.3981 0.12413 -0.41106 C 0.12743 -0.41684 0.12882 -0.42447 0.13107 -0.43095 C 0.13802 -0.47444 0.13159 -0.51006 0.11041 -0.54129 C 0.10503 -0.54916 0.09844 -0.56072 0.0908 -0.56419 C 0.0743 -0.58617 0.04722 -0.59357 0.02534 -0.60097 C 0.00903 -0.60652 -0.00643 -0.61601 -0.02292 -0.62086 C -0.04323 -0.62688 -0.06528 -0.62711 -0.08611 -0.6285 C -0.10712 -0.63197 -0.12934 -0.63498 -0.15052 -0.63914 C -0.17847 -0.63775 -0.20677 -0.64006 -0.23438 -0.63451 C -0.23577 -0.63428 -0.23646 -0.63197 -0.23785 -0.63151 C -0.24861 -0.62757 -0.26146 -0.62387 -0.2724 -0.62225 C -0.27656 -0.62063 -0.27952 -0.61786 -0.28386 -0.61624 C -0.28924 -0.61184 -0.29479 -0.6086 -0.3 -0.60398 C -0.30156 -0.60097 -0.304 -0.59843 -0.30452 -0.59473 C -0.30469 -0.59357 -0.30591 -0.58455 -0.30677 -0.58247 C -0.30747 -0.58085 -0.30851 -0.57946 -0.3092 -0.57784 C -0.30955 -0.57691 -0.3099 -0.57576 -0.31025 -0.57483 E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33 0.03401 C 0.14514 0.03054 0.15226 0.02684 0.16042 0.02499 C 0.17569 0.02545 0.19114 0.02499 0.20642 0.02637 C 0.20746 0.02637 0.20781 0.02869 0.20868 0.02961 C 0.21128 0.03239 0.21406 0.0347 0.21667 0.03725 C 0.22378 0.04419 0.23385 0.04812 0.24201 0.05251 C 0.27743 0.07102 0.22153 0.04025 0.26614 0.06177 C 0.27014 0.06362 0.27361 0.06778 0.2776 0.0694 C 0.28212 0.07125 0.28698 0.07125 0.29149 0.07241 C 0.30608 0.07634 0.32049 0.08259 0.33507 0.08629 C 0.34375 0.0886 0.3526 0.08814 0.36146 0.08929 C 0.36736 0.09184 0.37274 0.09646 0.37882 0.09855 C 0.38871 0.10178 0.40868 0.10618 0.40868 0.10641 C 0.42205 0.11775 0.49028 0.10803 0.4993 0.10757 C 0.50208 0.10711 0.52118 0.1041 0.52569 0.10155 C 0.52847 0.10017 0.53038 0.09716 0.53281 0.09531 C 0.53819 0.09138 0.5467 0.08698 0.55208 0.08166 C 0.55746 0.07657 0.56024 0.06639 0.56493 0.06015 C 0.56701 0.04974 0.56545 0.05598 0.57066 0.04187 C 0.57378 0.03331 0.57517 0.01643 0.57656 0.00648 C 0.57778 -0.01642 0.57934 -0.0643 0.56267 -0.08073 C 0.56146 -0.08489 0.56111 -0.08952 0.5592 -0.09299 C 0.55538 -0.10039 0.53976 -0.11959 0.53281 -0.12213 C 0.5243 -0.1293 0.51354 -0.13092 0.50399 -0.13277 C 0.49288 -0.13185 0.48177 -0.13139 0.47066 -0.12977 C 0.46198 -0.12861 0.45174 -0.1219 0.44323 -0.11913 C 0.43611 -0.11404 0.43437 -0.11034 0.42587 -0.10825 C 0.41059 -0.10016 0.39514 -0.09044 0.37882 -0.08697 C 0.37153 -0.08026 0.36076 -0.07911 0.35226 -0.07772 C 0.33507 -0.07518 0.31805 -0.07286 0.30069 -0.07147 C 0.27083 -0.06546 0.24167 -0.07749 0.21215 -0.08073 C 0.20035 -0.08489 0.21614 -0.07888 0.20069 -0.08697 C 0.19809 -0.08836 0.18785 -0.08975 0.1868 -0.08998 C 0.17951 -0.09276 0.17274 -0.09553 0.16614 -0.10062 C 0.15573 -0.10872 0.16285 -0.10548 0.15573 -0.10825 C 0.15347 -0.11126 0.15069 -0.11381 0.14896 -0.11751 C 0.14774 -0.12005 0.14687 -0.12283 0.14549 -0.12514 C 0.14305 -0.12907 0.13733 -0.13578 0.13733 -0.13555 C 0.13594 -0.14226 0.12934 -0.15267 0.12934 -0.15244 C 0.12864 -0.15729 0.12812 -0.16192 0.12708 -0.16655 C 0.12552 -0.17326 0.12239 -0.18644 0.12239 -0.18621 C 0.12153 -0.19708 0.12031 -0.20726 0.11667 -0.21698 C 0.11424 -0.24936 0.10486 -0.30256 0.12483 -0.32732 C 0.12517 -0.3294 0.125 -0.33171 0.12587 -0.33356 C 0.12656 -0.33518 0.1283 -0.33518 0.12934 -0.33657 C 0.13038 -0.33796 0.13073 -0.33981 0.1316 -0.34119 C 0.13229 -0.34235 0.13316 -0.34328 0.13403 -0.3442 C 0.13576 -0.3523 0.13351 -0.34651 0.13854 -0.35022 C 0.14097 -0.35207 0.14549 -0.35646 0.14549 -0.35623 C 0.1691 -0.35345 0.16076 -0.35345 0.17066 -0.35345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88 0.19963 C -0.125 0.1987 -0.0783 0.19801 -0.0316 0.19662 C -0.01563 0.19616 -0.00174 0.18459 0.01424 0.18135 C 0.01875 0.1795 0.02396 0.1795 0.0283 0.17673 C 0.04549 0.16608 0.025 0.17349 0.03785 0.16932 C 0.04653 0.15984 0.04792 0.16308 0.0559 0.15544 C 0.06285 0.14897 0.0658 0.14064 0.07118 0.13277 C 0.0717 0.13115 0.07205 0.12977 0.07274 0.12838 C 0.07344 0.1263 0.07483 0.12445 0.07535 0.12236 C 0.07708 0.11728 0.07969 0.10687 0.07969 0.1071 C 0.07917 0.10293 0.07934 0.09877 0.07812 0.09484 C 0.07604 0.08882 0.05712 0.08235 0.05174 0.08142 C 0.01562 0.07541 2.77777999997675E-007 0.07633 -0.03837 0.07518 C -0.06788 0.07147 -0.02378 0.07679 -0.07865 0.07217 C -0.0941 0.07078 -0.1092 0.065 -0.12465 0.06292 C -0.13108 0.06037 -0.13698 0.05551 -0.14392 0.05412 C -0.16128 0.05066 -0.17917 0.05135 -0.1967 0.0495 C -0.21597 0.04742 -0.23472 0.04025 -0.25365 0.03585 C -0.27274 0.0185 -0.25017 0.03608 -0.27309 0.0266 C -0.30069 0.01503 -0.26719 0.02081 -0.2967 0.01758 C -0.3151 0.01295 -0.3125 0.01411 -0.32448 0.00092 C -0.32535 -0.00278 -0.32847 -0.00579 -0.32865 -0.00949 C -0.32899 -0.01573 -0.32865 -0.02198 -0.32726 -0.02799 C -0.32483 -0.03725 -0.2974 -0.04072 -0.29253 -0.04141 C -0.2875 -0.0421 -0.28229 -0.04257 -0.27726 -0.04303 C -0.23368 -0.04234 -0.18924 -0.03933 -0.14531 -0.04141 C -0.13316 -0.04419 -0.13056 -0.05367 -0.11892 -0.05668 C -0.11458 -0.05968 -0.10938 -0.06084 -0.10521 -0.06431 C -0.1033 -0.0657 -0.1026 -0.06848 -0.10087 -0.07033 C -0.09965 -0.07171 -0.09826 -0.07241 -0.0967 -0.07356 C -0.09427 -0.07773 -0.09167 -0.0805 -0.08837 -0.08397 C -0.08628 -0.09392 -0.08316 -0.10248 -0.08142 -0.11289 C -0.08194 -0.12145 -0.08194 -0.13001 -0.08299 -0.13857 C -0.08368 -0.14435 -0.08837 -0.14805 -0.09132 -0.15221 C -0.10538 -0.17095 -0.13715 -0.16656 -0.15642 -0.16748 C -0.19444 -0.16586 -0.18056 -0.16586 -0.19809 -0.16586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0.04812 C 0.06336 0.05529 0.06475 0.06177 0.06579 0.0694 C 0.06562 0.08467 0.07986 0.14782 0.05555 0.15522 C 0.0467 0.15337 0.03715 0.15453 0.02916 0.1492 C 0.01979 0.14296 0.01354 0.13162 0.00381 0.12607 C -0.00591 0.10549 -0.02084 0.09577 -0.03299 0.07865 C -0.0375 0.07241 -0.0415 0.06547 -0.04566 0.05876 C -0.04914 0.05321 -0.05712 0.04349 -0.05712 0.04349 C -0.06077 0.03239 -0.06268 0.02637 -0.0698 0.01897 C -0.07049 0.01596 -0.07101 0.01273 -0.07223 0.00972 C -0.07257 0.0081 -0.07379 0.00671 -0.07431 0.00509 C -0.07639 -0.00092 -0.08004 -0.01318 -0.08004 -0.01318 C -0.08282 -0.03423 -0.079 -0.01041 -0.08473 -0.03169 C -0.08803 -0.04395 -0.08889 -0.05736 -0.09167 -0.06986 C -0.09202 -0.07333 -0.09202 -0.07703 -0.09271 -0.0805 C -0.0948 -0.09137 -0.09844 -0.10155 -0.09966 -0.11265 C -0.10244 -0.1374 -0.10035 -0.12607 -0.10539 -0.14642 C -0.1073 -0.17719 -0.10504 -0.15544 -0.1099 -0.1832 C -0.11164 -0.19292 -0.11459 -0.21235 -0.11459 -0.21235 C -0.1158 -0.23779 -0.11667 -0.2637 -0.1191 -0.28892 C -0.11875 -0.33079 -0.11893 -0.37265 -0.11806 -0.41452 C -0.11789 -0.4254 -0.11598 -0.43604 -0.11459 -0.44668 C -0.11389 -0.4513 -0.11233 -0.46033 -0.11233 -0.46033 C -0.11112 -0.47652 -0.1066 -0.49086 -0.10313 -0.50636 C -0.10122 -0.52741 -0.09584 -0.54661 -0.08577 -0.56303 C -0.08455 -0.56974 -0.08507 -0.57298 -0.08004 -0.57529 C -0.07778 -0.5857 -0.08108 -0.57437 -0.07553 -0.58293 C -0.07414 -0.58524 -0.07344 -0.58825 -0.07223 -0.59056 C -0.06702 -0.59842 -0.06059 -0.60282 -0.05591 -0.61045 C -0.05504 -0.61184 -0.05469 -0.61392 -0.05365 -0.61508 C -0.04948 -0.61971 -0.04358 -0.62248 -0.03872 -0.62572 C -0.03455 -0.63428 -0.02761 -0.63705 -0.02032 -0.6396 C -0.01181 -0.647 -0.01615 -0.64492 -0.00764 -0.64723 C 0.00156 -0.65464 -0.004 -0.6507 0.00954 -0.65787 C 0.01128 -0.6588 0.01215 -0.66181 0.01423 -0.6625 C 0.01822 -0.66389 0.02256 -0.66366 0.02673 -0.66412 C 0.04305 -0.6706 0.05937 -0.67684 0.07621 -0.67939 C 0.08802 -0.68494 0.10381 -0.68262 0.11649 -0.68401 C 0.13107 -0.68309 0.14322 -0.68401 0.15677 -0.67939 C 0.16545 -0.67036 0.15659 -0.678 0.16822 -0.67337 C 0.17916 -0.66898 0.18871 -0.66343 0.20034 -0.66111 C 0.20763 -0.65718 0.2151 -0.65348 0.22222 -0.64885 C 0.22656 -0.64261 0.22847 -0.64099 0.23489 -0.63798 C 0.23923 -0.62896 0.24739 -0.62665 0.25329 -0.61971 C 0.26267 -0.60837 0.25625 -0.61161 0.26475 -0.60906 C 0.27187 -0.59866 0.28125 -0.58894 0.2901 -0.58131 C 0.29201 -0.57946 0.29461 -0.5783 0.29687 -0.57668 C 0.2993 -0.57483 0.30381 -0.57067 0.30381 -0.57067 C 0.30677 -0.56465 0.31076 -0.56303 0.31423 -0.55841 C 0.32326 -0.54638 0.33142 -0.53389 0.3427 -0.52625 C 0.34722 -0.52324 0.34982 -0.51862 0.35329 -0.51399 C 0.3559 -0.51052 0.3625 -0.50636 0.3625 -0.50636 C 0.36388 -0.50011 0.36597 -0.49919 0.37048 -0.49711 C 0.37743 -0.48508 0.38836 -0.48508 0.3967 -0.47582 C 0.40416 -0.46796 0.41215 -0.46148 0.421 -0.45732 C 0.42413 -0.45362 0.42656 -0.452 0.4302 -0.44968 C 0.43142 -0.44876 0.43263 -0.44783 0.43368 -0.44668 C 0.43454 -0.44575 0.43489 -0.44413 0.43593 -0.44344 C 0.43802 -0.44182 0.44062 -0.44159 0.44288 -0.44043 C 0.44548 -0.43789 0.45086 -0.43257 0.45434 -0.43141 C 0.45954 -0.42979 0.47048 -0.42817 0.47048 -0.42817 C 0.4842 -0.4291 0.48958 -0.4284 0.50034 -0.4328 C 0.50104 -0.43442 0.50138 -0.43627 0.5026 -0.43742 C 0.50347 -0.43835 0.5052 -0.43789 0.50607 -0.43904 C 0.50694 -0.4402 0.50642 -0.44228 0.50729 -0.44344 C 0.51388 -0.45223 0.52013 -0.45431 0.52916 -0.4543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29 0.01943 C 0.06649 0.01758 0.0691 0.01388 0.07691 0.01018 C 0.08073 0.00231 0.08871 0.00231 0.09531 0.00092 C 0.10035 -0.00023 0.11024 -0.00208 0.11024 -0.00208 C 0.12257 0.00139 0.12535 0.01804 0.13212 0.03007 C 0.13333 0.03724 0.13524 0.04349 0.13785 0.04996 C 0.13889 0.05945 0.14323 0.0768 0.14809 0.08374 C 0.14948 0.09091 0.15087 0.09738 0.15382 0.10363 C 0.15642 0.11658 0.15937 0.12815 0.16649 0.13717 C 0.17118 0.15036 0.1684 0.14897 0.18038 0.14504 C 0.19253 0.1337 0.20538 0.12376 0.21944 0.11728 C 0.22396 0.11011 0.22847 0.10409 0.23316 0.09738 C 0.23576 0.08859 0.23802 0.08119 0.24132 0.07286 C 0.24323 0.06176 0.24479 0.05135 0.24809 0.04071 C 0.25 0.03493 0.25156 0.02244 0.25156 0.02244 C 0.25191 0.01527 0.25173 0.00809 0.25278 0.00092 C 0.25312 -0.00116 0.2533 0.00509 0.25382 0.00717 C 0.25521 0.01272 0.25746 0.01804 0.25851 0.02382 C 0.25989 0.03261 0.26302 0.03932 0.26649 0.04696 C 0.26875 0.05829 0.27274 0.0724 0.27917 0.0805 C 0.28177 0.09692 0.27778 0.08189 0.28489 0.09137 C 0.2934 0.10271 0.28611 0.09762 0.29288 0.10826 C 0.29496 0.11173 0.29844 0.11335 0.30104 0.11589 C 0.30503 0.12445 0.30885 0.13185 0.31597 0.13578 C 0.31927 0.13763 0.32621 0.14041 0.32621 0.14041 C 0.3533 0.13856 0.34444 0.14041 0.36198 0.13116 C 0.3651 0.12699 0.36805 0.12306 0.37118 0.1189 C 0.37239 0.11728 0.37465 0.11427 0.37465 0.11427 C 0.37656 0.10803 0.3776 0.10271 0.38038 0.09738 C 0.38108 0.08628 0.38246 0.07888 0.38385 0.06824 C 0.38298 0.01642 0.38542 -0.02128 0.36875 -0.065 C 0.36649 -0.07102 0.36597 -0.07611 0.36302 -0.08166 C 0.36094 -0.09137 0.36371 -0.08119 0.35729 -0.09253 C 0.35625 -0.09438 0.35625 -0.09716 0.35503 -0.09854 C 0.35382 -0.09993 0.35208 -0.0997 0.35052 -0.10016 C 0.34618 -0.1078 0.3434 -0.11196 0.33663 -0.11543 C 0.33489 -0.12191 0.33628 -0.11983 0.3309 -0.12468 C 0.32864 -0.12677 0.32396 -0.1307 0.32396 -0.1307 C 0.31597 -0.14481 0.32569 -0.12931 0.31476 -0.14157 C 0.31163 -0.14504 0.30955 -0.1499 0.30677 -0.15383 C 0.30382 -0.15776 0.2993 -0.15892 0.29635 -0.16285 C 0.29253 -0.16794 0.29184 -0.1728 0.28715 -0.17673 C 0.28472 -0.18298 0.28489 -0.18645 0.28038 -0.19038 C 0.27795 -0.20264 0.28125 -0.19107 0.27465 -0.20125 C 0.27187 -0.20565 0.27118 -0.21189 0.26875 -0.21652 C 0.26753 -0.22207 0.26667 -0.2267 0.26423 -0.23178 C 0.26094 -0.24913 0.25642 -0.26648 0.25052 -0.28244 C 0.24757 -0.29054 0.24601 -0.29864 0.2401 -0.30373 C 0.23976 -0.30534 0.23993 -0.30743 0.23889 -0.30835 C 0.23698 -0.3102 0.23212 -0.31136 0.23212 -0.31136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337 0.03377 C 0.17674 0.03053 0.18889 0.02753 0.20243 0.02614 C 0.20938 0.02359 0.21615 0.02059 0.22309 0.01851 C 0.23438 0.0111 0.24288 0.00601 0.25191 -0.00601 C 0.25521 -0.02082 0.24879 0.00324 0.25886 -0.01365 C 0.26198 -0.01897 0.26198 -0.02706 0.26563 -0.03192 C 0.26684 -0.03354 0.26788 -0.03493 0.2691 -0.03655 C 0.27118 -0.04464 0.27656 -0.06685 0.28056 -0.07495 C 0.28229 -0.10294 0.28698 -0.12769 0.27483 -0.15152 C 0.27222 -0.1566 0.27136 -0.161 0.26788 -0.16516 C 0.26337 -0.17765 0.25695 -0.1802 0.24965 -0.1883 C 0.24514 -0.19338 0.24132 -0.19801 0.23577 -0.20056 C 0.22795 -0.20819 0.22535 -0.21235 0.21632 -0.2142 C 0.21198 -0.21975 0.2066 -0.22299 0.20122 -0.22646 C 0.18906 -0.226 0.17674 -0.22577 0.16458 -0.22484 C 0.15695 -0.22438 0.1533 -0.21513 0.14722 -0.2112 C 0.14254 -0.20819 0.13629 -0.20449 0.13125 -0.20194 C 0.1283 -0.19917 0.12483 -0.19732 0.12205 -0.19431 C 0.11528 -0.18691 0.12396 -0.19153 0.11632 -0.1883 C 0.10382 -0.17673 0.08872 -0.17095 0.07379 -0.16678 C 0.05122 -0.1684 0.04861 -0.16794 0.03229 -0.18205 C 0.02795 -0.19084 0.02899 -0.19431 0.03577 -0.19894 C 0.04636 -0.19732 0.04757 -0.19824 0.05191 -0.18668 C 0.05156 -0.17488 0.05174 -0.16308 0.0507 -0.15152 C 0.05035 -0.14805 0.0467 -0.14666 0.04497 -0.14388 C 0.04115 -0.1381 0.03941 -0.13393 0.03351 -0.13162 C 0.03125 -0.12954 0.02917 -0.12653 0.02656 -0.12538 C 0.02413 -0.12445 0.01771 -0.12191 0.01632 -0.12075 C 0.01163 -0.11682 0.00573 -0.11127 0.00017 -0.11011 C -0.00555 -0.10895 -0.01128 -0.10895 -0.01701 -0.10849 C -0.02899 -0.10502 -0.02396 -0.10664 -0.03212 -0.10386 C -0.05816 -0.10433 -0.0842 -0.10409 -0.11024 -0.10548 C -0.11371 -0.10571 -0.11701 -0.10756 -0.12048 -0.10849 C -0.13698 -0.11335 -0.15625 -0.11589 -0.17222 -0.12399 C -0.18489 -0.13023 -0.19809 -0.13625 -0.21128 -0.14064 C -0.22014 -0.14897 -0.23298 -0.14966 -0.24358 -0.15152 C -0.25243 -0.15915 -0.26423 -0.15776 -0.27448 -0.15915 C -0.28212 -0.16401 -0.28055 -0.16401 -0.29288 -0.16378 C -0.3217 -0.16331 -0.35035 -0.16169 -0.37917 -0.16054 C -0.39635 -0.15799 -0.41267 -0.15036 -0.42969 -0.14689 C -0.43819 -0.14319 -0.44358 -0.14203 -0.45278 -0.14064 C -0.4625 -0.13625 -0.47344 -0.1337 -0.48368 -0.13162 C -0.49722 -0.12538 -0.51423 -0.12514 -0.52864 -0.12399 C -0.57344 -0.12468 -0.60035 -0.11219 -0.63437 -0.13 C -0.63802 -0.13486 -0.6408 -0.14018 -0.64462 -0.14527 C -0.64601 -0.15059 -0.64826 -0.15591 -0.65035 -0.16054 C -0.65208 -0.16447 -0.65625 -0.17141 -0.65625 -0.17118 C -0.65694 -0.17511 -0.65972 -0.17881 -0.65851 -0.18205 C -0.65798 -0.18344 -0.65608 -0.18297 -0.65503 -0.18367 C -0.64427 -0.19084 -0.66319 -0.18668 -0.63437 -0.18668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94 0.08212 C 0.0625 0.07425 0.05885 0.08027 0.06389 0.0606 C 0.06597 0.05228 0.07222 0.04372 0.07534 0.03608 C 0.08107 0.02221 0.08368 0.00856 0.09149 -0.0037 C 0.09514 -0.01851 0.09843 -0.03262 0.10295 -0.04673 C 0.10486 -0.06547 0.10764 -0.08443 0.11319 -0.10178 C 0.11441 -0.11242 0.11545 -0.1233 0.11666 -0.13394 C 0.11771 -0.15314 0.11875 -0.1728 0.12014 -0.192 C 0.12066 -0.19963 0.12239 -0.21513 0.12239 -0.2149 C 0.12205 -0.28244 0.12274 -0.34999 0.12135 -0.4173 C 0.121 -0.43581 0.11475 -0.4557 0.11215 -0.47398 C 0.10816 -0.50174 0.10451 -0.52834 0.09479 -0.55355 C 0.09444 -0.55587 0.09114 -0.56905 0.09027 -0.57044 C 0.08958 -0.5716 0.08802 -0.57136 0.0868 -0.57183 C 0.08402 -0.58224 0.08784 -0.5709 0.08229 -0.57969 C 0.06979 -0.59982 0.08698 -0.57622 0.07534 -0.59334 C 0.06475 -0.60907 0.05347 -0.61878 0.03975 -0.6285 C 0.03732 -0.63035 0.03489 -0.63243 0.03281 -0.63475 C 0.03038 -0.63752 0.02864 -0.64192 0.02587 -0.644 C 0.02309 -0.64608 0.01979 -0.64608 0.01666 -0.64701 C 0.01302 -0.64955 0.00885 -0.65024 0.00521 -0.65302 C -0.00782 -0.66297 -0.01129 -0.66968 -0.02691 -0.67291 C -0.03525 -0.67662 -0.04341 -0.67893 -0.05226 -0.68055 C -0.0592 -0.68332 -0.06598 -0.68425 -0.07292 -0.68679 C -0.08941 -0.68633 -0.10591 -0.68656 -0.1224 -0.68541 C -0.12952 -0.68448 -0.1382 -0.67662 -0.14532 -0.67453 C -0.15886 -0.66574 -0.17257 -0.65788 -0.18681 -0.65163 C -0.19427 -0.6433 -0.20295 -0.6359 -0.21094 -0.6285 C -0.2125 -0.62549 -0.21372 -0.62225 -0.21545 -0.61948 C -0.21702 -0.61693 -0.21962 -0.61578 -0.22118 -0.61323 C -0.22205 -0.61161 -0.2217 -0.60907 -0.2224 -0.60722 C -0.22587 -0.59843 -0.23091 -0.58825 -0.23611 -0.58108 C -0.23854 -0.57206 -0.24098 -0.56373 -0.24427 -0.55517 C -0.24653 -0.53158 -0.254 -0.50821 -0.26025 -0.48624 C -0.26337 -0.4756 -0.26389 -0.46542 -0.26841 -0.45547 C -0.27066 -0.44136 -0.2757 -0.43327 -0.27986 -0.42031 C -0.28299 -0.40065 -0.28698 -0.39186 -0.29479 -0.3759 C -0.29827 -0.36896 -0.30243 -0.35785 -0.30747 -0.353 C -0.31441 -0.34629 -0.32344 -0.34189 -0.3316 -0.34074 C -0.34653 -0.34236 -0.34132 -0.34097 -0.35 -0.34837 C -0.35886 -0.3678 -0.34879 -0.34814 -0.35695 -0.35901 C -0.36181 -0.36549 -0.36129 -0.36711 -0.36493 -0.37428 C -0.37691 -0.39741 -0.36216 -0.3678 -0.37413 -0.38816 C -0.37934 -0.39718 -0.38247 -0.40898 -0.38681 -0.41869 C -0.39288 -0.43188 -0.40035 -0.44229 -0.40747 -0.45408 C -0.41302 -0.46311 -0.41459 -0.46611 -0.41893 -0.47398 C -0.42014 -0.47629 -0.41979 -0.47976 -0.42118 -0.48161 C -0.42257 -0.48346 -0.425 -0.48369 -0.42691 -0.48462 C -0.43108 -0.49295 -0.43577 -0.50197 -0.44306 -0.50451 C -0.44913 -0.51538 -0.44341 -0.50729 -0.45104 -0.51377 C -0.45504 -0.51724 -0.45261 -0.51862 -0.45799 -0.52302 C -0.45938 -0.52417 -0.46111 -0.52371 -0.46268 -0.52441 C -0.47309 -0.5288 -0.48125 -0.53204 -0.49254 -0.53366 C -0.50365 -0.5325 -0.51563 -0.53505 -0.52587 -0.52903 C -0.53663 -0.52256 -0.53056 -0.52047 -0.54427 -0.51839 C -0.55365 -0.50891 -0.56424 -0.49965 -0.57188 -0.48763 C -0.575 -0.48277 -0.57396 -0.48161 -0.57639 -0.47537 C -0.57934 -0.46727 -0.58368 -0.46218 -0.58681 -0.45408 C -0.58924 -0.4365 -0.59479 -0.4217 -0.59948 -0.40504 C -0.60122 -0.39186 -0.60417 -0.38029 -0.60851 -0.36826 C -0.61216 -0.35832 -0.61094 -0.34675 -0.61545 -0.3375 C -0.61667 -0.33172 -0.61858 -0.32663 -0.62014 -0.32084 C -0.62084 -0.31113 -0.62153 -0.29309 -0.62691 -0.28545 C -0.629 -0.27203 -0.63091 -0.25908 -0.63282 -0.24566 C -0.63351 -0.24104 -0.63507 -0.23202 -0.63507 -0.23179 C -0.63924 -0.17719 -0.64288 -0.12815 -0.62587 -0.07888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49 -0.04279 C -0.06979 -0.04557 -0.07379 -0.04719 -0.07691 -0.05043 C -0.08611 -0.05968 -0.07465 -0.05436 -0.0849 -0.05806 C -0.08889 -0.06593 -0.09358 -0.07171 -0.09757 -0.07934 C -0.1007 -0.08513 -0.10208 -0.09253 -0.10556 -0.09785 C -0.10712 -0.10016 -0.10955 -0.10039 -0.11129 -0.10247 C -0.11354 -0.10502 -0.1151 -0.10849 -0.11701 -0.1115 C -0.11962 -0.12005 -0.12396 -0.12653 -0.12743 -0.13463 C -0.13056 -0.14203 -0.13195 -0.15036 -0.13542 -0.15753 C -0.1382 -0.17141 -0.14167 -0.18482 -0.14358 -0.19894 C -0.14323 -0.22392 -0.14323 -0.2489 -0.14236 -0.27388 C -0.14184 -0.28684 -0.13976 -0.29008 -0.13785 -0.30141 C -0.13455 -0.32015 -0.1316 -0.33888 -0.12969 -0.35808 C -0.12622 -0.3567 -0.12326 -0.3567 -0.1217 -0.35207 E">
                                      <p:cBhvr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3539 C 0.05434 0.03007 0.06788 0.02845 0.08143 0.02614 C 0.10695 0.01596 0.15191 0.02452 0.1665 0.02475 C 0.18334 0.02706 0.20018 0.031 0.21702 0.034 C 0.22795 0.03863 0.23907 0.03747 0.25035 0.04002 C 0.25955 0.0421 0.26788 0.04673 0.27674 0.05066 C 0.28004 0.05205 0.29653 0.05436 0.30209 0.05529 C 0.31702 0.06037 0.28837 0.05089 0.32275 0.05829 C 0.32483 0.05876 0.32639 0.06084 0.32847 0.06153 C 0.33907 0.065 0.35018 0.06778 0.36077 0.07055 C 0.38073 0.07587 0.40018 0.07865 0.42049 0.07981 C 0.45347 0.07819 0.47275 0.07749 0.50087 0.07379 C 0.50851 0.06616 0.5099 0.06593 0.52049 0.06292 C 0.52726 0.05714 0.53663 0.05459 0.54462 0.05228 C 0.54913 0.04858 0.55226 0.04673 0.55729 0.04464 C 0.5625 0.04002 0.56858 0.03701 0.57448 0.034 C 0.57778 0.02498 0.58507 0.02105 0.59063 0.01388 C 0.59844 0.0037 0.60347 -0.00902 0.60903 -0.02128 C 0.61216 -0.03539 0.61459 -0.04973 0.61702 -0.06408 C 0.61823 -0.07125 0.62049 -0.07819 0.6217 -0.08559 C 0.62153 -0.09415 0.63229 -0.16956 0.61129 -0.18806 C 0.60747 -0.19153 0.60261 -0.19269 0.59861 -0.19593 C 0.59323 -0.21004 0.55834 -0.21467 0.54688 -0.21582 C 0.54115 -0.21629 0.53542 -0.21675 0.52969 -0.21721 C 0.51163 -0.21837 0.49375 -0.21952 0.4757 -0.22045 C 0.47153 -0.22068 0.46719 -0.22045 0.46302 -0.22045 E">
                                      <p:cBhvr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abel the pictures with the food and the method of cooking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19684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3505320"/>
            <a:ext cx="20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golian Baiti"/>
              </a:rPr>
              <a:t>Roast 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438280" y="3581280"/>
            <a:ext cx="19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golian Baiti"/>
              </a:rPr>
              <a:t>Boiled carr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572000" y="358128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golian Baiti"/>
              </a:rPr>
              <a:t>Grilled st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934320" y="3505320"/>
            <a:ext cx="20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golian Baiti"/>
              </a:rPr>
              <a:t>Fried pra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6:50:59Z</dcterms:created>
  <dc:creator>user</dc:creator>
  <dc:description/>
  <dc:language>en-US</dc:language>
  <cp:lastModifiedBy>10432</cp:lastModifiedBy>
  <dcterms:modified xsi:type="dcterms:W3CDTF">2021-10-26T14:29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