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22.jpeg" ContentType="image/jpeg"/>
  <Override PartName="/ppt/media/image15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38.jpeg" ContentType="image/jpeg"/>
  <Override PartName="/ppt/media/image64.jpeg" ContentType="image/jpeg"/>
  <Override PartName="/ppt/media/image7.jpeg" ContentType="image/jpeg"/>
  <Override PartName="/ppt/media/image21.jpeg" ContentType="image/jpeg"/>
  <Override PartName="/ppt/media/image52.jpeg" ContentType="image/jpeg"/>
  <Override PartName="/ppt/media/image29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F84-826F-4060-9AF0-F36AD520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601-6B0E-4C8F-AEE8-7F5CE5C4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1AE-BA34-4EB1-9B0F-90E678D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49E-B81A-48E3-A5AC-D8795C8F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167-774D-45B0-AD10-1BF62D1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D2E-4B83-455D-8F3B-9D18FFE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693-DEEE-4867-95B3-2C012946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BAB-23D9-43E8-9DCC-D0666C2E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3CE-724A-4AD9-B140-CB29C74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6C-EA9E-4410-991C-3CECA4B8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957-3924-40EC-9126-93DC91C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611-62D3-46A3-B8B3-52CEB77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52F-C7F3-4A58-8201-5AB3B0A65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4;&#1086;&#1089;&#1087;&#1080;&#1090;&#1072;&#1090;&#1077;&#1083;&#1080;&amp;img_url=http://s10.rimg.info/a29038e3f7639887aea70b1818307af1.gif&amp;pos=148&amp;uinfo=sw-1102-sh-519-fw-877-fh-448-pd-1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5;&#1090;&#1077;&#1085;&#1080;&#1077;%20&#1082;&#1085;&#1080;&#1075;%20&#1082;&#1072;&#1088;&#1090;&#1080;&#1085;&#1082;&#1080;&amp;img_url=http://sch1996.edusite.ru/images/0_8c52a_e46ee1c0_xl.gif&amp;pos=10&amp;uinfo=sw-1102-sh-519-fw-877-fh-448-pd-1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4857840" y="4357800"/>
            <a:ext cx="407196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Разработала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воспитатель МБДОУ № 4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Постовало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Ольга Анатоль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143000" y="0"/>
            <a:ext cx="8001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</a:t>
            </a:r>
            <a:r>
              <a:rPr b="1" lang="en-US" sz="4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br>
              <a:rPr sz="4700"/>
            </a:br>
            <a:r>
              <a:rPr b="1" lang="ru-RU" sz="4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«Вода и водные ресурсы»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http://mirgif.com/KARTINKI/voda/voda-3.jpg"/>
          <p:cNvPicPr/>
          <p:nvPr/>
        </p:nvPicPr>
        <p:blipFill>
          <a:blip r:embed="rId1"/>
          <a:stretch/>
        </p:blipFill>
        <p:spPr>
          <a:xfrm>
            <a:off x="2214720" y="2928960"/>
            <a:ext cx="2500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6932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апы деятельности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92360" y="765000"/>
          <a:ext cx="7129440" cy="1938600"/>
        </p:xfrm>
        <a:graphic>
          <a:graphicData uri="http://schemas.openxmlformats.org/drawingml/2006/table">
            <a:tbl>
              <a:tblPr/>
              <a:tblGrid>
                <a:gridCol w="790560"/>
                <a:gridCol w="2631960"/>
                <a:gridCol w="3706920"/>
              </a:tblGrid>
              <a:tr h="779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добытой детьми 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детей с понятием «водные ресурс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видеороликов картин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картин известных русских художников, на чих картинах присутствует вода в различных состоян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2" descr="Лунная дорожка. Айвазовский Иван Константинович (1817-1900)"/>
          <p:cNvPicPr/>
          <p:nvPr/>
        </p:nvPicPr>
        <p:blipFill>
          <a:blip r:embed="rId1"/>
          <a:stretch/>
        </p:blipFill>
        <p:spPr>
          <a:xfrm>
            <a:off x="2124000" y="2852640"/>
            <a:ext cx="3703680" cy="258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Зима 1890"/>
          <p:cNvPicPr/>
          <p:nvPr/>
        </p:nvPicPr>
        <p:blipFill>
          <a:blip r:embed="rId2"/>
          <a:stretch/>
        </p:blipFill>
        <p:spPr>
          <a:xfrm>
            <a:off x="2411280" y="2997360"/>
            <a:ext cx="3810240" cy="246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Пейзаж с озером 1886"/>
          <p:cNvPicPr/>
          <p:nvPr/>
        </p:nvPicPr>
        <p:blipFill>
          <a:blip r:embed="rId3"/>
          <a:stretch/>
        </p:blipFill>
        <p:spPr>
          <a:xfrm>
            <a:off x="2771640" y="3141720"/>
            <a:ext cx="40975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Ручей в березовом лесу 1883"/>
          <p:cNvPicPr/>
          <p:nvPr/>
        </p:nvPicPr>
        <p:blipFill>
          <a:blip r:embed="rId4"/>
          <a:stretch/>
        </p:blipFill>
        <p:spPr>
          <a:xfrm>
            <a:off x="3059280" y="3284640"/>
            <a:ext cx="3809880" cy="258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ВОЛКОВ Ефим - Болото осенью. 200 русских живописцев"/>
          <p:cNvPicPr/>
          <p:nvPr/>
        </p:nvPicPr>
        <p:blipFill>
          <a:blip r:embed="rId5"/>
          <a:stretch/>
        </p:blipFill>
        <p:spPr>
          <a:xfrm>
            <a:off x="3348000" y="3429000"/>
            <a:ext cx="489096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ГОРЮШКИН-СОРОКОПУДОВ Иван - Солнце – на лето, зима – на мороз. 200 русских живописцев"/>
          <p:cNvPicPr/>
          <p:nvPr/>
        </p:nvPicPr>
        <p:blipFill>
          <a:blip r:embed="rId6"/>
          <a:stretch/>
        </p:blipFill>
        <p:spPr>
          <a:xfrm>
            <a:off x="3635280" y="3500280"/>
            <a:ext cx="4451400" cy="283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ВОЛКОВ Ефим - Пейзаж с прудом. 200 русских живописцев"/>
          <p:cNvPicPr/>
          <p:nvPr/>
        </p:nvPicPr>
        <p:blipFill>
          <a:blip r:embed="rId7"/>
          <a:stretch/>
        </p:blipFill>
        <p:spPr>
          <a:xfrm>
            <a:off x="4067280" y="3645000"/>
            <a:ext cx="3744720" cy="264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ЛАГОРИО Лев - В горах Кавказа. 200 русских живописцев"/>
          <p:cNvPicPr/>
          <p:nvPr/>
        </p:nvPicPr>
        <p:blipFill>
          <a:blip r:embed="rId8"/>
          <a:stretch/>
        </p:blipFill>
        <p:spPr>
          <a:xfrm>
            <a:off x="4500720" y="3789360"/>
            <a:ext cx="3743280" cy="275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БРЮЛЛОВ Павел - Пейзаж с рекой. 200 русских живописцев"/>
          <p:cNvPicPr/>
          <p:nvPr/>
        </p:nvPicPr>
        <p:blipFill>
          <a:blip r:embed="rId9"/>
          <a:stretch/>
        </p:blipFill>
        <p:spPr>
          <a:xfrm>
            <a:off x="6012000" y="2852640"/>
            <a:ext cx="2808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stat8.blog.ru/lr/0c22ab4fffddce1969450b5c6f4fdf4d"/>
          <p:cNvPicPr/>
          <p:nvPr/>
        </p:nvPicPr>
        <p:blipFill>
          <a:blip r:embed="rId1"/>
          <a:stretch/>
        </p:blipFill>
        <p:spPr>
          <a:xfrm>
            <a:off x="2124000" y="1557360"/>
            <a:ext cx="6800760" cy="424800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2"/>
          <p:cNvSpPr/>
          <p:nvPr/>
        </p:nvSpPr>
        <p:spPr>
          <a:xfrm>
            <a:off x="684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зличные состояния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4" descr="http://crazy.werd.ru/uploads/posts/2010-09-10/1284107024_snow.jpg"/>
          <p:cNvPicPr/>
          <p:nvPr/>
        </p:nvPicPr>
        <p:blipFill>
          <a:blip r:embed="rId2"/>
          <a:stretch/>
        </p:blipFill>
        <p:spPr>
          <a:xfrm>
            <a:off x="2411280" y="1125360"/>
            <a:ext cx="6154920" cy="504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http://www.obges.net/sites/default/files/news_images/164.jpg"/>
          <p:cNvPicPr/>
          <p:nvPr/>
        </p:nvPicPr>
        <p:blipFill>
          <a:blip r:embed="rId3"/>
          <a:stretch/>
        </p:blipFill>
        <p:spPr>
          <a:xfrm>
            <a:off x="2268360" y="1125360"/>
            <a:ext cx="6624720" cy="496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http://www.infotourism.net/images/7283.jpg"/>
          <p:cNvPicPr/>
          <p:nvPr/>
        </p:nvPicPr>
        <p:blipFill>
          <a:blip r:embed="rId4"/>
          <a:stretch/>
        </p:blipFill>
        <p:spPr>
          <a:xfrm>
            <a:off x="2050920" y="1125360"/>
            <a:ext cx="6832800" cy="496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http://fedrep.ru/sites/fedrep.ru/files/22/06/2012_-_0909/inf.jpg"/>
          <p:cNvPicPr/>
          <p:nvPr/>
        </p:nvPicPr>
        <p:blipFill>
          <a:blip r:embed="rId5"/>
          <a:stretch/>
        </p:blipFill>
        <p:spPr>
          <a:xfrm>
            <a:off x="1951200" y="1628640"/>
            <a:ext cx="6927840" cy="433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http://dlm3.meta.ua/pic/0/48/201/1Ow4ghiUbs.jpg"/>
          <p:cNvPicPr/>
          <p:nvPr/>
        </p:nvPicPr>
        <p:blipFill>
          <a:blip r:embed="rId6"/>
          <a:stretch/>
        </p:blipFill>
        <p:spPr>
          <a:xfrm>
            <a:off x="1979640" y="1592280"/>
            <a:ext cx="6956280" cy="4352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6" descr="http://www.futbolki.com/allimages/news/kris/New%20Folder/01.gif"/>
          <p:cNvPicPr/>
          <p:nvPr/>
        </p:nvPicPr>
        <p:blipFill>
          <a:blip r:embed="rId7"/>
          <a:stretch/>
        </p:blipFill>
        <p:spPr>
          <a:xfrm>
            <a:off x="1908000" y="1125360"/>
            <a:ext cx="6994800" cy="525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" descr="http://img1.liveinternet.ru/images/attach/c/1/59/627/59627379_1275129619_5725514.jpg"/>
          <p:cNvPicPr/>
          <p:nvPr/>
        </p:nvPicPr>
        <p:blipFill>
          <a:blip r:embed="rId8"/>
          <a:stretch/>
        </p:blipFill>
        <p:spPr>
          <a:xfrm>
            <a:off x="1979640" y="1125360"/>
            <a:ext cx="6913440" cy="518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http://www.poetryclub.com.ua/upload/poem_all/00305944.jpg"/>
          <p:cNvPicPr/>
          <p:nvPr/>
        </p:nvPicPr>
        <p:blipFill>
          <a:blip r:embed="rId9"/>
          <a:stretch/>
        </p:blipFill>
        <p:spPr>
          <a:xfrm>
            <a:off x="2006640" y="1125360"/>
            <a:ext cx="6912000" cy="518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0" descr="http://www.raut.ru/files/tato/gallery/summer/picsdesktop.net_58.jpg"/>
          <p:cNvPicPr/>
          <p:nvPr/>
        </p:nvPicPr>
        <p:blipFill>
          <a:blip r:embed="rId10"/>
          <a:stretch/>
        </p:blipFill>
        <p:spPr>
          <a:xfrm>
            <a:off x="1979640" y="1125360"/>
            <a:ext cx="69390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6880" y="213840"/>
            <a:ext cx="66265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апы деятельности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14680" y="1071720"/>
          <a:ext cx="7178400" cy="2155680"/>
        </p:xfrm>
        <a:graphic>
          <a:graphicData uri="http://schemas.openxmlformats.org/drawingml/2006/table">
            <a:tbl>
              <a:tblPr/>
              <a:tblGrid>
                <a:gridCol w="796680"/>
                <a:gridCol w="2498760"/>
                <a:gridCol w="3882960"/>
              </a:tblGrid>
              <a:tr h="571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эксперименталь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НОД  по развитию речи  и окружающему миру на тему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ирование  совместно с воспитателем  (изучение свойств воды, её значение для живой природы и челове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познавательно-исследовательская деятельность в экспериментальном уголке и на прогул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4" descr="H:\Проектная деятельность\Вода и водные ресурсы\ФОТО ПРОЕКТ 2013\Фото1299.jpg"/>
          <p:cNvPicPr/>
          <p:nvPr/>
        </p:nvPicPr>
        <p:blipFill>
          <a:blip r:embed="rId1"/>
          <a:stretch/>
        </p:blipFill>
        <p:spPr>
          <a:xfrm>
            <a:off x="607212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286000" y="3929040"/>
            <a:ext cx="3429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кспериментирование с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H:\Проектная деятельность\Вода и водные ресурсы\ФОТО ПРОЕКТ 2013\Фото1207.jpg"/>
          <p:cNvPicPr/>
          <p:nvPr/>
        </p:nvPicPr>
        <p:blipFill>
          <a:blip r:embed="rId1"/>
          <a:stretch/>
        </p:blipFill>
        <p:spPr>
          <a:xfrm>
            <a:off x="3000240" y="392904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M:\Проектная деятельность\Вода и водные ресурсы\ФОТО ПРОЕКТ 2013\Фото1402.jpg"/>
          <p:cNvPicPr/>
          <p:nvPr/>
        </p:nvPicPr>
        <p:blipFill>
          <a:blip r:embed="rId2"/>
          <a:stretch/>
        </p:blipFill>
        <p:spPr>
          <a:xfrm>
            <a:off x="1357200" y="92880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:\Проектная деятельность\Вода и водные ресурсы\ФОТО ПРОЕКТ 2013\Фото1210.jpg"/>
          <p:cNvPicPr/>
          <p:nvPr/>
        </p:nvPicPr>
        <p:blipFill>
          <a:blip r:embed="rId3"/>
          <a:stretch/>
        </p:blipFill>
        <p:spPr>
          <a:xfrm>
            <a:off x="5214960" y="92880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:\Проектная деятельность\Вода и водные ресурсы\ФОТО ПРОЕКТ 2013\Фото1408.jpg"/>
          <p:cNvPicPr/>
          <p:nvPr/>
        </p:nvPicPr>
        <p:blipFill>
          <a:blip r:embed="rId1"/>
          <a:stretch/>
        </p:blipFill>
        <p:spPr>
          <a:xfrm>
            <a:off x="1643040" y="857160"/>
            <a:ext cx="345600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2"/>
          <p:cNvSpPr/>
          <p:nvPr/>
        </p:nvSpPr>
        <p:spPr>
          <a:xfrm>
            <a:off x="684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гры и забавы на прогу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M:\Проектная деятельность\Вода и водные ресурсы\ФОТО ПРОЕКТ 2013\Фото1415.jpg"/>
          <p:cNvPicPr/>
          <p:nvPr/>
        </p:nvPicPr>
        <p:blipFill>
          <a:blip r:embed="rId2"/>
          <a:stretch/>
        </p:blipFill>
        <p:spPr>
          <a:xfrm>
            <a:off x="5429160" y="8571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3143160" y="3714840"/>
            <a:ext cx="431964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2"/>
          <p:cNvSpPr/>
          <p:nvPr/>
        </p:nvSpPr>
        <p:spPr>
          <a:xfrm>
            <a:off x="9144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гры и забавы на прогу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M:\Проектная деятельность\Вода и водные ресурсы\ФОТО ПРОЕКТ 2013\Фото1412.jpg"/>
          <p:cNvPicPr/>
          <p:nvPr/>
        </p:nvPicPr>
        <p:blipFill>
          <a:blip r:embed="rId1"/>
          <a:stretch/>
        </p:blipFill>
        <p:spPr>
          <a:xfrm>
            <a:off x="5580000" y="1197000"/>
            <a:ext cx="336096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M:\Проектная деятельность\Вода и водные ресурсы\ФОТО ПРОЕКТ 2013\Фото1421.jpg"/>
          <p:cNvPicPr/>
          <p:nvPr/>
        </p:nvPicPr>
        <p:blipFill>
          <a:blip r:embed="rId2"/>
          <a:stretch/>
        </p:blipFill>
        <p:spPr>
          <a:xfrm>
            <a:off x="3419640" y="393372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:\Проектная деятельность\Вода и водные ресурсы\ФОТО ПРОЕКТ 2013\Фото1414.jpg"/>
          <p:cNvPicPr/>
          <p:nvPr/>
        </p:nvPicPr>
        <p:blipFill>
          <a:blip r:embed="rId3"/>
          <a:stretch/>
        </p:blipFill>
        <p:spPr>
          <a:xfrm>
            <a:off x="2017800" y="1197000"/>
            <a:ext cx="3360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9144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гры и забавы на прогу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M:\Проектная деятельность\Вода и водные ресурсы\ФОТО ПРОЕКТ 2013\Фото1426.jpg"/>
          <p:cNvPicPr/>
          <p:nvPr/>
        </p:nvPicPr>
        <p:blipFill>
          <a:blip r:embed="rId1"/>
          <a:stretch/>
        </p:blipFill>
        <p:spPr>
          <a:xfrm>
            <a:off x="1763640" y="907920"/>
            <a:ext cx="3384720" cy="253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H:\Проектная деятельность\Вода и водные ресурсы\ФОТО ПРОЕКТ 2013\Фото1295.jpg"/>
          <p:cNvPicPr/>
          <p:nvPr/>
        </p:nvPicPr>
        <p:blipFill>
          <a:blip r:embed="rId2"/>
          <a:stretch/>
        </p:blipFill>
        <p:spPr>
          <a:xfrm>
            <a:off x="5435640" y="90792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M:\Проектная деятельность\Вода и водные ресурсы\ФОТО ПРОЕКТ 2013\Фото1404.jpg"/>
          <p:cNvPicPr/>
          <p:nvPr/>
        </p:nvPicPr>
        <p:blipFill>
          <a:blip r:embed="rId3"/>
          <a:stretch/>
        </p:blipFill>
        <p:spPr>
          <a:xfrm>
            <a:off x="3419640" y="378936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336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борка стихов о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58560" y="907560"/>
            <a:ext cx="698508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чеек.(Т. Жибров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й дождь? (О. Григорье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ждик. (В. Минькова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колько я знаю дождей? (А.Тараскин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нежок и Алешка ( Е. Андреева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то не умывается ( П. Синяв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ряк (Е. Стеквашова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сенний разговор (С. Погорелов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336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борка загадок о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472000" y="603000"/>
            <a:ext cx="3368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Посмотрите-ка! В апр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С крыши брызги поле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И стараются, шлеп-шлеп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Попадать нам прямо в лоб. (Кап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ы журчим в апреле звонк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едь сугробы быстро таю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А мальчишки и девчо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нас кораблики пускают. (Ручь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аленькой рождаюсь 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Получаюсь из ручь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А до моря добегу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Стать широкою смогу. (Ре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море, только под водо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ожно встретиться с зем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Тут лежат морские звезд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Камешки, пе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Где-то близко ходит грозны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ажный осьмино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И погибшие су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Опускаются сюда. (Дн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море я всегда солен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А в реке я прес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Лишь в пустыне раскален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не совсем не место. (Вод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785960" y="857160"/>
            <a:ext cx="3240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Это - водные пустын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олны как бархан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Здесь, среди бездонной сини 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Штормы, ураганы. (Океан, мор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Хоть на море мы похож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ы внутри матер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нас порой впадают то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Ручеек или р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С океаном не знако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Назовите, дети, кто мы? (Озер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Он и льет, и льет, и ль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окрая по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Может, это верто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Сбрасывает вод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Нет, вода из обла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Угадай, он кто таков? (Дожд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 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океане ходим м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Словно синие хол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Океан - наш дом родно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нем немало ми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В шторм идем большой стеной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Helvetica Neue"/>
                <a:ea typeface="Arial"/>
              </a:rPr>
              <a:t>Утихаем в штиль. (Волн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словицы и поговорки о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2340000" y="692280"/>
            <a:ext cx="45720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Апрельские ручьи землю будя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да камень точ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ду в ступе толочь - вода и бу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де солнце пригреет, там и вода примеле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дать воды - не беда, да пришла бы в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ха вода, да омуты глубо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молчал, как воды в рот набра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в мутной воде рыбу ловя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рузья - не разлей во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к с гуся во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учше хлеб с водой, чем пирог с бед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ягушке волом не быть, сколько воды ни пи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ного с тех пор воды утекл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 обиженных воду возя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 зная броду, не лезь в вод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ужно наклониться, чтобы из ручья воды нап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д лежачий камень вода не теч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коль воду ни варить, все вода буд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леб да вода - крестьянская е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Чтобы рыбку съесть, надо в воду лез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ка узнается в течении, человек — в бесед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к рыба в воде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оя у ручья, не ценят вод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илами по воде писа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решете воду не нося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да путь най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 плюй в колодезь - пригодится воды нап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ды жалеть - кашу не свар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Цель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личности, видящей красоту окружающего водного пространства, стремящейся сохранять и оберегать природный мир, умеющей взаимодействовать с природой, соблюдая экологические пр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28880" y="2357280"/>
            <a:ext cx="7215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ормировать экологическую культуру и познавательную деятельность детей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азвивать у детей любознательность, наблюдательность, умение обобщать собственный опыт исследовательской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азвивать навыки моделирования и эксперимент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ормировать эстетическое восприятие окружающего мира, экологически правильного поведения в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7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апы деятельности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85960" y="1125360"/>
          <a:ext cx="7107120" cy="1943280"/>
        </p:xfrm>
        <a:graphic>
          <a:graphicData uri="http://schemas.openxmlformats.org/drawingml/2006/table">
            <a:tbl>
              <a:tblPr/>
              <a:tblGrid>
                <a:gridCol w="865080"/>
                <a:gridCol w="3002040"/>
                <a:gridCol w="3240000"/>
              </a:tblGrid>
              <a:tr h="5716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и закрепление полученного оп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раб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 с родителями изобразить портрет в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 с воспитателем изготовить макет «Природные источники в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H:\Проектная деятельность\Вода и водные ресурсы\ФОТО ПРОЕКТ 2013\Фото1313.jpg"/>
          <p:cNvPicPr/>
          <p:nvPr/>
        </p:nvPicPr>
        <p:blipFill>
          <a:blip r:embed="rId1"/>
          <a:stretch/>
        </p:blipFill>
        <p:spPr>
          <a:xfrm>
            <a:off x="5651640" y="3573360"/>
            <a:ext cx="323676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:\Проектная деятельность\Вода и водные ресурсы\ФОТО ПРОЕКТ 2013\Фото1312.jpg"/>
          <p:cNvPicPr/>
          <p:nvPr/>
        </p:nvPicPr>
        <p:blipFill>
          <a:blip r:embed="rId2"/>
          <a:stretch/>
        </p:blipFill>
        <p:spPr>
          <a:xfrm>
            <a:off x="2195640" y="3573360"/>
            <a:ext cx="3235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Зачем нужна в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:\Проектная деятельность\Вода и водные ресурсы\ФОТО ПРОЕКТ 2013\Фото1309.jpg"/>
          <p:cNvPicPr/>
          <p:nvPr/>
        </p:nvPicPr>
        <p:blipFill>
          <a:blip r:embed="rId1"/>
          <a:stretch/>
        </p:blipFill>
        <p:spPr>
          <a:xfrm>
            <a:off x="500040" y="7142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http://www.oreninform.ru/upload/iblock/c72/04.06%20tyqgxegrzcnghzsuwpfatozs%2014.jpg"/>
          <p:cNvPicPr/>
          <p:nvPr/>
        </p:nvPicPr>
        <p:blipFill>
          <a:blip r:embed="rId2"/>
          <a:stretch/>
        </p:blipFill>
        <p:spPr>
          <a:xfrm>
            <a:off x="4714920" y="714240"/>
            <a:ext cx="1765080" cy="1714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xakac.info/sites/default/files/725f228d551c_0.jpg?1260849479"/>
          <p:cNvPicPr/>
          <p:nvPr/>
        </p:nvPicPr>
        <p:blipFill>
          <a:blip r:embed="rId3"/>
          <a:stretch/>
        </p:blipFill>
        <p:spPr>
          <a:xfrm>
            <a:off x="2000160" y="271476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0" descr="http://im4-tub-ru.yandex.net/i?id=95027219-25-72&amp;n=21"/>
          <p:cNvPicPr/>
          <p:nvPr/>
        </p:nvPicPr>
        <p:blipFill>
          <a:blip r:embed="rId4"/>
          <a:stretch/>
        </p:blipFill>
        <p:spPr>
          <a:xfrm>
            <a:off x="2023920" y="485784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4" descr="http://im8-tub-ru.yandex.net/i?id=485879310-41-72&amp;n=21"/>
          <p:cNvPicPr/>
          <p:nvPr/>
        </p:nvPicPr>
        <p:blipFill>
          <a:blip r:embed="rId5"/>
          <a:stretch/>
        </p:blipFill>
        <p:spPr>
          <a:xfrm>
            <a:off x="2857680" y="71424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8" descr="http://im8-tub-ru.yandex.net/i?id=484998862-19-72&amp;n=21"/>
          <p:cNvPicPr/>
          <p:nvPr/>
        </p:nvPicPr>
        <p:blipFill>
          <a:blip r:embed="rId6"/>
          <a:stretch/>
        </p:blipFill>
        <p:spPr>
          <a:xfrm>
            <a:off x="4357800" y="271476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6" descr="http://im5-tub-ru.yandex.net/i?id=435492085-09-72&amp;n=21"/>
          <p:cNvPicPr/>
          <p:nvPr/>
        </p:nvPicPr>
        <p:blipFill>
          <a:blip r:embed="rId7"/>
          <a:stretch/>
        </p:blipFill>
        <p:spPr>
          <a:xfrm>
            <a:off x="4357800" y="4857840"/>
            <a:ext cx="2238120" cy="167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http://im6-tub-ru.yandex.net/i?id=664425948-12-72&amp;n=21"/>
          <p:cNvPicPr/>
          <p:nvPr/>
        </p:nvPicPr>
        <p:blipFill>
          <a:blip r:embed="rId8"/>
          <a:stretch/>
        </p:blipFill>
        <p:spPr>
          <a:xfrm>
            <a:off x="6715080" y="27147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0" descr="http://im0-tub-ru.yandex.net/i?id=608651752-34-72&amp;n=17"/>
          <p:cNvPicPr/>
          <p:nvPr/>
        </p:nvPicPr>
        <p:blipFill>
          <a:blip r:embed="rId9"/>
          <a:stretch/>
        </p:blipFill>
        <p:spPr>
          <a:xfrm>
            <a:off x="6667560" y="48578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"/>
          <p:cNvPicPr/>
          <p:nvPr/>
        </p:nvPicPr>
        <p:blipFill>
          <a:blip r:embed="rId10"/>
          <a:stretch/>
        </p:blipFill>
        <p:spPr>
          <a:xfrm>
            <a:off x="6572160" y="714240"/>
            <a:ext cx="2317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DCIM\101_FUJI\DSCF1555.JPG"/>
          <p:cNvPicPr/>
          <p:nvPr/>
        </p:nvPicPr>
        <p:blipFill>
          <a:blip r:embed="rId1"/>
          <a:stretch/>
        </p:blipFill>
        <p:spPr>
          <a:xfrm>
            <a:off x="1071720" y="785880"/>
            <a:ext cx="7715160" cy="578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I:\DCIM\101_FUJI\DSCF1556.JPG"/>
          <p:cNvPicPr/>
          <p:nvPr/>
        </p:nvPicPr>
        <p:blipFill>
          <a:blip r:embed="rId2"/>
          <a:stretch/>
        </p:blipFill>
        <p:spPr>
          <a:xfrm>
            <a:off x="1000080" y="785880"/>
            <a:ext cx="7786800" cy="5840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715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исунки детей совместно с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I:\DCIM\101_FUJI\DSCF1557.JPG"/>
          <p:cNvPicPr/>
          <p:nvPr/>
        </p:nvPicPr>
        <p:blipFill>
          <a:blip r:embed="rId3"/>
          <a:stretch/>
        </p:blipFill>
        <p:spPr>
          <a:xfrm>
            <a:off x="1000080" y="785880"/>
            <a:ext cx="7786800" cy="584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:\DCIM\101_FUJI\DSCF1558.JPG"/>
          <p:cNvPicPr/>
          <p:nvPr/>
        </p:nvPicPr>
        <p:blipFill>
          <a:blip r:embed="rId4"/>
          <a:stretch/>
        </p:blipFill>
        <p:spPr>
          <a:xfrm>
            <a:off x="1000080" y="785880"/>
            <a:ext cx="7786800" cy="584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:\DCIM\101_FUJI\DSCF1560.JPG"/>
          <p:cNvPicPr/>
          <p:nvPr/>
        </p:nvPicPr>
        <p:blipFill>
          <a:blip r:embed="rId5"/>
          <a:stretch/>
        </p:blipFill>
        <p:spPr>
          <a:xfrm>
            <a:off x="976320" y="785880"/>
            <a:ext cx="7810560" cy="585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I:\DCIM\101_FUJI\DSCF1561.JPG"/>
          <p:cNvPicPr/>
          <p:nvPr/>
        </p:nvPicPr>
        <p:blipFill>
          <a:blip r:embed="rId6"/>
          <a:stretch/>
        </p:blipFill>
        <p:spPr>
          <a:xfrm>
            <a:off x="928800" y="71424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00160" y="0"/>
            <a:ext cx="68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тоговый  продукт не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H:\Проектная деятельность\Вода и водные ресурсы\ФОТО ПРОЕКТ 2013\Фото1321.jpg"/>
          <p:cNvPicPr/>
          <p:nvPr/>
        </p:nvPicPr>
        <p:blipFill>
          <a:blip r:embed="rId1"/>
          <a:stretch/>
        </p:blipFill>
        <p:spPr>
          <a:xfrm>
            <a:off x="200016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720" y="4357440"/>
            <a:ext cx="70009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 воде надо помнить с большой буквы, так как она не только необходима для жизни, она сама жизн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643280" y="6000840"/>
            <a:ext cx="43293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(Сент-Экзюпе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http://olimp-k19.ru/sites/default/files/eko1.jpg"/>
          <p:cNvPicPr/>
          <p:nvPr/>
        </p:nvPicPr>
        <p:blipFill>
          <a:blip r:embed="rId1"/>
          <a:stretch/>
        </p:blipFill>
        <p:spPr>
          <a:xfrm>
            <a:off x="5786280" y="357120"/>
            <a:ext cx="278640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982880" y="357120"/>
            <a:ext cx="3746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071800" y="142920"/>
            <a:ext cx="7072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ид проекта: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 составу участников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– групп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 целевой установке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– информационно-практико-ориентирова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 срокам реализации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– краткосрочный (1 нед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дети видят и чувствуют красоту приро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знают и соблюдают правила поведения в природе (мусорить нельзя во время отдыха на водоеме, после отдыха необходимо все убрать за собой и друг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знают свойства воды и умеют о них рассказ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знают отличия соленой воды от прес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берегут природные ресурсы (всегда закрывают кран после умывания, мытья рук, при пользовании водой не включают её сильным напором и т. д.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8-tub-ru.yandex.net/i?id=115685075-0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8640" y="0"/>
            <a:ext cx="139536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1979640" y="1628640"/>
            <a:ext cx="68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дбор 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дбор материалов для проведения опы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дготовка уголка для экспериментирования с водой в группе и на территории прогулочного участ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роведение опытов и экспериментов вместе с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беспечение безопасности детей во время опытов и экспери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дбор загадок, стихов, сказок о во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разработка игр и игровых обучающих ситу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овлечение родителей в реализацию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25892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ятельность педагога в проек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3-tub-ru.yandex.net/i?id=156149403-46-72&amp;n=21"/>
          <p:cNvPicPr/>
          <p:nvPr/>
        </p:nvPicPr>
        <p:blipFill>
          <a:blip r:embed="rId1"/>
          <a:stretch/>
        </p:blipFill>
        <p:spPr>
          <a:xfrm>
            <a:off x="1476360" y="1052640"/>
            <a:ext cx="140004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0640" y="259920"/>
            <a:ext cx="6993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зучение методической литерат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16000" y="1341000"/>
            <a:ext cx="58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  <a:ea typeface="Aharoni"/>
              </a:rPr>
              <a:t>Материалы Интернет-сай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ttp://doshvozrast.ru/metodich/konsultac04.ht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ическая работа / Консультация для воспитателей детского сада / Проектная деятельность в детском саду. Проектный метод в деятельности Д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ttp://ds10slv.ru/specialistam/eksperimentalnaya-deyateln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кспериментальная деятельность в ДО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ttp://vospitatel.com.ua/category/proekty.htm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ы в дошкольном образовательном учрежде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ttp://vospitatel.edu54.ru/node/9364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ный метод в деятельности ДО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im5-tub-ru.yandex.net/i?id=127776984-1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476280"/>
            <a:ext cx="1629000" cy="1674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зучение методической литерату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620640"/>
            <a:ext cx="651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  <a:ea typeface="Aharoni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Бондаренко Т.М. Экологические занятия с детьми 5-6 лет: Практическое пособие для воспитателей и методистов ДОУ. – Воронеж: ТЦ «Учитель», 2004 г. – 159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Воз и маленькая тележка чудес. Опыты и эксперименты для детей от 3 до 7 лет. Автор-составитель: Зубкова Н.М. – С-Пб.: Речь, 2006 г. – 64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Гризик Т. Познаю мир. – М.: Издательский дом «Воспитание дошкольника». – 2004 г. – 128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Иванова А.И. Методика организации экологических наблюдений и экспериментов в детском саду: Пособие для работников дошкольных учреждений. – М.: ТЦ «Сфера», 2003 г. – 56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Ковинько Л. Секреты природы – это так интересно! – М.: «Линка-Пресс», 2004 г. – 72 с.: 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Организация экспериментальной деятельности дошкольников: Методические рекомендации./ под общей редакцией Прохоровой Л.Н. – 3-е издание., исправленное и дополненное. М.: АРКТИ, 2005 г. – 64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Рыжова Н.А. Волшебница вода. Учебно-методический комплект по экологическому образованию дошкольников. М.: «Линка-Пресс», 2004 г. – 72 с.: 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Рыжова Н.А. Я и природа. Учебно-методический комплект по экологическому образованию дошкольников. М.: «Линка-Пресс», 2004 г. – 72 с.: 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Aharoni"/>
              </a:rPr>
              <a:t>Николаева С.Н. юный эколог: Пролрамма экологического воспитания дошкольников. – М.: Мозаика-Синтез, 2002. – 128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im8-tub-ru.yandex.net/i?id=242359150-07-72&amp;n=21"/>
          <p:cNvPicPr/>
          <p:nvPr/>
        </p:nvPicPr>
        <p:blipFill>
          <a:blip r:embed="rId1"/>
          <a:stretch/>
        </p:blipFill>
        <p:spPr>
          <a:xfrm>
            <a:off x="6929280" y="50720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4-tub-ru.yandex.net/i?id=170358763-63-72&amp;n=21"/>
          <p:cNvPicPr/>
          <p:nvPr/>
        </p:nvPicPr>
        <p:blipFill>
          <a:blip r:embed="rId2"/>
          <a:stretch/>
        </p:blipFill>
        <p:spPr>
          <a:xfrm>
            <a:off x="6643800" y="2714760"/>
            <a:ext cx="2001600" cy="1145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44035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бота с родителя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23640" y="907920"/>
            <a:ext cx="6769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знакомство и привлечение родителей к планируемой деятельности (индивидуальные беседы, поручения, оформление приёмно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домашние задания (поиск информации, рисунки совместно с деть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1619280" y="3213000"/>
            <a:ext cx="44035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бота с педагога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2195640" y="4005360"/>
            <a:ext cx="67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ланирование деятельности по реализации про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дбор игр, материалов, тем занятий, оформление книжного уго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1403280" y="274680"/>
            <a:ext cx="72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Выявление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http://www.21.by/pub/news/2011/06/1307732472304899.gif"/>
          <p:cNvPicPr/>
          <p:nvPr/>
        </p:nvPicPr>
        <p:blipFill>
          <a:blip r:embed="rId1"/>
          <a:stretch/>
        </p:blipFill>
        <p:spPr>
          <a:xfrm>
            <a:off x="2195640" y="1268280"/>
            <a:ext cx="4011480" cy="373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2 из 104117"/>
          <p:cNvPicPr/>
          <p:nvPr/>
        </p:nvPicPr>
        <p:blipFill>
          <a:blip r:embed="rId2"/>
          <a:stretch/>
        </p:blipFill>
        <p:spPr>
          <a:xfrm>
            <a:off x="6296040" y="1268280"/>
            <a:ext cx="2847960" cy="380052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2843280" y="5661000"/>
            <a:ext cx="496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338"/>
                </a:solidFill>
                <a:latin typeface="Calibri"/>
              </a:rPr>
              <a:t>Зачем на земле нужна вод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960" y="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апы деятельности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43040" y="928800"/>
          <a:ext cx="7176960" cy="1728720"/>
        </p:xfrm>
        <a:graphic>
          <a:graphicData uri="http://schemas.openxmlformats.org/drawingml/2006/table">
            <a:tbl>
              <a:tblPr/>
              <a:tblGrid>
                <a:gridCol w="1000080"/>
                <a:gridCol w="2417760"/>
                <a:gridCol w="3759120"/>
              </a:tblGrid>
              <a:tr h="5713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задачи: получить информацию о значении воды на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ить у компетентного взрослого,  посмотреть в интернете вместе с родителями, прочитать с родителями в книге, журнале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4" descr="Картинка 57 из 52289"/>
          <p:cNvPicPr/>
          <p:nvPr/>
        </p:nvPicPr>
        <p:blipFill>
          <a:blip r:embed="rId1"/>
          <a:stretch/>
        </p:blipFill>
        <p:spPr>
          <a:xfrm>
            <a:off x="6286680" y="2714760"/>
            <a:ext cx="256536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257 из 109886"/>
          <p:cNvPicPr/>
          <p:nvPr/>
        </p:nvPicPr>
        <p:blipFill>
          <a:blip r:embed="rId2"/>
          <a:stretch/>
        </p:blipFill>
        <p:spPr>
          <a:xfrm>
            <a:off x="2071800" y="2786040"/>
            <a:ext cx="203652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Картинка 11 из 7306"/>
          <p:cNvPicPr/>
          <p:nvPr/>
        </p:nvPicPr>
        <p:blipFill>
          <a:blip r:embed="rId3"/>
          <a:stretch/>
        </p:blipFill>
        <p:spPr>
          <a:xfrm>
            <a:off x="3929040" y="4572000"/>
            <a:ext cx="2400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ользователь Windows</cp:lastModifiedBy>
  <dcterms:modified xsi:type="dcterms:W3CDTF">2021-10-26T09:39:28Z</dcterms:modified>
  <cp:revision>154</cp:revision>
  <dc:subject/>
  <dc:title>Шаблон презентации</dc:title>
</cp:coreProperties>
</file>