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C83-1D85-46EB-90DC-5317FF15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5AE-AAD4-4DD9-81E5-E4D60707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E46-3540-4005-BBB7-DE32F713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5D5-ABB9-483A-8D1D-7BDA316C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B86D-8D0E-4B2E-9D46-686B767C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743F-E480-4231-B398-7A591183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BA85-C822-422A-BF4F-02AA818F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DB0F-C9BC-4D71-9E09-8A16BA2D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7166-6805-42E7-8435-4566340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DCF4-908D-48E6-870D-81A361B7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F354-F6AE-4295-B0A5-334C244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FAB-522A-4C1B-A9DF-385C557B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A7B2-8F90-41CE-A08A-0CDF707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A0B9-959A-4FAE-B926-3ACB4E08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D050-5163-4336-B513-BBBEF474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C860-9F54-4D8B-BC5A-BE6D5BED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FA0D-E911-4FE0-97FC-EEFEBFA9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DB8AB-F592-4E07-A6F1-7D848244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AF13-5838-4476-B9E8-6734AF27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238E-ADEE-4A9E-A26E-903CFC9D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6239-CE7B-4022-835C-1DF17D75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5E25-6A22-4D23-86B3-41D09B1C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67F-BDBD-4FAD-B792-96CF1A3C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50B1-92F4-4701-A948-BC65A88B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348D-7BB7-4A4D-8730-FF36904E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C1D0-7546-4A04-9E54-3CBBF993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53BB-0757-4559-9A65-B520E146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C847A-81A8-49B9-9D94-85B2548B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E473-17B5-49BC-8E87-C34A5B72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A775-4561-48C5-A77C-CC6BEA6F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CF25-5A73-4F32-828D-E80DFD9D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534F-2158-4469-8D71-74B4941D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3875E-ADB7-4681-B122-4A1AC04A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C82-A61B-471C-898A-931B87AC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1874-2086-4E70-A097-CDE1ED60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5011-0D7C-4A73-9921-4C5934FA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9FB8-09FA-4B4F-AD24-48F8BE5D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3CF2-EA04-4552-BE1A-3AD2045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0401-F713-4B26-95E0-B5CE5DC9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579D-E71A-4A79-849F-EF3892A4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E93E-9496-46A4-BBB9-43455660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3165-C0FB-420A-97D3-8DEA0EF6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8463-C9E1-4D0E-AECE-6C9CF8D4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4A80-1AA1-49CE-BA33-E1561732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62A-0CAA-4524-8954-E8EC58F7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45D7-047D-4C98-8B16-2AAA9A92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3BF5-3812-4D7A-8F30-6CE4A0B8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E17D4-94B6-48B6-9312-F4590E53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05A0-39B4-4FA2-9088-1CA88E2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FDD2-9283-41A6-B169-ADF69F2F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63D48-B7C4-42E9-B04F-82902D6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1F3BC-0CEF-41BE-8714-8A5BC57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5C40D-85F8-4FBC-AC2A-165F853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7F9A0-42C9-46DD-9A0A-FD3F83FC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A33AF-1690-47F6-8495-179EDAF0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B6D-A131-46AF-AC07-6EFBD3AF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254E0-5948-4AFF-B491-2BE16991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54A5B-0E4C-4221-9C90-A3D7E80C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84306-6073-4AA0-8458-5B4C618D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4696E-9F67-4F12-8B35-3068D55F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E2078-97C0-4787-8E2D-DF22C69D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66426-B530-4E75-972E-59580B5E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50827-8B17-46AE-9045-3DAFF896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4C849-6887-48F1-8FA7-9EA0EC1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300A7-9512-404F-A3CF-78EBD7C7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90300-6EFD-4E6B-98E2-F05CFD1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FF4-AFB1-4281-8A8D-ED0B1D3F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50F64-5A2E-48D2-ACC3-04324986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A445F-4313-4C0E-8960-4F5E031F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E48FC-CC78-4CA1-83D3-8A5D7EEE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230-CD4A-4E09-80C5-7C363BDA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78C-E853-4EE8-914D-4CED8518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BB19-EC8B-4439-AEA4-3B47355A269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77BB-3F90-4E0E-AF02-C9CDDFE49D3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6C6E-C9D9-4102-A563-41ABDEB4FB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E141-D8E0-44FA-854E-279971295F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A02B-1DC7-4BDD-85A3-C47D22AA33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017E-B687-418F-AC80-2DD3877A3E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Самая трудная и загадочная профессия – спасатель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00" name="" descr="Картинка 17 из 168939"/>
          <p:cNvPicPr/>
          <p:nvPr/>
        </p:nvPicPr>
        <p:blipFill>
          <a:blip r:embed="rId1"/>
          <a:stretch/>
        </p:blipFill>
        <p:spPr>
          <a:xfrm>
            <a:off x="3201840" y="1916280"/>
            <a:ext cx="25225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Герой спасатель -всегда рядом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в дом пришла бед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вам спасатели всегда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летят под вой сирены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помогут вам мгновен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чень спаянный отряд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находчивых ребят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смелы, добры, умелы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ло слов, но много де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572000" y="4076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Картинка 800 из 34840"/>
          <p:cNvPicPr/>
          <p:nvPr/>
        </p:nvPicPr>
        <p:blipFill>
          <a:blip r:embed="rId3"/>
          <a:stretch/>
        </p:blipFill>
        <p:spPr>
          <a:xfrm>
            <a:off x="4572000" y="1557360"/>
            <a:ext cx="4176720" cy="2519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Картинка 801 из 34840"/>
          <p:cNvPicPr/>
          <p:nvPr/>
        </p:nvPicPr>
        <p:blipFill>
          <a:blip r:embed="rId4"/>
          <a:stretch/>
        </p:blipFill>
        <p:spPr>
          <a:xfrm>
            <a:off x="4572000" y="4076640"/>
            <a:ext cx="4176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еньше б стало ситуаций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де приходится стараться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 беды людей спасать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оря б меньше вам вид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ы, спасатели страны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чень Родине нужны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7" name="" descr="Картинка 1560 из 34840"/>
          <p:cNvPicPr/>
          <p:nvPr/>
        </p:nvPicPr>
        <p:blipFill>
          <a:blip r:embed="rId2"/>
          <a:stretch/>
        </p:blipFill>
        <p:spPr>
          <a:xfrm>
            <a:off x="4716360" y="907920"/>
            <a:ext cx="4032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66200" y="3412800"/>
            <a:ext cx="81392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Они придут на помощь к нам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Когда бушует океан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Когда землетрясение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Тайфун иль наводнени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Рискуя жизнью,  нас спасут  –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Такой у них опасный труд!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Кто спасает нас от катастроф? </a:t>
            </a:r>
            <a:br>
              <a:rPr sz="3600"/>
            </a:b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Про героев этих скажем несколько слов! Что бы не стряслось с нами порой- </a:t>
            </a:r>
            <a:br>
              <a:rPr sz="3600"/>
            </a:b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 К подвигам готов Спасатель</a:t>
            </a:r>
            <a:br>
              <a:rPr sz="3600"/>
            </a:b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-супергерой!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Спасатель-тот, кто спасает кого-либо.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66200" y="3933360"/>
            <a:ext cx="4040280" cy="2187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4716360" y="4005000"/>
            <a:ext cx="3678480" cy="2189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Картинка 54 из 169753"/>
          <p:cNvPicPr/>
          <p:nvPr/>
        </p:nvPicPr>
        <p:blipFill>
          <a:blip r:embed="rId5"/>
          <a:stretch/>
        </p:blipFill>
        <p:spPr>
          <a:xfrm>
            <a:off x="4643280" y="155736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Картинка 65 из 169753"/>
          <p:cNvPicPr/>
          <p:nvPr/>
        </p:nvPicPr>
        <p:blipFill>
          <a:blip r:embed="rId6"/>
          <a:stretch/>
        </p:blipFill>
        <p:spPr>
          <a:xfrm>
            <a:off x="395280" y="1557360"/>
            <a:ext cx="4105440" cy="2303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Картинка 128 из 169753"/>
          <p:cNvPicPr/>
          <p:nvPr/>
        </p:nvPicPr>
        <p:blipFill>
          <a:blip r:embed="rId7"/>
          <a:stretch/>
        </p:blipFill>
        <p:spPr>
          <a:xfrm>
            <a:off x="395280" y="393372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Картинка 307 из 170218"/>
          <p:cNvPicPr/>
          <p:nvPr/>
        </p:nvPicPr>
        <p:blipFill>
          <a:blip r:embed="rId8"/>
          <a:stretch/>
        </p:blipFill>
        <p:spPr>
          <a:xfrm>
            <a:off x="4716360" y="4005360"/>
            <a:ext cx="388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офессия спасате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офессия спасателя… Обычными людьми спасателей назвать трудно. Именно спасатель может предотвратить смерть человека, избавить его от неминуемой гибели в любой чрезвычайной ситуации, вовремя прийти на помощь. Профессию спасателя можно поставить в один ряд с такими благородными  профессиями, как врач или учител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Спасатель-работа для настоящих мужчин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асатель там, где есть беда,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дёт на помощь он всегда.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 сомневаться нет причин: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асать - работа для мужчин.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643280" y="1628640"/>
            <a:ext cx="40388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Картинка 10 из 34654"/>
          <p:cNvPicPr/>
          <p:nvPr/>
        </p:nvPicPr>
        <p:blipFill>
          <a:blip r:embed="rId2"/>
          <a:stretch/>
        </p:blipFill>
        <p:spPr>
          <a:xfrm>
            <a:off x="4572000" y="1557360"/>
            <a:ext cx="4213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асателю сегодня нужно многому учиться и много тренироваться. Нужно хорошо знать технику, физику, химию, быть психоло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енированный, физически сильный и выносливый, технически грамотный, умеющий найти выход из самых сложных ситуаций, таков современный спасатель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Картинка 456 из 34840"/>
          <p:cNvPicPr/>
          <p:nvPr/>
        </p:nvPicPr>
        <p:blipFill>
          <a:blip r:embed="rId1"/>
          <a:stretch/>
        </p:blipFill>
        <p:spPr>
          <a:xfrm>
            <a:off x="4284720" y="476280"/>
            <a:ext cx="4680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Это люди, которые  постоянно отдают частичку себя другим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пасатель – это умный, сильный, мужественный и трудолюбивый человек. Спасатели работают в любое время суток, в любые погодные условия. Ни дождь, ни снег, ни град, ни ветер не пугают таких сильных людей, как спасатели. Они жертвуют своим здоровьем, а зачастую и жизнью, чтобы помочь нуждающимся в них людям.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42920" y="1557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" descr="Картинка 247 из 34840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«В жизни всегда есть место подвигам»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жар. Наводнение. Землетрясение. ДТП. Спасатели всегда рядом, готовы прийти на помощь: ищут пропавших людей в горах или лесу,  спасают отнесенных в море  рыбаков, тушат горящий лес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Картинка 207 из 34840"/>
          <p:cNvPicPr/>
          <p:nvPr/>
        </p:nvPicPr>
        <p:blipFill>
          <a:blip r:embed="rId1"/>
          <a:stretch/>
        </p:blipFill>
        <p:spPr>
          <a:xfrm>
            <a:off x="4881600" y="1557360"/>
            <a:ext cx="3651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Быть спасателем- это призв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Цена человеческой жизни… Кто знает ее лучше? Наверное, в первую очередь-спасатель. Ведь именно он, пробираясь сквозь бетонные завалы, спускаясь под многометровую толщу воды, укрощая пламя, протягивает руку помощи тем, кто в ней нуждается. Путь спасателя труден и рискован. Но он идет по нему, чтобы в любую минуту оказаться рядом  с теми, кто попал в беду, и дать шанс на спас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8:50:08Z</dcterms:created>
  <dc:creator>Даша</dc:creator>
  <dc:description/>
  <dc:language>en-US</dc:language>
  <cp:lastModifiedBy>Даша</cp:lastModifiedBy>
  <dcterms:modified xsi:type="dcterms:W3CDTF">2013-09-28T12:26:31Z</dcterms:modified>
  <cp:revision>5</cp:revision>
  <dc:subject/>
  <dc:title> Самая трудная и загадочная профессия – спасатель.</dc:title>
</cp:coreProperties>
</file>