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4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28.png" ContentType="image/pn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C4E-72D7-4AFA-8835-B97C1883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A27-3BA8-4CF5-9A81-2B8696FF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C44-1312-45B4-B2A1-9FF43A57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7F32-F142-4199-AE47-5AD19853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DABE-D706-4CAF-B244-D4BABF52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F6E6-7955-4AC7-BE10-EDDEFD17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035-1042-4675-84A3-C7D2B34B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B0A-5225-44EF-8B2D-60149D78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6402-1C09-4382-87DC-22C33AFD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40C-3063-4D88-A917-E1FEB378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ED4-E67E-419E-942D-EADDB4CB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BB44-939F-4106-AB37-A0A0A8B8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96F1-72A5-4B64-8CB6-E0B48AC128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8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Тема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: Сила Лоренца.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Решение задач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90440" y="2301840"/>
            <a:ext cx="8489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Цель урок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ировать умения определять  направление силы Лоренца, и вычислять её значения, развивать навыки логического мыш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6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EBD0-4B62-46E9-AD3B-BE0E184A18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Пространственные траектории заряженных частиц в магнитном пол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ица влетает в магнитное поле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  <a:ea typeface="Arial"/>
              </a:rPr>
              <a:t>ll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лини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магнитной индукции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&gt;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l-GR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α</a:t>
            </a:r>
            <a:r>
              <a:rPr b="1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= 0˚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&gt;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in </a:t>
            </a:r>
            <a:r>
              <a:rPr b="1" lang="el-GR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28600" y="457200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Если сила, действующая на частицу,  = 0, то частица, влетающая в магнитное поле, будет двигать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Times New Roman"/>
              </a:rPr>
              <a:t>равномерно и прямолинейно вдоль линий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агнитной индук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4879_ris55"/>
          <p:cNvPicPr/>
          <p:nvPr/>
        </p:nvPicPr>
        <p:blipFill>
          <a:blip r:embed="rId1"/>
          <a:stretch/>
        </p:blipFill>
        <p:spPr>
          <a:xfrm>
            <a:off x="3429000" y="2895480"/>
            <a:ext cx="4952880" cy="1524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1066680" y="3048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755000" y="297648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л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=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6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D636-C5D5-405F-92C9-6B910545E8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Пространственные траектории заряженных частиц в магнитном пол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3733560"/>
            <a:ext cx="861048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вектор 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Arial"/>
              </a:rPr>
              <a:t>┴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вектору скорости </a:t>
            </a:r>
            <a:r>
              <a:rPr b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,                                   то </a:t>
            </a:r>
            <a:r>
              <a:rPr b="1" lang="el-GR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α</a:t>
            </a:r>
            <a:r>
              <a:rPr b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= 90˚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in </a:t>
            </a:r>
            <a:r>
              <a:rPr b="1" lang="el-GR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= </a:t>
            </a:r>
            <a:r>
              <a:rPr b="1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1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этом случае сила Лоренца максимальна, значит, частица будет двигаться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с центростремительным ускорением по окруж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4879_ris53"/>
          <p:cNvPicPr/>
          <p:nvPr/>
        </p:nvPicPr>
        <p:blipFill>
          <a:blip r:embed="rId1"/>
          <a:stretch/>
        </p:blipFill>
        <p:spPr>
          <a:xfrm>
            <a:off x="380880" y="1600200"/>
            <a:ext cx="2819520" cy="1676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z2"/>
          <p:cNvPicPr/>
          <p:nvPr/>
        </p:nvPicPr>
        <p:blipFill>
          <a:blip r:embed="rId2"/>
          <a:stretch/>
        </p:blipFill>
        <p:spPr>
          <a:xfrm>
            <a:off x="3505320" y="1676520"/>
            <a:ext cx="220968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Object 12"/>
              <p:cNvSpPr txBox="1"/>
              <p:nvPr/>
            </p:nvSpPr>
            <p:spPr>
              <a:xfrm>
                <a:off x="5105520" y="4191120"/>
                <a:ext cx="26175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Л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υ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AutoShape 13"/>
          <p:cNvSpPr/>
          <p:nvPr/>
        </p:nvSpPr>
        <p:spPr>
          <a:xfrm>
            <a:off x="2971800" y="3733920"/>
            <a:ext cx="304920" cy="75960"/>
          </a:xfrm>
          <a:prstGeom prst="rightArrow">
            <a:avLst>
              <a:gd name="adj1" fmla="val 50000"/>
              <a:gd name="adj2" fmla="val 10035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4"/>
          <p:cNvSpPr/>
          <p:nvPr/>
        </p:nvSpPr>
        <p:spPr>
          <a:xfrm>
            <a:off x="6705720" y="3809880"/>
            <a:ext cx="304560" cy="76320"/>
          </a:xfrm>
          <a:prstGeom prst="rightArrow">
            <a:avLst>
              <a:gd name="adj1" fmla="val 50000"/>
              <a:gd name="adj2" fmla="val 9976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15" descr="lorenz"/>
          <p:cNvPicPr/>
          <p:nvPr/>
        </p:nvPicPr>
        <p:blipFill>
          <a:blip r:embed="rId3"/>
          <a:srcRect l="51972" t="8957" r="2362" b="26870"/>
          <a:stretch/>
        </p:blipFill>
        <p:spPr>
          <a:xfrm>
            <a:off x="5867280" y="1600200"/>
            <a:ext cx="27432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D947-F61A-44C8-AF21-1A7A08EE66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Пространственные траектории заряженных частиц в магнитном пол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124080" y="182844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ктор скорости нужно разложить на две составляющие: </a:t>
            </a:r>
            <a:r>
              <a:rPr b="1" lang="ru-RU" sz="2400" spc="-1" strike="noStrike">
                <a:solidFill>
                  <a:srgbClr val="cc0000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║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1" lang="ru-RU" sz="2400" spc="-1" strike="noStrike">
                <a:solidFill>
                  <a:srgbClr val="cc0000"/>
                </a:solidFill>
                <a:latin typeface="Symbol"/>
                <a:ea typeface="Symbol"/>
              </a:rPr>
              <a:t>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┴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                   т.е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дставить сложное движение частицы  в виде двух простых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вномерного прямолинейного движения вдоль линий индукции                  и движения по окружности перпендикулярно линиям индукции –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частица движется по спирали</a:t>
            </a:r>
            <a:r>
              <a:rPr b="1" lang="ru-RU" sz="20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4879_ris54"/>
          <p:cNvPicPr/>
          <p:nvPr/>
        </p:nvPicPr>
        <p:blipFill>
          <a:blip r:embed="rId1"/>
          <a:stretch/>
        </p:blipFill>
        <p:spPr>
          <a:xfrm>
            <a:off x="304920" y="1828800"/>
            <a:ext cx="2590560" cy="1171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685800" y="28195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7" descr="13"/>
          <p:cNvPicPr/>
          <p:nvPr/>
        </p:nvPicPr>
        <p:blipFill>
          <a:blip r:embed="rId2"/>
          <a:stretch/>
        </p:blipFill>
        <p:spPr>
          <a:xfrm>
            <a:off x="304920" y="3200400"/>
            <a:ext cx="2590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320px-Cyclotron_motion_wider_view"/>
          <p:cNvPicPr/>
          <p:nvPr/>
        </p:nvPicPr>
        <p:blipFill>
          <a:blip r:embed="rId1"/>
          <a:stretch/>
        </p:blipFill>
        <p:spPr>
          <a:xfrm>
            <a:off x="900000" y="404640"/>
            <a:ext cx="72010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№ 5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Где используют в современной технике силу Лоренц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тклонение катодных лучей в магнитном пол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{321FB696-CA30-4CBB-AF5A-652133E5518F}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95324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5040" y="655200"/>
            <a:ext cx="7961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Применение силы Лоренца:</a:t>
            </a:r>
            <a:br>
              <a:rPr sz="24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Масс- спектрограф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Picture 4" descr="{57994206-96B4-4A51-B358-40252F3AD2EF}"/>
          <p:cNvPicPr/>
          <p:nvPr/>
        </p:nvPicPr>
        <p:blipFill>
          <a:blip r:embed="rId1"/>
          <a:stretch/>
        </p:blipFill>
        <p:spPr>
          <a:xfrm>
            <a:off x="685800" y="137160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Радиационные пояса Земли.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544500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ыстрые заряженные частицы от Солнца попадают в магнитные ловушки радиационных пояс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1-18-7"/>
          <p:cNvPicPr/>
          <p:nvPr/>
        </p:nvPicPr>
        <p:blipFill>
          <a:blip r:embed="rId1"/>
          <a:stretch/>
        </p:blipFill>
        <p:spPr>
          <a:xfrm>
            <a:off x="1862280" y="1571760"/>
            <a:ext cx="5419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izaurora_mammana"/>
          <p:cNvPicPr/>
          <p:nvPr/>
        </p:nvPicPr>
        <p:blipFill>
          <a:blip r:embed="rId1"/>
          <a:stretch/>
        </p:blipFill>
        <p:spPr>
          <a:xfrm>
            <a:off x="0" y="0"/>
            <a:ext cx="5952960" cy="4876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еверное сияние"/>
          <p:cNvPicPr/>
          <p:nvPr/>
        </p:nvPicPr>
        <p:blipFill>
          <a:blip r:embed="rId2"/>
          <a:stretch/>
        </p:blipFill>
        <p:spPr>
          <a:xfrm>
            <a:off x="3498840" y="2157480"/>
            <a:ext cx="5645160" cy="4700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a4"/>
                </a:solidFill>
                <a:latin typeface="Arial"/>
              </a:rPr>
              <a:t>Радиационные пояса</a:t>
            </a: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 Земли.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5338800"/>
            <a:ext cx="91440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астицы могут по</a:t>
            </a:r>
            <a:r>
              <a:rPr b="1" lang="ru-RU" sz="3200" spc="-1" strike="noStrike">
                <a:solidFill>
                  <a:srgbClr val="0000a4"/>
                </a:solidFill>
                <a:latin typeface="Arial"/>
              </a:rPr>
              <a:t>кидать пояса в полярных областях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и вторгаться в вер</a:t>
            </a:r>
            <a:r>
              <a:rPr b="1" lang="ru-RU" sz="3200" spc="-1" strike="noStrike">
                <a:solidFill>
                  <a:srgbClr val="0000a4"/>
                </a:solidFill>
                <a:latin typeface="Arial"/>
              </a:rPr>
              <a:t>хние слои атмосферы, вызыва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полярные сияния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Северное сияние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b7e7ff"/>
                </a:solidFill>
                <a:latin typeface="Agency FB"/>
              </a:rPr>
              <a:t>проявление действия силы Лоренца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57840" y="6019560"/>
            <a:ext cx="22860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{D215AB7A-E5F2-4CB3-8704-1220A9400C71}"/>
          <p:cNvPicPr/>
          <p:nvPr/>
        </p:nvPicPr>
        <p:blipFill>
          <a:blip r:embed="rId1"/>
          <a:stretch/>
        </p:blipFill>
        <p:spPr>
          <a:xfrm>
            <a:off x="1219320" y="1447920"/>
            <a:ext cx="6400800" cy="5410080"/>
          </a:xfrm>
          <a:prstGeom prst="rect">
            <a:avLst/>
          </a:prstGeom>
          <a:ln w="0">
            <a:noFill/>
          </a:ln>
        </p:spPr>
      </p:pic>
    </p:spTree>
  </p:cSld>
  <p:transition advTm="3000">
    <p:split dir="in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32000" y="228600"/>
            <a:ext cx="3879720" cy="52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Хендрик Антон Лоренц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(1853-1928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4" name="Picture 2" descr="H A Lorentz (Nobel).jpg"/>
          <p:cNvPicPr/>
          <p:nvPr/>
        </p:nvPicPr>
        <p:blipFill>
          <a:blip r:embed="rId1"/>
          <a:stretch/>
        </p:blipFill>
        <p:spPr>
          <a:xfrm>
            <a:off x="684360" y="692280"/>
            <a:ext cx="4032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Электронно-лучевая труб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Picture 4" descr="Телевизор"/>
          <p:cNvPicPr/>
          <p:nvPr/>
        </p:nvPicPr>
        <p:blipFill>
          <a:blip r:embed="rId1"/>
          <a:stretch/>
        </p:blipFill>
        <p:spPr>
          <a:xfrm>
            <a:off x="611280" y="2133720"/>
            <a:ext cx="3529080" cy="3528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Монитор"/>
          <p:cNvPicPr/>
          <p:nvPr/>
        </p:nvPicPr>
        <p:blipFill>
          <a:blip r:embed="rId2"/>
          <a:stretch/>
        </p:blipFill>
        <p:spPr>
          <a:xfrm>
            <a:off x="4932360" y="2205000"/>
            <a:ext cx="3816360" cy="3470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Управляющие магниты монитора компьютера"/>
          <p:cNvPicPr/>
          <p:nvPr/>
        </p:nvPicPr>
        <p:blipFill>
          <a:blip r:embed="rId3"/>
          <a:stretch/>
        </p:blipFill>
        <p:spPr>
          <a:xfrm>
            <a:off x="1692360" y="1700280"/>
            <a:ext cx="60483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7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Picture 3" descr="3-X-25"/>
          <p:cNvPicPr/>
          <p:nvPr/>
        </p:nvPicPr>
        <p:blipFill>
          <a:blip r:embed="rId1"/>
          <a:stretch/>
        </p:blipFill>
        <p:spPr>
          <a:xfrm>
            <a:off x="228600" y="2743200"/>
            <a:ext cx="861048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228600" y="4176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ЛЕКТРОННО-ЛУЧЕВАЯ ТРУБКА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едставляет собой стеклянный вакуумный баллон, передняя стенка которого (экран) покрыта люминофором (веществом, светящимся под ударами электронов). В узком конце трубки находится электронная пушка. Электронная пушка формирует из электронов, вылетевших с раскаленного катода узкий электронный луч. Для управления перемещением электронного луча по экрану используют вертикально и горизонтально отклоняющие пласти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ЭВТ, применяемых в качестве кинескопов телевизоров, управление электронным лучом осуществляется с помощью магнитных полей, создаваемых специальными катушками, надетыми на горловину труб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Циклотрон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7" name="Picture 4" descr="Циклотрон с отводными каналами для ускоренных частиц"/>
          <p:cNvPicPr/>
          <p:nvPr/>
        </p:nvPicPr>
        <p:blipFill>
          <a:blip r:embed="rId1"/>
          <a:stretch/>
        </p:blipFill>
        <p:spPr>
          <a:xfrm>
            <a:off x="1258920" y="1484280"/>
            <a:ext cx="6350040" cy="5079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Циклический ускоритель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832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                                    </a:t>
            </a: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13.09.13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Тема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: Сила Лоренца.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Решение задач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дание № 1</a:t>
            </a:r>
            <a:br>
              <a:rPr sz="4400"/>
            </a:br>
            <a:br>
              <a:rPr sz="44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Определите направление скорости положительного заряда?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6">
            <a:hlinkClick r:id="rId1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4" descr=""/>
          <p:cNvPicPr/>
          <p:nvPr/>
        </p:nvPicPr>
        <p:blipFill>
          <a:blip r:embed="rId2">
            <a:lum contrast="18000"/>
          </a:blip>
          <a:srcRect l="0" t="40351" r="0" b="29106"/>
          <a:stretch/>
        </p:blipFill>
        <p:spPr>
          <a:xfrm>
            <a:off x="2484360" y="2852640"/>
            <a:ext cx="4751640" cy="35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дание № 2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5">
            <a:hlinkClick r:id="rId1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Рисунок 4" descr=""/>
          <p:cNvPicPr/>
          <p:nvPr/>
        </p:nvPicPr>
        <p:blipFill>
          <a:blip r:embed="rId2">
            <a:lum contrast="18000"/>
          </a:blip>
          <a:srcRect l="0" t="70037" r="0" b="0"/>
          <a:stretch/>
        </p:blipFill>
        <p:spPr>
          <a:xfrm>
            <a:off x="1692360" y="1700280"/>
            <a:ext cx="4895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дание №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9" name="Picture 2" descr="electr14"/>
          <p:cNvPicPr/>
          <p:nvPr/>
        </p:nvPicPr>
        <p:blipFill>
          <a:blip r:embed="rId1"/>
          <a:stretch/>
        </p:blipFill>
        <p:spPr>
          <a:xfrm>
            <a:off x="2627280" y="1573200"/>
            <a:ext cx="3240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дание № 4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electr16"/>
          <p:cNvPicPr/>
          <p:nvPr/>
        </p:nvPicPr>
        <p:blipFill>
          <a:blip r:embed="rId1"/>
          <a:stretch/>
        </p:blipFill>
        <p:spPr>
          <a:xfrm>
            <a:off x="2124000" y="1773360"/>
            <a:ext cx="424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дание № 5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4" name="Picture 2" descr="3_25"/>
          <p:cNvPicPr/>
          <p:nvPr/>
        </p:nvPicPr>
        <p:blipFill>
          <a:blip r:embed="rId1"/>
          <a:stretch/>
        </p:blipFill>
        <p:spPr>
          <a:xfrm>
            <a:off x="1403280" y="1700280"/>
            <a:ext cx="4969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№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Какую силу называют силой Лоренц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8388360" y="6165720"/>
            <a:ext cx="71280" cy="7164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600" h="21709">
                <a:moveTo>
                  <a:pt x="0" y="0"/>
                </a:moveTo>
                <a:lnTo>
                  <a:pt x="21600" y="0"/>
                </a:lnTo>
                <a:lnTo>
                  <a:pt x="21600" y="21709"/>
                </a:lnTo>
                <a:lnTo>
                  <a:pt x="0" y="21709"/>
                </a:lnTo>
                <a:close/>
              </a:path>
              <a:path fill="lightenLess" w="21600" h="217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9">
                <a:moveTo>
                  <a:pt x="21600" y="0"/>
                </a:moveTo>
                <a:lnTo>
                  <a:pt x="21600" y="21709"/>
                </a:lnTo>
                <a:lnTo>
                  <a:pt x="20200" y="20309"/>
                </a:lnTo>
                <a:lnTo>
                  <a:pt x="20200" y="1400"/>
                </a:lnTo>
                <a:close/>
              </a:path>
              <a:path fill="darkenLess" w="21600" h="21709">
                <a:moveTo>
                  <a:pt x="21600" y="21709"/>
                </a:moveTo>
                <a:lnTo>
                  <a:pt x="0" y="21709"/>
                </a:lnTo>
                <a:lnTo>
                  <a:pt x="1400" y="20309"/>
                </a:lnTo>
                <a:lnTo>
                  <a:pt x="20200" y="20309"/>
                </a:lnTo>
                <a:close/>
              </a:path>
              <a:path fill="lighten" w="21600" h="21709">
                <a:moveTo>
                  <a:pt x="0" y="217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9"/>
                </a:lnTo>
                <a:close/>
              </a:path>
              <a:path fill="darken" w="21600" h="21709">
                <a:moveTo>
                  <a:pt x="10800" y="3891"/>
                </a:moveTo>
                <a:lnTo>
                  <a:pt x="13376" y="6502"/>
                </a:lnTo>
                <a:lnTo>
                  <a:pt x="13376" y="4762"/>
                </a:lnTo>
                <a:lnTo>
                  <a:pt x="15152" y="4762"/>
                </a:lnTo>
                <a:lnTo>
                  <a:pt x="15152" y="8278"/>
                </a:lnTo>
                <a:lnTo>
                  <a:pt x="17763" y="10854"/>
                </a:lnTo>
                <a:lnTo>
                  <a:pt x="16109" y="10854"/>
                </a:lnTo>
                <a:lnTo>
                  <a:pt x="16109" y="18044"/>
                </a:lnTo>
                <a:lnTo>
                  <a:pt x="5491" y="18044"/>
                </a:lnTo>
                <a:lnTo>
                  <a:pt x="5491" y="10854"/>
                </a:lnTo>
                <a:lnTo>
                  <a:pt x="3837" y="10854"/>
                </a:lnTo>
                <a:close/>
              </a:path>
              <a:path fill="darkenLess" w="21600" h="21709">
                <a:moveTo>
                  <a:pt x="13376" y="6502"/>
                </a:moveTo>
                <a:lnTo>
                  <a:pt x="13376" y="4762"/>
                </a:lnTo>
                <a:lnTo>
                  <a:pt x="15152" y="4762"/>
                </a:lnTo>
                <a:lnTo>
                  <a:pt x="15152" y="8278"/>
                </a:lnTo>
                <a:close/>
              </a:path>
              <a:path fill="darkenLess" w="21600" h="21709">
                <a:moveTo>
                  <a:pt x="9877" y="14353"/>
                </a:moveTo>
                <a:lnTo>
                  <a:pt x="11723" y="14353"/>
                </a:lnTo>
                <a:lnTo>
                  <a:pt x="11723" y="18044"/>
                </a:lnTo>
                <a:lnTo>
                  <a:pt x="16109" y="18044"/>
                </a:lnTo>
                <a:lnTo>
                  <a:pt x="16109" y="10854"/>
                </a:lnTo>
                <a:lnTo>
                  <a:pt x="5491" y="10854"/>
                </a:lnTo>
                <a:lnTo>
                  <a:pt x="5491" y="18044"/>
                </a:lnTo>
                <a:lnTo>
                  <a:pt x="9877" y="18044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8">
            <a:hlinkClick r:id="rId1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9">
            <a:hlinkClick r:id="rId2" action="ppaction://hlinksldjump"/>
          </p:cNvPr>
          <p:cNvSpPr/>
          <p:nvPr/>
        </p:nvSpPr>
        <p:spPr>
          <a:xfrm>
            <a:off x="831708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EA813249.wav" descr=""/>
          <p:cNvPicPr/>
          <p:nvPr/>
        </p:nvPicPr>
        <p:blipFill>
          <a:blip r:embed="rId3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ff"/>
                </a:solidFill>
                <a:uFillTx/>
                <a:latin typeface="Arial"/>
              </a:rPr>
              <a:t>Сила Лоренца</a:t>
            </a:r>
            <a:r>
              <a:rPr b="0" lang="ru-RU" sz="2600" spc="-1" strike="noStrike">
                <a:solidFill>
                  <a:srgbClr val="b7e7ff"/>
                </a:solidFill>
                <a:latin typeface="Arial"/>
              </a:rPr>
              <a:t> -сила, действующая в магнитном поле на движущуюся заряженную частицу</a:t>
            </a:r>
            <a:endParaRPr b="0" lang="en-US" sz="2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Picture 4" descr="{C7AAB3F2-EA77-4A5C-8CAF-5130FA1B5DD7}"/>
          <p:cNvPicPr/>
          <p:nvPr/>
        </p:nvPicPr>
        <p:blipFill>
          <a:blip r:embed="rId1"/>
          <a:stretch/>
        </p:blipFill>
        <p:spPr>
          <a:xfrm>
            <a:off x="1143000" y="1828800"/>
            <a:ext cx="7315200" cy="479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№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Как определяют направление силы Лоренц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6">
            <a:hlinkClick r:id="rId1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AD6F3265.wav" descr=""/>
          <p:cNvPicPr/>
          <p:nvPr/>
        </p:nvPicPr>
        <p:blipFill>
          <a:blip r:embed="rId2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9CD8-FE71-4F1B-A29F-C0D402B750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Направление силы Лоренца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4267080"/>
            <a:ext cx="87631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правление силы Лоренца определяется по правилу левой руки: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евую руку надо расположить так, чтобы линии магнитной индукции входили в ладонь, четыре вытянутых пальца были направлены по направлению движения положительно заряженной частицы (или против отрицательной), тогда отогнутый на 90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˚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большой палец покажет направление действия силы Лорен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lorenz"/>
          <p:cNvPicPr/>
          <p:nvPr/>
        </p:nvPicPr>
        <p:blipFill>
          <a:blip r:embed="rId1"/>
          <a:srcRect l="0" t="0" r="47248" b="0"/>
          <a:stretch/>
        </p:blipFill>
        <p:spPr>
          <a:xfrm>
            <a:off x="685800" y="1066680"/>
            <a:ext cx="4100400" cy="304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18"/>
          <p:cNvPicPr/>
          <p:nvPr/>
        </p:nvPicPr>
        <p:blipFill>
          <a:blip r:embed="rId2"/>
          <a:srcRect l="14172" t="0" r="0" b="0"/>
          <a:stretch/>
        </p:blipFill>
        <p:spPr>
          <a:xfrm>
            <a:off x="4952880" y="1066680"/>
            <a:ext cx="359748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№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Математическая формулировка силы Лоренца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b7e7ff"/>
                </a:solidFill>
                <a:latin typeface="comic"/>
              </a:rPr>
              <a:t>Сила Лоренца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4" descr="{2A08F8AF-C739-40F5-A36D-A96E7B189BA1}"/>
          <p:cNvPicPr/>
          <p:nvPr/>
        </p:nvPicPr>
        <p:blipFill>
          <a:blip r:embed="rId1"/>
          <a:stretch/>
        </p:blipFill>
        <p:spPr>
          <a:xfrm>
            <a:off x="1066680" y="1390680"/>
            <a:ext cx="7391520" cy="546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 № 4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Как движется заряженная частица в однородном магнитном пол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6">
            <a:hlinkClick r:id="rId1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mazzz</dc:creator>
  <dc:description/>
  <dc:language>en-US</dc:language>
  <cp:lastModifiedBy>марина</cp:lastModifiedBy>
  <dcterms:modified xsi:type="dcterms:W3CDTF">2013-09-13T03:54:57Z</dcterms:modified>
  <cp:revision>52</cp:revision>
  <dc:subject/>
  <dc:title>PowerPoint Presentation</dc:title>
</cp:coreProperties>
</file>