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26A-C156-491C-B0A8-7A753DF5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F60-7D16-4FDA-86F7-9D16E7B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396-C0A1-4F1E-BA73-C73D8A0A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F9-6C1D-4697-8584-0383445F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210-5CA0-4EBB-9C20-7058A6C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C1A-81C1-4309-816C-78371236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70D-7AEE-496D-93A8-773E435D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F84-CD8F-480B-923A-6CA99096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901-8F38-4FAF-8560-0E17E047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6D9-B59D-4836-91B2-BE13788F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63A-9252-4359-B992-83C7624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313-865D-4754-9E04-E12832C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E092-9A04-486B-A91F-30E15FA9A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310400" y="214200"/>
            <a:ext cx="64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Математика в сказках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3" descr="C:\Documents and Settings\Guest\Рабочий стол\Пушкин\image001.jpg"/>
          <p:cNvPicPr/>
          <p:nvPr/>
        </p:nvPicPr>
        <p:blipFill>
          <a:blip r:embed="rId1"/>
          <a:stretch/>
        </p:blipFill>
        <p:spPr>
          <a:xfrm>
            <a:off x="468360" y="1052640"/>
            <a:ext cx="4444920" cy="4228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5711760" y="5267160"/>
            <a:ext cx="304812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42 из 3910"/>
          <p:cNvPicPr/>
          <p:nvPr/>
        </p:nvPicPr>
        <p:blipFill>
          <a:blip r:embed="rId1"/>
          <a:stretch/>
        </p:blipFill>
        <p:spPr>
          <a:xfrm>
            <a:off x="1285920" y="285840"/>
            <a:ext cx="6410160" cy="4643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1107720" y="5214960"/>
            <a:ext cx="69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 обеда приближался, топот по двору раздал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братьев-богатырей было у названой сестриц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166840" y="5072040"/>
            <a:ext cx="46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руг шатер распахнулся… и девиц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жил славный царь Дадон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skaz-pushkina.ru/kadr/zp55.jpg"/>
          <p:cNvPicPr/>
          <p:nvPr/>
        </p:nvPicPr>
        <p:blipFill>
          <a:blip r:embed="rId1"/>
          <a:stretch/>
        </p:blipFill>
        <p:spPr>
          <a:xfrm>
            <a:off x="1500120" y="214200"/>
            <a:ext cx="60008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Сказка о мертвой царевне и о семи богатырях"/>
          <p:cNvPicPr/>
          <p:nvPr/>
        </p:nvPicPr>
        <p:blipFill>
          <a:blip r:embed="rId1"/>
          <a:stretch/>
        </p:blipFill>
        <p:spPr>
          <a:xfrm rot="20156400">
            <a:off x="371160" y="574200"/>
            <a:ext cx="3359160" cy="253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Сказка о рыбаке и рыбке"/>
          <p:cNvPicPr/>
          <p:nvPr/>
        </p:nvPicPr>
        <p:blipFill>
          <a:blip r:embed="rId2"/>
          <a:stretch/>
        </p:blipFill>
        <p:spPr>
          <a:xfrm rot="1135200">
            <a:off x="5244840" y="3887280"/>
            <a:ext cx="3309840" cy="250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Сказка о попе и о работнике его Балде"/>
          <p:cNvPicPr/>
          <p:nvPr/>
        </p:nvPicPr>
        <p:blipFill>
          <a:blip r:embed="rId3"/>
          <a:stretch/>
        </p:blipFill>
        <p:spPr>
          <a:xfrm rot="20170800">
            <a:off x="348840" y="3924360"/>
            <a:ext cx="317016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Сказка о золотом петушке"/>
          <p:cNvPicPr/>
          <p:nvPr/>
        </p:nvPicPr>
        <p:blipFill>
          <a:blip r:embed="rId4"/>
          <a:stretch/>
        </p:blipFill>
        <p:spPr>
          <a:xfrm rot="1570200">
            <a:off x="5445000" y="588600"/>
            <a:ext cx="3284640" cy="26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Сказка о царе Салтане"/>
          <p:cNvPicPr/>
          <p:nvPr/>
        </p:nvPicPr>
        <p:blipFill>
          <a:blip r:embed="rId5"/>
          <a:stretch/>
        </p:blipFill>
        <p:spPr>
          <a:xfrm>
            <a:off x="3071880" y="2357280"/>
            <a:ext cx="32655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42 из 365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357280" y="2858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3 из 5695"/>
          <p:cNvPicPr/>
          <p:nvPr/>
        </p:nvPicPr>
        <p:blipFill>
          <a:blip r:embed="rId1"/>
          <a:stretch/>
        </p:blipFill>
        <p:spPr>
          <a:xfrm>
            <a:off x="1643040" y="214200"/>
            <a:ext cx="6215040" cy="4695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873080" y="5143680"/>
            <a:ext cx="6189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 старик со своею старухой у самого синего мор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колько лет они жили в ветхой землян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колько раз старик закидывал в море  нев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43 из 5759"/>
          <p:cNvPicPr/>
          <p:nvPr/>
        </p:nvPicPr>
        <p:blipFill>
          <a:blip r:embed="rId1"/>
          <a:stretch/>
        </p:blipFill>
        <p:spPr>
          <a:xfrm>
            <a:off x="1643040" y="214200"/>
            <a:ext cx="5643720" cy="47516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9" name="TextBox 2"/>
          <p:cNvSpPr/>
          <p:nvPr/>
        </p:nvSpPr>
        <p:spPr>
          <a:xfrm>
            <a:off x="1382760" y="514368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шёл он к своей землянке, а землянки нет уж и сле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желаний было у ста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Картинка 6 из 3634"/>
          <p:cNvPicPr/>
          <p:nvPr/>
        </p:nvPicPr>
        <p:blipFill>
          <a:blip r:embed="rId1"/>
          <a:stretch/>
        </p:blipFill>
        <p:spPr>
          <a:xfrm>
            <a:off x="1523880" y="285840"/>
            <a:ext cx="5905800" cy="4429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1" name="TextBox 2"/>
          <p:cNvSpPr/>
          <p:nvPr/>
        </p:nvSpPr>
        <p:spPr>
          <a:xfrm>
            <a:off x="1021320" y="4929120"/>
            <a:ext cx="7212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л был поп, толоконный лоб. Пошел поп по базар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человек заменял Балда за обедом и за работо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Картинка 9 из 3634"/>
          <p:cNvPicPr/>
          <p:nvPr/>
        </p:nvPicPr>
        <p:blipFill>
          <a:blip r:embed="rId1"/>
          <a:stretch/>
        </p:blipFill>
        <p:spPr>
          <a:xfrm>
            <a:off x="1571760" y="285840"/>
            <a:ext cx="6238800" cy="4678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3" name="TextBox 2"/>
          <p:cNvSpPr/>
          <p:nvPr/>
        </p:nvSpPr>
        <p:spPr>
          <a:xfrm>
            <a:off x="1098720" y="5286240"/>
            <a:ext cx="74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е гонялся бы ты, поп, за дешевиз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сколько щелчков в год согласился Балда служить у поп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163600" y="4572000"/>
            <a:ext cx="50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ы я была цариц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естер, которые мечтали с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ицами, было в сказ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Картинка 101 из 12571"/>
          <p:cNvPicPr/>
          <p:nvPr/>
        </p:nvPicPr>
        <p:blipFill>
          <a:blip r:embed="rId1"/>
          <a:stretch/>
        </p:blipFill>
        <p:spPr>
          <a:xfrm>
            <a:off x="1928880" y="214200"/>
            <a:ext cx="5643360" cy="4264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Картинка 66 из 12572"/>
          <p:cNvPicPr/>
          <p:nvPr/>
        </p:nvPicPr>
        <p:blipFill>
          <a:blip r:embed="rId1"/>
          <a:stretch/>
        </p:blipFill>
        <p:spPr>
          <a:xfrm>
            <a:off x="1500120" y="214200"/>
            <a:ext cx="6096240" cy="4572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2"/>
          <p:cNvSpPr/>
          <p:nvPr/>
        </p:nvSpPr>
        <p:spPr>
          <a:xfrm>
            <a:off x="1810440" y="5143680"/>
            <a:ext cx="59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чутятся на бреге, в чешу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богатырей было у дядьки Черномора?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102 из 3910"/>
          <p:cNvPicPr/>
          <p:nvPr/>
        </p:nvPicPr>
        <p:blipFill>
          <a:blip r:embed="rId1"/>
          <a:stretch/>
        </p:blipFill>
        <p:spPr>
          <a:xfrm>
            <a:off x="285840" y="285840"/>
            <a:ext cx="4352760" cy="6000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2" name="TextBox 2"/>
          <p:cNvSpPr/>
          <p:nvPr/>
        </p:nvSpPr>
        <p:spPr>
          <a:xfrm>
            <a:off x="5088960" y="1643040"/>
            <a:ext cx="346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ь с царицею прости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уть дорогу снарядил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называется сказ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времени жд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ица царя с войны?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57:54Z</dcterms:created>
  <dc:creator>Устинова</dc:creator>
  <dc:description/>
  <dc:language>en-US</dc:language>
  <cp:lastModifiedBy>PC</cp:lastModifiedBy>
  <dcterms:modified xsi:type="dcterms:W3CDTF">2021-10-26T16:37:43Z</dcterms:modified>
  <cp:revision>12</cp:revision>
  <dc:subject/>
  <dc:title>Слайд 1</dc:title>
</cp:coreProperties>
</file>