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8EE42-FEB6-4D48-ACFB-781B5C525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DEF66-2F11-4444-B344-7280BD40E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4395B-1EC3-4EA1-9D71-1FC73A682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572AE-CB5A-487D-8A25-9F910EDCF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58005-4AFC-4AD9-9DB6-2D38A1712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A77B1-8D8E-4C84-9EDD-6B3E2132D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14879-4965-4CDF-8D4A-9023BA526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67A42-3498-45E0-8C28-675805B2A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23B8A-1D96-4314-9B56-AE5C01969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A4955-B8C1-46FF-B956-EBDE66B18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6A571-B1C4-4760-A420-3B615E234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AFF0B-247E-40DA-BF9E-15359CA02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5F5C4-FB28-4946-A99D-1883C6E8E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065CC-FB1A-4FA7-A410-FABC019BD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F284E-F9FD-4671-8C26-C82C937CD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1C5F5-E273-4775-B339-446A43225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A66F5-4AA2-4C0B-99BC-0E6F6AA16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BD2F8-3409-4C2F-BB18-AA1F0447E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5D538-3DC9-466A-B3B6-6B07AD832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B5DAF-A4BC-4FCA-B1E2-5FBEAAB4A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227F7-AE51-40B4-B701-C2DCC0A54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00E70-00E4-4BB4-828F-93F588EF1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12DCB-6865-4B52-98E1-D173E970E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FBE7D-6E08-40DB-BEBB-49E1E99D9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7E309-7B25-4BE6-9E5D-F0BA1AEB20E6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B9CFC-9299-4670-93EC-26C734A25BAC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s://commons.wikimedia.org/wiki/File:Chlorid_sodn&#253;.JPG?uselang=ru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s://commons.wikimedia.org/wiki/File:Sodium_chloride.JPG?uselang=ru" TargetMode="External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0033"/>
                </a:solidFill>
                <a:latin typeface="Times New Roman"/>
              </a:rPr>
              <a:t>Области применения и свойства хлорида натрия</a:t>
            </a: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0033"/>
                </a:solidFill>
                <a:latin typeface="Times New Roman"/>
              </a:rPr>
              <a:t>Области применения хлорида натрия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пищевой промышленности и кулинарии(поваренная соль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5" descr="200px-Chlorid_sodn%C3%BD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43000" y="3936960"/>
            <a:ext cx="3429000" cy="190332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6"/>
          <p:cNvSpPr/>
          <p:nvPr/>
        </p:nvSpPr>
        <p:spPr>
          <a:xfrm>
            <a:off x="685800" y="3210840"/>
            <a:ext cx="845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пищевой промышленности и кулинарии используют хлорид натрия, чистота которого должна быть не менее 97 %. Его применяют как вкусовую добавку и для консервирования пищевых продуктов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8" descr="Sodium chloride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181480" y="3965400"/>
            <a:ext cx="3048120" cy="20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0033"/>
                </a:solidFill>
                <a:latin typeface="Times New Roman"/>
              </a:rPr>
              <a:t>Области применения хлорида натрия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медицине(изотонический раствор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11" descr="hlor28"/>
          <p:cNvPicPr/>
          <p:nvPr/>
        </p:nvPicPr>
        <p:blipFill>
          <a:blip r:embed="rId1"/>
          <a:stretch/>
        </p:blipFill>
        <p:spPr>
          <a:xfrm>
            <a:off x="2867040" y="3414600"/>
            <a:ext cx="2314440" cy="251460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12"/>
          <p:cNvSpPr/>
          <p:nvPr/>
        </p:nvSpPr>
        <p:spPr>
          <a:xfrm>
            <a:off x="685800" y="221904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отонический раствор хлорида натрия в воде (0,9 %) применяется как дезинтоксикационное средство, для коррекции состояния систем организма в случае обезвоживания, как растворитель других лекарственных препара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14" descr="chem-promyvat-nos-pri-nasmorke-v-domashnix-usloviyax-rebenku-07"/>
          <p:cNvPicPr/>
          <p:nvPr/>
        </p:nvPicPr>
        <p:blipFill>
          <a:blip r:embed="rId2"/>
          <a:stretch/>
        </p:blipFill>
        <p:spPr>
          <a:xfrm>
            <a:off x="800280" y="3505320"/>
            <a:ext cx="2057400" cy="27432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6" descr="hlorid_natriya22-700-420-500x300"/>
          <p:cNvPicPr/>
          <p:nvPr/>
        </p:nvPicPr>
        <p:blipFill>
          <a:blip r:embed="rId3"/>
          <a:stretch/>
        </p:blipFill>
        <p:spPr>
          <a:xfrm>
            <a:off x="5181480" y="3543480"/>
            <a:ext cx="33912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0033"/>
                </a:solidFill>
                <a:latin typeface="Times New Roman"/>
              </a:rPr>
              <a:t>Области применения хлорида натрия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коммунальном хозяйстве . Техническая со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4"/>
          <p:cNvSpPr/>
          <p:nvPr/>
        </p:nvSpPr>
        <p:spPr>
          <a:xfrm>
            <a:off x="533520" y="2331360"/>
            <a:ext cx="845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имой хлорид натрия, смешанный с другими солями, песком или глиной — так называемая техническая соль — применяется как антифриз против гололёд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6" descr="1023346"/>
          <p:cNvPicPr/>
          <p:nvPr/>
        </p:nvPicPr>
        <p:blipFill>
          <a:blip r:embed="rId1"/>
          <a:stretch/>
        </p:blipFill>
        <p:spPr>
          <a:xfrm>
            <a:off x="619200" y="3222720"/>
            <a:ext cx="4038480" cy="27684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8" descr="126542158_w640_h640_tehnicheskaya-sol-dlya"/>
          <p:cNvPicPr/>
          <p:nvPr/>
        </p:nvPicPr>
        <p:blipFill>
          <a:blip r:embed="rId2"/>
          <a:stretch/>
        </p:blipFill>
        <p:spPr>
          <a:xfrm>
            <a:off x="4762440" y="3251160"/>
            <a:ext cx="3962520" cy="263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0033"/>
                </a:solidFill>
                <a:latin typeface="Times New Roman"/>
              </a:rPr>
              <a:t>Области применения хлорида натрия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Химическая промышленност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4"/>
          <p:cNvSpPr/>
          <p:nvPr/>
        </p:nvSpPr>
        <p:spPr>
          <a:xfrm>
            <a:off x="838080" y="3185280"/>
            <a:ext cx="8305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ль, наряду с каменным углём, известняками и серой, образует «большую четвёрку» продуктов минерального сырья, которые являются важнейшими для химической промышленност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Cl + 3H2O = NaClO3 + 3H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0033"/>
                </a:solidFill>
                <a:latin typeface="Times New Roman"/>
              </a:rPr>
              <a:t>Химические и физические свойства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изически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лярная масса = 58,44277 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лотность 2,165 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м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Химические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створимость в  вод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5,6 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00 мл (0 гр. по цельсию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5,9 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00 мл (+25 гр. по цельсию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9,1 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00 мл (+100 гр. По цельсию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створимость в метанол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,49 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00 м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створимость в аммиак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1,5 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00 м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10-14T16:17:17Z</dcterms:created>
  <dc:creator>Администратор</dc:creator>
  <dc:description/>
  <dc:language>en-US</dc:language>
  <cp:lastModifiedBy>Светлана</cp:lastModifiedBy>
  <cp:lastPrinted>2019-10-19T03:00:07Z</cp:lastPrinted>
  <dcterms:modified xsi:type="dcterms:W3CDTF">2021-10-11T09:30:59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