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800-030B-4A8D-9203-BB98C055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6B2-4279-4FCC-A0A1-BA36381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6BC-2604-4279-9681-40B5B921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982-A806-41FE-9D8B-28E80FED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D15-D2BC-4823-974F-D21E2206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C9FD-047A-4876-BE7F-B0EBC31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5376-F366-4362-B445-389AB61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9EC-D0E0-4EEF-8990-0F99FBE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1FD-25D1-4CB1-80DE-07A3667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022D-8B11-4D46-A554-2714448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89DC-D39D-451C-BF4F-2461F0F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793-C6F5-453B-A7AC-D31D6DA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2B4-37BA-4EAD-8A13-87200D2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31B3-DE36-41EF-8DD9-8613A99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2C4-F6D5-48C6-B078-AADFA17B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4131-616A-4007-96BD-05DDF71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0885-3D16-47CF-95BB-59BA2457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5D02-00CD-43E9-A44B-21C8139D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9136-1AA7-485D-94C4-0FCEC83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2531-9DFF-414C-8C7B-C183E9F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FBC3-6A31-423F-9EC5-568B6537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874C-06D3-47FE-A845-67ADC5E8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776-5F2C-4918-B067-29A752F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17DA-940E-43EA-A9AB-E7CE78C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106A-062C-44AB-97B2-79A52F7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19AB-5D61-4378-B90C-975A69C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B03C-F37D-4FD7-BFD8-A02F749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51B4-9445-4BF0-B807-826D4EB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1102-283F-4CB3-8F3C-780FF0EC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780C-6B55-4D71-9092-E9B58709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E1E-94A0-45D6-821B-9AF2F41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83F-1B1C-4E8F-9BB8-A0256C01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D3E-7F7D-42F3-8F39-70A1178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EE2-A5B8-4FFF-8480-A3AD3A8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8B3-3DDC-4A51-9A55-8028D01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9D7-C6A1-422E-AD64-28BE383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CBBD-4E73-499F-BFB6-4450F6D3D8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23BE-AAEA-477D-A06A-ED6168B3F1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BF3B-07D8-480D-AD3A-1758EDB51F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удожники- живопис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7120" y="388620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Составила: Титова И.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Учитель нач.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МБОУ СОШ№7, г.Поронайск Сахалинская об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64000" y="549000"/>
            <a:ext cx="360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началось все с выставки московских художников в 1899 году в Петербурге, на которой И.Билибин увидел картину В.Васнецова «Богатыри». Воспитанный в петербургской среде, далекой от увлечений национальным прошлым, художник неожиданно проявил интерес к русской старине, сказке, народному искусств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13-500x634"/>
          <p:cNvPicPr/>
          <p:nvPr/>
        </p:nvPicPr>
        <p:blipFill>
          <a:blip r:embed="rId1"/>
          <a:stretch/>
        </p:blipFill>
        <p:spPr>
          <a:xfrm>
            <a:off x="169920" y="692280"/>
            <a:ext cx="425772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3887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том этого же года Билибин уезжает в деревню Егны Тверской губернии, чтобы самому увидеть дремучие леса, прозрачные речки, деревянные избушки, услышать сказки и песни. В воображении оживают картины с выставки Виктора Васнецова. Художник Иван Билибин начинает иллюстрировать русские народные сказки из сборника Афанасьева. И осенью того же года Экспедиция заготовления государственных бумаг (Гознак) начала выпускать серию сказок с билибинскими рисунками. В течение 4-х лет Билибин проиллюстрировал семь сказок: «Сестрица Аленушка и братец Иванушка», «Белая уточка», «Царевна-лягушка», «Марья Моревна», «Сказка об Иване-царевиче, Жар-птице и о сером волке», «Перышко Финиста Ясна-Сокола», «Василиса Прекрасная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31-500x651"/>
          <p:cNvPicPr/>
          <p:nvPr/>
        </p:nvPicPr>
        <p:blipFill>
          <a:blip r:embed="rId1"/>
          <a:stretch/>
        </p:blipFill>
        <p:spPr>
          <a:xfrm>
            <a:off x="152280" y="304920"/>
            <a:ext cx="35370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410080" y="68580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иллюстрациях Билибин использовал зарисовки крестьянских построек, утвари, одежды, выполненные в деревне Ег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11-500x626"/>
          <p:cNvPicPr/>
          <p:nvPr/>
        </p:nvPicPr>
        <p:blipFill>
          <a:blip r:embed="rId1"/>
          <a:stretch/>
        </p:blipFill>
        <p:spPr>
          <a:xfrm>
            <a:off x="380880" y="609480"/>
            <a:ext cx="4762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16360" y="4005360"/>
            <a:ext cx="3992400" cy="1201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42667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1640" y="549000"/>
            <a:ext cx="446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снецов Виктор Михайлович - выдающийся русский живопи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лся в 1848 г. в Вятке, образование получил в местной духовной семинар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1868 - 73 годах учился в Академии Художеств, по окончании которой ездил за границ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31-013"/>
          <p:cNvPicPr/>
          <p:nvPr/>
        </p:nvPicPr>
        <p:blipFill>
          <a:blip r:embed="rId1"/>
          <a:stretch/>
        </p:blipFill>
        <p:spPr>
          <a:xfrm>
            <a:off x="271440" y="404640"/>
            <a:ext cx="349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92720" y="692280"/>
            <a:ext cx="354816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Васнецовым в русскую живопись вошел мир русской сказки, мир света и правды, непременного торжества добра над злом, мир, где воедино сплелись дерзкая фантазия и трезвая реальность, высокая поэзия, героический пафос, добрый юмор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163500"/>
          <p:cNvPicPr/>
          <p:nvPr/>
        </p:nvPicPr>
        <p:blipFill>
          <a:blip r:embed="rId1"/>
          <a:stretch/>
        </p:blipFill>
        <p:spPr>
          <a:xfrm>
            <a:off x="324000" y="1125360"/>
            <a:ext cx="4284360" cy="3495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796000" y="501336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южеты многих его картин взяты из устного народного творч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го перу принадлежат полот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3964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Богатыр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35280" y="692280"/>
            <a:ext cx="3251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а «Алёнушка» 188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image001"/>
          <p:cNvPicPr/>
          <p:nvPr/>
        </p:nvPicPr>
        <p:blipFill>
          <a:blip r:embed="rId1"/>
          <a:stretch/>
        </p:blipFill>
        <p:spPr>
          <a:xfrm>
            <a:off x="611280" y="549360"/>
            <a:ext cx="3570120" cy="5113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443640" y="422928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опушке леса на сером горючем камне сидит Аленуш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1516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image001"/>
          <p:cNvPicPr/>
          <p:nvPr/>
        </p:nvPicPr>
        <p:blipFill>
          <a:blip r:embed="rId1"/>
          <a:stretch/>
        </p:blipFill>
        <p:spPr>
          <a:xfrm>
            <a:off x="179280" y="1341360"/>
            <a:ext cx="5834160" cy="3740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684360" y="260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тина «Ковёр-самолёт». 18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659640" y="3088440"/>
            <a:ext cx="192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но гигантская птица, парит в небе ковер самолет, и настоящий на нем русский вит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24000" y="1844640"/>
            <a:ext cx="2962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ван Царевич на Сером Волке" (1889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325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32000" y="765000"/>
            <a:ext cx="3754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следуя творчество Васнецова можно с уверенностью говорить, сказки эти прекрасны, несут радость и печаль, мудрость и величие русского народа. Художник вкладывал в каждую работу душевную теплоту и смысл. Еще не одно поколение будет восхищаться его поистине удивительными работами. И конечно каждый ребенок слушая или читая сказки будет представлять себе могучих богатырей Илью Муромца, Алешу Поповича, Добрыню Никитича, волшебный ковер-самолет и красавца царевича, нежную и хрупкую снегурочку , печальную Аленуш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p9_s6390_1292406336_2"/>
          <p:cNvPicPr/>
          <p:nvPr/>
        </p:nvPicPr>
        <p:blipFill>
          <a:blip r:embed="rId1"/>
          <a:stretch/>
        </p:blipFill>
        <p:spPr>
          <a:xfrm>
            <a:off x="322200" y="549360"/>
            <a:ext cx="3948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либин, Иван Яковлевич, - живописец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21-500x653"/>
          <p:cNvPicPr/>
          <p:nvPr/>
        </p:nvPicPr>
        <p:blipFill>
          <a:blip r:embed="rId1"/>
          <a:stretch/>
        </p:blipFill>
        <p:spPr>
          <a:xfrm>
            <a:off x="539640" y="692280"/>
            <a:ext cx="4017960" cy="524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156360" y="3789360"/>
            <a:ext cx="230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лся в Петербурге в 1876 г.; окончил курс в Петербургском университете по юридическому факультету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51280" y="1341360"/>
            <a:ext cx="30351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люстраторов детской книги много. Один из выдающихся художников-иллюстраторов – Иван Яковлевич Билибин. Именно его иллюстрации помогли создать детскую книгу нарядной и доступ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71-500x642"/>
          <p:cNvPicPr/>
          <p:nvPr/>
        </p:nvPicPr>
        <p:blipFill>
          <a:blip r:embed="rId1"/>
          <a:stretch/>
        </p:blipFill>
        <p:spPr>
          <a:xfrm>
            <a:off x="250920" y="765000"/>
            <a:ext cx="40845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5:11:11Z</dcterms:created>
  <dc:creator>123</dc:creator>
  <dc:description/>
  <dc:language>en-US</dc:language>
  <cp:lastModifiedBy>FrCity.su</cp:lastModifiedBy>
  <dcterms:modified xsi:type="dcterms:W3CDTF">2021-10-27T08:58:44Z</dcterms:modified>
  <cp:revision>3</cp:revision>
  <dc:subject/>
  <dc:title>                                                  </dc:title>
</cp:coreProperties>
</file>