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1.gif" ContentType="image/gif"/>
  <Override PartName="/ppt/media/image14.png" ContentType="image/png"/>
  <Override PartName="/ppt/media/image9.png" ContentType="image/png"/>
  <Override PartName="/ppt/media/image6.jpeg" ContentType="image/jpeg"/>
  <Override PartName="/ppt/media/image7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4693-202B-475E-9A62-3DAE00FFD8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227C-956F-4F5D-AC67-C219926948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D0F-4A0C-4CE5-922A-62401F75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0268-51A4-470E-98CD-D8411CDC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B6D-9A11-4E5D-925E-E37D2488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BEF-F346-4A3B-8268-E77C8DCA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E45-093F-4AF5-8DA9-3263BA98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A3A3-CDCA-4BBC-850D-8B6EA94B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984-FE66-4B47-BE15-DA3EA52A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CB8-B883-4410-BC18-463D2AE8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9E8-72A1-4299-B2B8-510415CA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A6F-0A72-4E53-9665-61A476FC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224-3C1B-4E3F-920D-66D6F551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BB0-1886-474E-8141-D16B5AB0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4301-8806-4FD0-901D-1FBDE7201B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tabletennis.hobby.ru/rules/index.shtml" TargetMode="External"/><Relationship Id="rId2" Type="http://schemas.openxmlformats.org/officeDocument/2006/relationships/hyperlink" Target="http://images.yandex.ru/yandsearch?source=wiz&amp;fp=0&amp;text=&#1085;&#1072;&#1089;&#1090;&#1086;&#1083;&#1100;&#1085;&#1099;&#1081;%20&#1090;&#1077;&#1085;&#1085;&#1080;&#1089;&amp;noreask=1&amp;pos=6&amp;lr=67&amp;rpt=simage&amp;uinfo=ww-1263-wh-682-fw-1021-fh-476-pd-1&amp;img_url=http%3A%2F%2Fcs405928.vk.me%2Fg42369493%2Fd_8bbed04f.jpg" TargetMode="External"/><Relationship Id="rId3" Type="http://schemas.openxmlformats.org/officeDocument/2006/relationships/hyperlink" Target="http://images.yandex.ru/yandsearch?text=&#1085;&#1072;&#1089;&#1090;&#1086;&#1083;&#1100;&#1085;&#1099;&#1081;%20&#1090;&#1077;&#1085;&#1085;&#1080;&#1089;%20&#1088;&#1072;&#1079;&#1084;&#1077;&#1088;%20&#1089;&#1090;&#1086;&#1083;&#1072;&amp;fp=0&amp;pos=6&amp;uinfo=ww-1263-wh-682-fw-1038-fh-476-pd1&amp;rpt=simage&amp;img_url=http%3A%2F%2Fnews.bbcimg.co.uk%2Fmedia%2Fimages%2F41395000%2Fgif%2F_41395290_table_tennis2_416.gif" TargetMode="External"/><Relationship Id="rId4" Type="http://schemas.openxmlformats.org/officeDocument/2006/relationships/hyperlink" Target="http://images.yandex.ru/yandsearch?text=&#1085;&#1072;&#1089;&#1090;&#1086;&#1083;&#1100;&#1085;&#1099;&#1081;%20&#1090;&#1077;&#1085;&#1085;&#1080;&#1089;%20&#1050;&#1086;&#1084;&#1087;&#1083;&#1077;&#1082;&#1090;%20&#1089;&#1077;&#1090;&#1082;&#1080;&amp;fp=0&amp;pos=16&amp;uinfo=ww-1263-wh-682-fw-1038-fh-476-pd-1&amp;rpt=simage&amp;img_url=http%3A%2F%2Fimage.vcene.ua%2Fdata%2Fproducts%2F640946%2Fi-yashima-competition.jpg" TargetMode="External"/><Relationship Id="rId5" Type="http://schemas.openxmlformats.org/officeDocument/2006/relationships/hyperlink" Target="http://images.yandex.ru/yandsearch?text=&#1085;&#1072;&#1089;&#1090;&#1086;&#1083;&#1100;&#1085;&#1099;&#1081;%20&#1090;&#1077;&#1085;&#1085;&#1080;&#1089;%20&#1084;&#1103;&#1095;&amp;fp=0&amp;pos=1&amp;uinfo=ww-1263-wh-682-fw-1038-fh-476-pd-1&amp;rpt=simage&amp;img_url=http%3A%2F%2Fd.wikimart.ru%2Fce%2F9d%2Fb2aa32e9-4c0e-43da-9b47-8fce9d5aaddd.jpeg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5;&#1072;&#1089;&#1090;&#1086;&#1083;&#1100;&#1085;&#1099;&#1081;%20&#1090;&#1077;&#1085;&#1085;&#1080;&#1089;%20&#1088;&#1072;&#1082;&#1077;&#1090;&#1082;&#1072;&amp;fp=0&amp;pos=3&amp;uinfo=ww-1263-wh-682-fw-1038-fh-476-pd-1&amp;rpt=simage&amp;img_url=http%3A%2F%2Fpics.mobilluck.com.ua%2Fphoto%2Ftennis_rackets%2Fgiantdragon%2FGiant_Dragon_Diamond_ND692_111642_175214.jpg" TargetMode="External"/><Relationship Id="rId2" Type="http://schemas.openxmlformats.org/officeDocument/2006/relationships/hyperlink" Target="http://images.yandex.ru/yandsearch?p=1&amp;text=&#1085;&#1072;&#1089;&#1090;&#1086;&#1083;&#1100;&#1085;&#1099;&#1081;%20&#1090;&#1077;&#1085;&#1085;&#1080;&#1089;%20&#1088;&#1072;&#1082;&#1077;&#1090;&#1082;&#1072;&amp;fp=1&amp;pos=58&amp;uinfo=ww-1263-wh-682-fw-1038-fh-476-pd-1&amp;rpt=simage&amp;img_url=http%3A%2F%2Fsuperprices.ru%2Fpublished%2Fpublicdata%2FSUPERDVDPRICES%2Fattachments%2FSC%2Fproducts_pictures%2FHLA88R-1_thm.JPG" TargetMode="External"/><Relationship Id="rId3" Type="http://schemas.openxmlformats.org/officeDocument/2006/relationships/hyperlink" Target="http://images.yandex.ru/yandsearch?text=&#1085;&#1072;&#1089;&#1090;&#1086;&#1083;&#1100;&#1085;&#1099;&#1081;%20&#1090;&#1077;&#1085;&#1085;&#1080;&#1089;%20&#1087;&#1086;&#1076;&#1072;&#1095;&#1072;&amp;fp=0&amp;pos=19&amp;uinfo=ww-1263-wh-682-fw-1038-fh-476-pd-1&amp;rpt=simage&amp;img_url=http%3A%2F%2Fbookz.ru%2Fauthors%2Fgalina-bar4ukova%2Fu4is_-ig_728%2Fany2fbimgloader15.png" TargetMode="External"/><Relationship Id="rId4" Type="http://schemas.openxmlformats.org/officeDocument/2006/relationships/hyperlink" Target="http://images.yandex.ru/yandsearch?text=&#1085;&#1072;&#1089;&#1090;&#1086;&#1083;&#1100;&#1085;&#1099;&#1081;%20&#1090;&#1077;&#1085;&#1085;&#1080;&#1089;&amp;fp=0&amp;pos=28&amp;uinfo=ww-1263-wh-682-fw-1038-fh-476-pd-1&amp;rpt=simage&amp;img_url=http%3A%2F%2Fcs4228.vk.me%2Fg34088264%2Fa_d937b19d.jpg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5;&#1072;&#1089;&#1090;&#1086;&#1083;&#1100;&#1085;&#1099;&#1081;%20&#1090;&#1077;&#1085;&#1085;&#1080;&#1089;%20&#1072;&#1085;&#1080;&#1084;&#1072;&#1094;&#1080;&#1103;&amp;fp=0&amp;pos=1&amp;uinfo=ww-1263-wh-682-fw-1038-fh-476-pd-1&amp;rpt=simage&amp;img_url=http%3A%2F%2Fs5.rimg.info%2Fa5ad1d63a964388b78f5be1f48d49643.gif" TargetMode="External"/><Relationship Id="rId2" Type="http://schemas.openxmlformats.org/officeDocument/2006/relationships/hyperlink" Target="http://images.yandex.ru/yandsearch?p=1&amp;text=&#1085;&#1072;&#1089;&#1090;&#1086;&#1083;&#1100;&#1085;&#1099;&#1081;%20&#1090;&#1077;&#1085;&#1085;&#1080;&#1089;%20&#1089;&#1095;&#1077;&#1090;&amp;fp=1&amp;pos=44&amp;uinfo=ww-1263-wh-682-fw-1038-fh-476-pd-1&amp;rpt=simage&amp;itype=gif&amp;img_url=http%3A%2F%2Fthethaohanoi.com%2Fimages%2Fstories%2Fvirtuemart%2Fproduct%2Fbang-lat-so-%2520f505.gi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50920" y="4005360"/>
            <a:ext cx="442764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Выполнил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Шишко И.А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едагог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дополните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2"/>
          <p:cNvSpPr/>
          <p:nvPr/>
        </p:nvSpPr>
        <p:spPr>
          <a:xfrm flipV="1">
            <a:off x="4284720" y="5949360"/>
            <a:ext cx="1655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100520" y="907920"/>
            <a:ext cx="689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Настольный тенни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Правила иг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Правильный возвра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93760" y="2646360"/>
            <a:ext cx="43801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анный или возвращенный мяч следует ударить так, чтобы он пролетел над или вокруг комплекта сетки и коснулся (один раз) половины стола соперника сразу или после касаний комплекта с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0" y="2205000"/>
            <a:ext cx="4788000" cy="4330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Порядок игр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7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одиночных встречах подающий должен первым выполнить правильную подачу, принимающий должен затем выполнить правильный возврат, после чего подающий и принимающий поочередно выполняют правильный возв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2484360" y="4221000"/>
            <a:ext cx="4826160" cy="1805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Переигров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озыгрыш переигрывается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 подаче мяч, пролетая «над или вокруг» комплекта сетки, коснется его (при условии, что во всех других отношениях подача выполнена правильно) или принимающий (или его партнер) помешает мяч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ача выполнена, когда принимающий (пара) не готов к приему мяча, при условии, что никто из принимающих не пытался отбить мя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шибка при выполнении правильной подачи, правильного возврата или какого-либо другого требования правил игры произошла помимо воли иг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гра прервана судьей или судьей-ассист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Очк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2599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гда розыгрыш не переигрывается, игрок выигрывает очко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соперник не выполнил правильную подач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соперник не выполнил правильный возв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его правильной подачи или правильного возврата мяч до удара его соперника коснётся чего-либо, кроме комплекта с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яч, после того, как он был отбит соперником, пролетит над концевой линией стороны игровой поверхности данного игрока, не коснувшись 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соперник мешает мяч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ts val="2599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соперник ударяет мяч дважды подря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соперник ударяет мяч стороной ракетки, поверхность которой не соответствует требовани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Парт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547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артию выигрывает игрок (пара), первым набравший 11 очков, если только оба игрока (пары) не набрали по 10 очков; в этом случае партия будет выиграна игроком (парой), который первым наберет на 2 очка больше соперника (па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5219640" y="3645000"/>
            <a:ext cx="360036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Выбор подачи, приема и сторо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выбрать стартовый порядок подачи, приема и сторону определяют жребием; выигравший это право, может выбрать: подачу или прием первым, начать встречу на определенной им стороне ст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2411280" y="4076640"/>
            <a:ext cx="4532400" cy="2201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028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Нарушение порядка подачи, приема или смены сторо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игрок подает или принимает не в очередь, игра должна быть остановлена, как только ошибка обнаружена, а затем возобновлена с подачи и приема тех игроков, которым следовало подавать и принимать в соответствии с очередностью, установленной в начале встречи; в парных играх - в порядке очередности подач, определенных парой, получившей право первой подавать в партии, в течение которой обнаружена ошиб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игроки не поменялись сторон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гда им следовало это сделать, иг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лжна быть прервана судь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6588000" y="4508640"/>
            <a:ext cx="2006640" cy="2008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tabletennis.hobby.ru/rules/index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images.yandex.ru/yandsearch?source=wiz&amp;fp=0&amp;text=%D0%BD%D0%B0%D1%81%D1%82%D0%BE%D0%BB%D1%8C%D0%BD%D1%8B%D0%B9%20%D1%82%D0%B5%D0%BD%D0%BD%D0%B8%D1%81&amp;noreask=1&amp;pos=6&amp;lr=67&amp;rpt=simage&amp;uinfo=ww-1263-wh-682-fw-1021-fh-476-pd-1&amp;img_url=http%3A%2F%2Fcs405928.vk.me%2Fg42369493%2Fd_8bbed04f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http://images.yandex.ru/yandsearch?text=%D0%BD%D0%B0%D1%81%D1%82%D0%BE%D0%BB%D1%8C%D0%BD%D1%8B%D0%B9%20%D1%82%D0%B5%D0%BD%D0%BD%D0%B8%D1%81%20%D1%80%D0%B0%D0%B7%D0%BC%D0%B5%D1%80%20%D1%81%D1%82%D0%BE%D0%BB%D0%B0&amp;fp=0&amp;pos=6&amp;uinfo=ww-1263-wh-682-fw-1038-fh-476-pd1&amp;rpt=simage&amp;img_url=http%3A%2F%2Fnews.bbcimg.co.uk%2Fmedia%2Fimages%2F41395000%2Fgif%2F_41395290_table_tennis2_416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ttp://images.yandex.ru/yandsearch?text=%D0%BD%D0%B0%D1%81%D1%82%D0%BE%D0%BB%D1%8C%D0%BD%D1%8B%D0%B9%20%D1%82%D0%B5%D0%BD%D0%BD%D0%B8%D1%81%20%D0%9A%D0%BE%D0%BC%D0%BF%D0%BB%D0%B5%D0%BA%D1%82%20%D1%81%D0%B5%D1%82%D0%BA%D0%B8&amp;fp=0&amp;pos=16&amp;uinfo=ww-1263-wh-682-fw-1038-fh-476-pd-1&amp;rpt=simage&amp;img_url=http%3A%2F%2Fimage.vcene.ua%2Fdata%2Fproducts%2F640946%2Fi-yashima-competition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ages.yandex.ru/yandsearch?text=%D0%BD%D0%B0%D1%81%D1%82%D0%BE%D0%BB%D1%8C%D0%BD%D1%8B%D0%B9%20%D1%82%D0%B5%D0%BD%D0%BD%D0%B8%D1%81%20%D0%BC%D1%8F%D1%87&amp;fp=0&amp;pos=1&amp;uinfo=ww-1263-wh-682-fw-1038-fh-476-pd-1&amp;rpt=simage&amp;img_url=http%3A%2F%2Fd.wikimart.ru%2Fce%2F9d%2Fb2aa32e9-4c0e-43da-9b47-8fce9d5aaddd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images.yandex.ru/yandsearch?text=%D0%BD%D0%B0%D1%81%D1%82%D0%BE%D0%BB%D1%8C%D0%BD%D1%8B%D0%B9%20%D1%82%D0%B5%D0%BD%D0%BD%D0%B8%D1%81%20%D1%80%D0%B0%D0%BA%D0%B5%D1%82%D0%BA%D0%B0&amp;fp=0&amp;pos=3&amp;uinfo=ww-1263-wh-682-fw-1038-fh-476-pd-1&amp;rpt=simage&amp;img_url=http%3A%2F%2Fpics.mobilluck.com.ua%2Fphoto%2Ftennis_rackets%2Fgiantdragon%2FGiant_Dragon_Diamond_ND692_111642_17521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images.yandex.ru/yandsearch?p=1&amp;text=%D0%BD%D0%B0%D1%81%D1%82%D0%BE%D0%BB%D1%8C%D0%BD%D1%8B%D0%B9%20%D1%82%D0%B5%D0%BD%D0%BD%D0%B8%D1%81%20%D1%80%D0%B0%D0%BA%D0%B5%D1%82%D0%BA%D0%B0&amp;fp=1&amp;pos=58&amp;uinfo=ww-1263-wh-682-fw-1038-fh-476-pd-1&amp;rpt=simage&amp;img_url=http%3A%2F%2Fsuperprices.ru%2Fpublished%2Fpublicdata%2FSUPERDVDPRICES%2Fattachments%2FSC%2Fproducts_pictures%2FHLA88R-1_th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http://images.yandex.ru/yandsearch?text=%D0%BD%D0%B0%D1%81%D1%82%D0%BE%D0%BB%D1%8C%D0%BD%D1%8B%D0%B9%20%D1%82%D0%B5%D0%BD%D0%BD%D0%B8%D1%81%20%D0%BF%D0%BE%D0%B4%D0%B0%D1%87%D0%B0&amp;fp=0&amp;pos=19&amp;uinfo=ww-1263-wh-682-fw-1038-fh-476-pd-1&amp;rpt=simage&amp;img_url=http%3A%2F%2Fbookz.ru%2Fauthors%2Fgalina-bar4ukova%2Fu4is_-ig_728%2Fany2fbimgloader15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ttp://images.yandex.ru/yandsearch?text=%D0%BD%D0%B0%D1%81%D1%82%D0%BE%D0%BB%D1%8C%D0%BD%D1%8B%D0%B9%20%D1%82%D0%B5%D0%BD%D0%BD%D0%B8%D1%81&amp;fp=0&amp;pos=28&amp;uinfo=ww-1263-wh-682-fw-1038-fh-476-pd-1&amp;rpt=simage&amp;img_url=http%3A%2F%2Fcs4228.vk.me%2Fg34088264%2Fa_d937b19d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images.yandex.ru/yandsearch?text=%D0%BD%D0%B0%D1%81%D1%82%D0%BE%D0%BB%D1%8C%D0%BD%D1%8B%D0%B9%20%D1%82%D0%B5%D0%BD%D0%BD%D0%B8%D1%81%20%D0%B0%D0%BD%D0%B8%D0%BC%D0%B0%D1%86%D0%B8%D1%8F&amp;fp=0&amp;pos=1&amp;uinfo=ww-1263-wh-682-fw-1038-fh-476-pd-1&amp;rpt=simage&amp;img_url=http%3A%2F%2Fs5.rimg.info%2Fa5ad1d63a964388b78f5be1f48d49643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images.yandex.ru/yandsearch?p=1&amp;text=%D0%BD%D0%B0%D1%81%D1%82%D0%BE%D0%BB%D1%8C%D0%BD%D1%8B%D0%B9%20%D1%82%D0%B5%D0%BD%D0%BD%D0%B8%D1%81%20%D1%81%D1%87%D0%B5%D1%82&amp;fp=1&amp;pos=44&amp;uinfo=ww-1263-wh-682-fw-1038-fh-476-pd-1&amp;rpt=simage&amp;itype=gif&amp;img_url=http%3A%2F%2Fthethaohanoi.com%2Fimages%2Fstories%2Fvirtuemart%2Fproduct%2Fbang-lat-so-%2520f505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http://images.yandex.ru/yandsearch?text=%D0%BD%D0%B0%D1%81%D1%82%D0%BE%D0%BB%D1%8C%D0%BD%D1%8B%D0%B9%20%D1%82%D0%B5%D0%BD%D0%BD%D0%B8%D1%81%20%D0%B0%D0%BD%D0%B8%D0%BC%D0%B0%D1%86%D0%B8%D1%8F&amp;fp=0&amp;pos=6&amp;uinfo=ww-1263-wh-682-fw-1038-fh-476-pd-1&amp;rpt=simage&amp;itype=gif&amp;img_url=http%3A%2F%2Fpingipong.sourceforge.net%2Findexphp%2Fimages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http://images.yandex.ru/yandsearch?text=%D0%BD%D0%B0%D1%81%D1%82%D0%BE%D0%BB%D1%8C%D0%BD%D1%8B%D0%B9%20%D1%82%D0%B5%D0%BD%D0%BD%D0%B8%D1%81%20%D0%B0%D0%BD%D0%B8%D0%BC%D0%B0%D1%86%D0%B8%D1%8F&amp;fp=0&amp;pos=6&amp;uinfo=ww-1263-wh-682-fw-1038-fh-476-pd-1&amp;rpt=simage&amp;itype=gif&amp;img_url=http%3A%2F%2Fpingipong.sourceforge.net%2Findexphp%2Fimages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мплект с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к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равильная по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авильный возв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рядок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ереиг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Оч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ар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ыбор подачи, приема и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рушение порядка подачи, приема или смены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392256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Сто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604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рхняя поверхность стола, называем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игровой поверхностью», длиной 2,74 м и шириной 1,525 м, должна быть прямоугольной и лежать в горизонтальной плоскости на высоте 76 см от по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1835280" y="3408480"/>
            <a:ext cx="5362560" cy="311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Комплект сет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мплект сетки состоит из собственно сетки, подвесного шнура и опорных сто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етку подвешивают на шнур, привязанный с каждого конца к вертикальной части стоек высотой 15,25 см; длина выступающих частей стоек не должна превышать 15,25 см в сторону от боковых ли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4484520" y="3589200"/>
            <a:ext cx="4629240" cy="294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Мя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2421000"/>
            <a:ext cx="48592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яч должен быть сферическим, диаметром 40 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сса мяча должна быть 2,7 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яч должен быть изготовлен из целлулоида или подобной пластмассы белого или оранжевого цвета, матов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2"/>
          <a:stretch/>
        </p:blipFill>
        <p:spPr>
          <a:xfrm>
            <a:off x="4795920" y="2565360"/>
            <a:ext cx="4348080" cy="2906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Ракет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кетка может быть любого размера, формы и массы, но ее лопасть должна быть плоской и жес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крайней мере, 85% лопасти по толщине должно быть из натурального дер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539640" y="3481560"/>
            <a:ext cx="4500720" cy="3019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"/>
          <p:cNvPicPr/>
          <p:nvPr/>
        </p:nvPicPr>
        <p:blipFill>
          <a:blip r:embed="rId2"/>
          <a:stretch/>
        </p:blipFill>
        <p:spPr>
          <a:xfrm>
            <a:off x="4653000" y="3444840"/>
            <a:ext cx="3933720" cy="304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Определ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Розыгрыш» - период времени, когда мяч находится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ереигровка» - розыгрыш, результат которого не зас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Очко» - розыгрыш, результат которого зас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Рука с ракеткой» - рука, держащая раке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Свободная рука» - рука без рак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грок «ударяет» мяч, если он касается мяча своей ракеткой, держа ее рукой, или своей рукой (с ракеткой) ниже запяс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одающий» - игрок, который должен первым ударить по мячу в розыгр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ринимающий» - игрок, который должен вторым ударить по мячу в розыгр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Судья» - лицо, назначенное контролировать встре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Судья-ассистент» - лицо, назначенное содействовать судье в принятии определенны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нятие игрок «надевает или носит» включает в себя все, что на нем было надето или что он носил в начале розыгры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яч считается прошедшим «над или вокруг» комплекта сетки, если он пролетел как угодно, но не между сеткой и стойкой сетки или между сеткой и игровой поверх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Концевую линию» следует рассматривать продолжающейся неопределенно долго в обоих направл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Правильная подач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ающий должен подбросить мяч только рукой так, чтобы мяч  взлетел  не менее чем на 16см после того, как он покинул ладонь свободной руки подающего и опустился, не коснувшись чего-либо до удара по нему рак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5380200" cy="2430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218</cp:lastModifiedBy>
  <dcterms:modified xsi:type="dcterms:W3CDTF">2021-10-27T13:44:05Z</dcterms:modified>
  <cp:revision>693</cp:revision>
  <dc:subject/>
  <dc:title>Diapositiva 1</dc:title>
</cp:coreProperties>
</file>