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4.jpeg" ContentType="image/jpeg"/>
  <Override PartName="/ppt/media/image9.jpeg" ContentType="image/jpe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5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08A9-A2A5-42DA-9D3B-E77A2AA3C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07A6-79CB-495F-A22F-054BE38B5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41A6-6B72-4EE1-A677-3EE401574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9803-F41D-4423-9AC0-17049200C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6CB56-12F4-4CED-BD8D-BC6B8837A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E2B27-6C84-4EF5-B8A0-C4EF351FA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49A4C-24C8-4D83-8F84-DDF6E4251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58476-6AD7-422D-9C6B-221813C84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AE830-FE30-46B5-BA0C-D66D0A4B5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38B2A-1A94-4C94-8C03-09EEAD31D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8CA1E-AB46-4A09-B3A9-C69A17B1C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561B-A743-482F-B88E-2AFA1B0D2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57812-C354-4F3F-84FE-0765B12B3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BA076-0F1C-467E-8A98-FA13AC141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BABB5-AB9A-4709-B259-7F19DBFC8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43903-69CA-45E3-AB7A-BC74E0E12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A6A0C-2F5C-4C82-AB6B-4A413CA57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CCC36-AD3D-4C0D-8B70-D6F33B5B6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1523C-6141-4542-B315-EB31C1D48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2129E-FEC6-4DFC-9AC1-A2EB77821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9E179-8B3B-47D2-84B6-588CACEEA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EC050-0EE4-4908-9CE8-DDA75558D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0436-0034-466C-97F7-8F2ADA8F3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9A912-AE1F-4C54-B99C-BC54C8270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A323F-1C7D-41ED-8954-756FD61F8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A6B4E-686F-491F-9A6D-2CAF89E08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7FE87-1749-4113-9DFF-568967C25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59961-C9BF-4AE2-AFF3-0794C9568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00263-D7A3-41CB-9DB7-D034FA163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4A268-1EE7-486F-B19B-3BB2FC32E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BF019C-3B2E-4ECF-A7B8-92056935F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2D03E-A1B9-47E5-9C98-7F9D4F7E4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117E0-BCAB-409E-B7FE-E10440929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E72C-42F1-4A9A-A126-67D73C213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E81BA3-B829-4617-A23F-8BD623F35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1FEEA-2C0D-48CF-84D6-9D0C064EF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94937-1D34-481F-ADD4-32BC75236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4E982-FAD7-4882-A6F2-CF0F8C97F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324EB-D932-441D-B542-941E1E8B8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874E4-C3AC-4C5D-B1D8-BF87940B2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E05B4-277F-4936-ABE8-825FFC5FD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A946DD-E8A0-4792-A200-075229B63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921D7-EE49-4826-A23F-C95C83844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12AF-7D66-454D-A079-E35E204F8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9B4D-3540-47FA-B64B-8D3074A5A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8689-4E02-4656-A362-3A70E3D0A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4196-7269-4161-B1B6-98722DD26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3E63-0F22-420F-B34A-F6BA9E38A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BFE1F-3AFD-46DB-9504-5733AD1FE2EE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A7A48-44D5-4EDF-A6F2-190DE63CA377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BE4A6-5155-4923-BF17-9C2F8D1017F9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A64F2-A36E-40AD-912A-AB0C9BBF3B2C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353880" y="1152360"/>
            <a:ext cx="8813880" cy="19875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826920" y="5660640"/>
            <a:ext cx="7855200" cy="576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Воспитатель: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Целикова Наталья Петровна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7" name="Прямоугольник 3"/>
          <p:cNvSpPr/>
          <p:nvPr/>
        </p:nvSpPr>
        <p:spPr>
          <a:xfrm>
            <a:off x="1476360" y="260280"/>
            <a:ext cx="622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труктурное подразде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«Детский сад«Центр коррекции и развития детей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БОУ ООШ №18 г.Новокуйбышев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Рисунок 1" descr=""/>
          <p:cNvPicPr/>
          <p:nvPr/>
        </p:nvPicPr>
        <p:blipFill>
          <a:blip r:embed="rId2"/>
          <a:stretch/>
        </p:blipFill>
        <p:spPr>
          <a:xfrm>
            <a:off x="324000" y="3213000"/>
            <a:ext cx="4440240" cy="331164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1"/>
          <p:cNvSpPr/>
          <p:nvPr/>
        </p:nvSpPr>
        <p:spPr>
          <a:xfrm>
            <a:off x="395280" y="448920"/>
            <a:ext cx="842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Профориентация дошкольников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- это система мероприятий, направленных на выявление личностных особенностей, интересов и способностей у каждого человека для оказания ему помощи в разумном выборе профессии, наиболее соответствующих его индивидуальным возможност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Рисунок 2" descr="C:\Users\Admin\Desktop\Дипломы 2016 - 2017\IMG_0779-1.JPG"/>
          <p:cNvPicPr/>
          <p:nvPr/>
        </p:nvPicPr>
        <p:blipFill>
          <a:blip r:embed="rId1"/>
          <a:stretch/>
        </p:blipFill>
        <p:spPr>
          <a:xfrm>
            <a:off x="900000" y="2060640"/>
            <a:ext cx="7493040" cy="461952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Прямоугольник 1"/>
          <p:cNvSpPr/>
          <p:nvPr/>
        </p:nvSpPr>
        <p:spPr>
          <a:xfrm>
            <a:off x="468360" y="692280"/>
            <a:ext cx="8207280" cy="43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Театрализованная игра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является эффективны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средством ранней профориентац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дошкольника в процессе осмысления им нравственного подтекста литературного или фольклорного произве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Рисунок 2" descr=""/>
          <p:cNvPicPr/>
          <p:nvPr/>
        </p:nvPicPr>
        <p:blipFill>
          <a:blip r:embed="rId1"/>
          <a:stretch/>
        </p:blipFill>
        <p:spPr>
          <a:xfrm>
            <a:off x="1258920" y="2276640"/>
            <a:ext cx="6134040" cy="331308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ТЕАТРАЛИЗОВАННЫЕ ФОРМЫ ОЗНАКОМЛЕНИЯ СТАРШИХ ДОШКОЛЬНИКОВ С ПРОФЕССИЯМИ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4" name="Схема 3" descr=""/>
          <p:cNvPicPr/>
          <p:nvPr/>
        </p:nvPicPr>
        <p:blipFill>
          <a:blip r:embed="rId1"/>
          <a:stretch/>
        </p:blipFill>
        <p:spPr>
          <a:xfrm>
            <a:off x="792000" y="689040"/>
            <a:ext cx="7913880" cy="3827520"/>
          </a:xfrm>
          <a:prstGeom prst="rect">
            <a:avLst/>
          </a:prstGeom>
          <a:ln w="0">
            <a:noFill/>
          </a:ln>
        </p:spPr>
      </p:pic>
      <p:pic>
        <p:nvPicPr>
          <p:cNvPr id="205" name="Схема 4" descr=""/>
          <p:cNvPicPr/>
          <p:nvPr/>
        </p:nvPicPr>
        <p:blipFill>
          <a:blip r:embed="rId2"/>
          <a:stretch/>
        </p:blipFill>
        <p:spPr>
          <a:xfrm>
            <a:off x="1438200" y="3279600"/>
            <a:ext cx="615168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ТЕАТРАЛЬНЫЕ ПРОФЕСИИ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700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Arial"/>
                <a:ea typeface="Arial"/>
              </a:rPr>
              <a:t>актёр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исполнитель ролей в театральных представлениях, в кино, на телевидении; 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Arial"/>
                <a:ea typeface="Arial"/>
              </a:rPr>
              <a:t>костюме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 –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подбирает различные костюмы к спектаклям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Arial"/>
                <a:ea typeface="Arial"/>
              </a:rPr>
              <a:t>гриме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–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работник театра, специалист по гриму, который умеет изменить лицо актёра при помощи специальных красок, пластических и волосяных наклеек, парика в соответствии с исполняемой ролью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Arial"/>
                <a:ea typeface="Arial"/>
              </a:rPr>
              <a:t>декорато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– 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работник театрального цеха, изготавливающий декорации для спектаклей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Arial"/>
                <a:ea typeface="Arial"/>
              </a:rPr>
              <a:t>режиссёр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это главный организатор и создатель спектакля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оугольник 4"/>
          <p:cNvSpPr/>
          <p:nvPr/>
        </p:nvSpPr>
        <p:spPr>
          <a:xfrm>
            <a:off x="324000" y="3716280"/>
            <a:ext cx="8640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режиссер - постановщик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это главное лицо, которое отвечает за все происходящее на съемочной площадке или на сцене. Ему подчиняются актеры, операторы 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звукорежиссё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– 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находит музыкальное решение спектакл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осветитель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лицо, на обязанности которого лежит освещение сцены, создание световых эффектов и др.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кассир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продает билеты в билетной касс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билетер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распространитель билетов;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гардеробщи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 –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обслуживают посетителей, делают их отдых комфортным и прият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3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176720" cy="3168720"/>
          </a:xfrm>
          <a:prstGeom prst="rect">
            <a:avLst/>
          </a:prstGeom>
          <a:ln w="9360">
            <a:solidFill>
              <a:srgbClr val="00206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10" name="Picture 6" descr=""/>
          <p:cNvPicPr/>
          <p:nvPr/>
        </p:nvPicPr>
        <p:blipFill>
          <a:blip r:embed="rId2"/>
          <a:stretch/>
        </p:blipFill>
        <p:spPr>
          <a:xfrm>
            <a:off x="4778280" y="189000"/>
            <a:ext cx="4079880" cy="3168720"/>
          </a:xfrm>
          <a:prstGeom prst="rect">
            <a:avLst/>
          </a:prstGeom>
          <a:ln w="9360">
            <a:solidFill>
              <a:srgbClr val="00206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1"/>
          <p:cNvSpPr/>
          <p:nvPr/>
        </p:nvSpPr>
        <p:spPr>
          <a:xfrm>
            <a:off x="501480" y="2790720"/>
            <a:ext cx="839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«Профессиональное» </a:t>
            </a:r>
            <a:r>
              <a:rPr b="0" lang="ru-RU" sz="1800" spc="-1" strike="noStrike">
                <a:solidFill>
                  <a:srgbClr val="111111"/>
                </a:solidFill>
                <a:latin typeface="Arial"/>
                <a:ea typeface="Times New Roman"/>
              </a:rPr>
              <a:t>участие в театральных постановках,                                         в свободной доступной импровизации,                                                                    формирует театральную талантливость,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«актерскую» </a:t>
            </a:r>
            <a:r>
              <a:rPr b="0" lang="ru-RU" sz="1800" spc="-1" strike="noStrike">
                <a:solidFill>
                  <a:srgbClr val="111111"/>
                </a:solidFill>
                <a:latin typeface="Arial"/>
                <a:ea typeface="Times New Roman"/>
              </a:rPr>
              <a:t>одарён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Рисунок 2" descr=""/>
          <p:cNvPicPr/>
          <p:nvPr/>
        </p:nvPicPr>
        <p:blipFill>
          <a:blip r:embed="rId1"/>
          <a:stretch/>
        </p:blipFill>
        <p:spPr>
          <a:xfrm>
            <a:off x="3132000" y="4149720"/>
            <a:ext cx="3456000" cy="242892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213" name="Овал 5"/>
          <p:cNvSpPr/>
          <p:nvPr/>
        </p:nvSpPr>
        <p:spPr>
          <a:xfrm>
            <a:off x="3276720" y="189000"/>
            <a:ext cx="2447640" cy="503280"/>
          </a:xfrm>
          <a:prstGeom prst="ellipse">
            <a:avLst/>
          </a:prstGeom>
          <a:solidFill>
            <a:srgbClr val="59a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Дет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Овал 7"/>
          <p:cNvSpPr/>
          <p:nvPr/>
        </p:nvSpPr>
        <p:spPr>
          <a:xfrm>
            <a:off x="179280" y="765000"/>
            <a:ext cx="3529080" cy="1008360"/>
          </a:xfrm>
          <a:prstGeom prst="ellipse">
            <a:avLst/>
          </a:prstGeom>
          <a:solidFill>
            <a:srgbClr val="59a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11111"/>
                </a:solidFill>
                <a:latin typeface="Arial"/>
              </a:rPr>
              <a:t>самостоятельно распределяют ро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Овал 8"/>
          <p:cNvSpPr/>
          <p:nvPr/>
        </p:nvSpPr>
        <p:spPr>
          <a:xfrm>
            <a:off x="5076720" y="836640"/>
            <a:ext cx="3527640" cy="1008000"/>
          </a:xfrm>
          <a:prstGeom prst="ellipse">
            <a:avLst/>
          </a:prstGeom>
          <a:solidFill>
            <a:srgbClr val="59a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11111"/>
                </a:solidFill>
                <a:latin typeface="Arial"/>
              </a:rPr>
              <a:t>определяют игровое простран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Овал 9"/>
          <p:cNvSpPr/>
          <p:nvPr/>
        </p:nvSpPr>
        <p:spPr>
          <a:xfrm>
            <a:off x="1979640" y="1773360"/>
            <a:ext cx="4608360" cy="1008000"/>
          </a:xfrm>
          <a:prstGeom prst="ellipse">
            <a:avLst/>
          </a:prstGeom>
          <a:solidFill>
            <a:srgbClr val="59a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11111"/>
                </a:solidFill>
                <a:latin typeface="Arial"/>
              </a:rPr>
              <a:t>готовят необходимые атрибуты, декорации,  макеты пригласитель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1"/>
          <p:cNvSpPr/>
          <p:nvPr/>
        </p:nvSpPr>
        <p:spPr>
          <a:xfrm>
            <a:off x="324000" y="1794240"/>
            <a:ext cx="849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Важно, чтобы ребёнок с раннего возраста проникся уважением к любой 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профессии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, и понял, что любая 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профессия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 должна приносить радость и самому человеку и окружающим людям, а использование 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театрализованной деятельности в ранней профориентации нам в этом поможет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19T17:11:06Z</dcterms:created>
  <dc:creator>Admin</dc:creator>
  <dc:description/>
  <dc:language>en-US</dc:language>
  <cp:lastModifiedBy>Admin</cp:lastModifiedBy>
  <dcterms:modified xsi:type="dcterms:W3CDTF">2021-10-27T17:47:41Z</dcterms:modified>
  <cp:revision>54</cp:revision>
  <dc:subject/>
  <dc:title>Слайд 1</dc:title>
</cp:coreProperties>
</file>