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348F-9EBD-4736-8E83-D1BA90AD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7FF0-BBD3-47E2-A8B3-52AC1AB4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244-23A3-4E14-ADEB-C7EE222A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231-C044-4537-9CA5-3693C880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5B76-B15F-4D21-AD43-CC62401D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0583-4ABA-412D-B8C6-16A3FD09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C682-D6FA-4D61-B9B8-3431F0CF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AE51-602F-474F-92FD-93287A5B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AB3E-0ABC-4DCD-9432-384DB492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3F7C-4119-445E-ACE1-61D3C2A2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D828-0DC0-43D4-AC95-FF9E580C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100-D166-4F63-BA4F-FED51D45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4B88-3538-4557-97EC-7777697B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7666-C1A3-48C9-BA72-79385D4D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A2D4-CDCD-4490-8CDC-A2BCB9E4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5C04-EBB4-4818-B585-8FBF73CE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62AB-957D-4E78-A924-6C2D471B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51947-15D4-4CA0-B53F-2BF8FCD7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DC9CB-102F-4300-9677-BD7CCC09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3EE97-9EBF-4149-8F1E-B8BF8598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0FC84-74A6-4F4D-8935-8B41DFD7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3D16C-861B-46EF-A18F-E094FA69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4B93-ADF8-4C18-81B1-17BAE75C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28026-6288-4E0C-B2BE-02C030C2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D92C7-375C-43ED-84CD-BBDF07D6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B75BF-2B93-40D2-B395-6BF11C10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9B434-FE42-4CEA-A526-0F69BBE8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CD605-F9A7-41EF-B6BE-B060B9F1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BF859-1BAC-4E92-9997-5901D3F5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36760-4407-4C8B-9255-CC5E88DD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71572-98E7-4F21-84A0-B7D271B5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94601-090D-4F09-88F9-FBD38959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16217-C446-4763-B1EB-BE1B916A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5FE-0049-429D-89F2-319CC32D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48D56-3D5A-43FE-98BE-03E9F196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A72EF-D1B9-4D50-98EE-909CBCBB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31069-347D-4C3E-9969-79E929F8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A570C-7F84-4329-9766-F26DB97E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41705-26DC-4DB7-A587-6ED78E99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8A90B-2C4A-47BD-9AC4-01446706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1F4C0-CE81-4C68-B9DD-D5C2126E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2AD4B-CF5F-4C67-B02A-092BE11E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423CE-8150-408D-A991-DFC9194E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327EC-EE55-449F-A1E8-CB123089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19B-402B-459D-A4C4-0ED69C35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B5A59-FE60-4A82-A8D9-585D97CD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E680D-395A-4B5E-B32A-4CFE8AA0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03635-BE54-4F7C-B5A4-74C30CB7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4536A-9AFE-49B6-B7CB-2EC62079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C9372-20F0-4D2B-8B30-97C264E8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0CC42-3C75-485F-BA2B-BAB81A34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61E95-D946-4DCC-AA6D-4C78AFA4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2D709-0531-4B93-9472-AC57C3E8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D01DE-C11B-4DE1-821B-DC50C35F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58F49-4D96-4D86-B6E6-2C674A0F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BAB-02BA-4306-A74F-234B472B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2CA9F-E82E-4F13-A515-31DC6E69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405-E29B-401A-9458-229705A8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24E-8D7A-4BE9-8477-895A2224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1FA-94FC-458A-9EBE-C3324BF3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0CB1-8B83-4EA0-AFC4-DE60884D1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C71D-25CE-4D47-B571-B2D8B75D63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098F-C760-4D4B-A648-267371DA59D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0473-2ADA-4F1A-BA3C-8BDD82D22E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90DC-B5CC-4B25-B979-625B7C3D19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Young People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 Movements and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he Scout movement was founded in 1907 by Robert Smith-Ba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owel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land o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i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200400" cy="44197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4114800" y="1905120"/>
            <a:ext cx="4572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5406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otion Scout included teens from 7 to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914400" y="1130400"/>
            <a:ext cx="7201080" cy="57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cout clothing consists of a gray or green blouse with side pockets and a turn-down collar. Tie in the color of the unit. Trousers green or black colo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4190760" cy="358164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4648320" y="3124080"/>
            <a:ext cx="4190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END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prepa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sebulyanko Daria 9”B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3T12:46:59Z</dcterms:created>
  <dc:creator>User</dc:creator>
  <dc:description/>
  <dc:language>en-US</dc:language>
  <cp:lastModifiedBy>User</cp:lastModifiedBy>
  <dcterms:modified xsi:type="dcterms:W3CDTF">2018-04-24T04:36:03Z</dcterms:modified>
  <cp:revision>4</cp:revision>
  <dc:subject/>
  <dc:title>Young People‘s Movements and Organizations</dc:title>
</cp:coreProperties>
</file>