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4B5-9A2A-45B8-A5BC-01F0C2BF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A99-B367-466B-8FFF-BDF3A10E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3CB-4F4C-4940-B4C9-0A836548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683-5DDE-4F79-9723-E24A1E9B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EF3-64D4-400F-9DDD-AB3073BE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E54-F523-4CAE-8C10-8F0E224C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5DB-A612-4F1A-B87C-04A32E6A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760-13A2-41DA-A170-99CFF738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170-3708-42A9-BFA3-F8222DC3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484-04A4-4D80-984A-06B48D9B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95A-B140-4160-8E90-343D63AA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773-9B5F-4446-AA24-83591A6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F49B-00CD-448A-AB2B-EB731F7A2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orig.jpg"/>
          <p:cNvPicPr/>
          <p:nvPr/>
        </p:nvPicPr>
        <p:blipFill>
          <a:blip r:embed="rId1"/>
          <a:stretch/>
        </p:blipFill>
        <p:spPr>
          <a:xfrm>
            <a:off x="380880" y="210960"/>
            <a:ext cx="4343400" cy="6189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4492800" y="2157480"/>
            <a:ext cx="44319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mytoysgroup.scene7.com/is/image/myToys/ext/2412432-01.jpg$mt_ru_feed$"/>
          <p:cNvPicPr/>
          <p:nvPr/>
        </p:nvPicPr>
        <p:blipFill>
          <a:blip r:embed="rId1"/>
          <a:stretch/>
        </p:blipFill>
        <p:spPr>
          <a:xfrm>
            <a:off x="160020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s6.livemaster.ru/storage/69/6e/bc7dc933e88dca1db06878380ahs.jpg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paper-land.ru/wp-content/uploads/8/f/e/8fed5af20a16210cb746056483c94205.jpe"/>
          <p:cNvPicPr/>
          <p:nvPr/>
        </p:nvPicPr>
        <p:blipFill>
          <a:blip r:embed="rId1"/>
          <a:stretch/>
        </p:blipFill>
        <p:spPr>
          <a:xfrm>
            <a:off x="1676520" y="228600"/>
            <a:ext cx="5790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елье́ф (фр. bas-relief — низкий рельеф) — разновидность скульптурного выпуклого рельефа, в котором изображение выступает над плоскостью ф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5840" y="1442880"/>
            <a:ext cx="857232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828800" y="284040"/>
            <a:ext cx="52578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06440" y="30492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43080" y="609480"/>
            <a:ext cx="765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38080" y="190440"/>
            <a:ext cx="73152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57280" y="685800"/>
            <a:ext cx="8029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SAM_4713.JPG"/>
          <p:cNvPicPr/>
          <p:nvPr/>
        </p:nvPicPr>
        <p:blipFill>
          <a:blip r:embed="rId1"/>
          <a:srcRect l="3333" t="1667" r="0" b="0"/>
          <a:stretch/>
        </p:blipFill>
        <p:spPr>
          <a:xfrm>
            <a:off x="129528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9T04:54:09Z</dcterms:created>
  <dc:creator>1</dc:creator>
  <dc:description/>
  <dc:language>en-US</dc:language>
  <cp:lastModifiedBy>User</cp:lastModifiedBy>
  <dcterms:modified xsi:type="dcterms:W3CDTF">2021-10-28T14:4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