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26C-7B5C-4A48-9945-B0487435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358-91EE-4604-9E68-61F0269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878-8AC9-4D9F-9F79-11311ECD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27C-5C57-4BDC-A307-FA24DAC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0582-6435-4A9A-A3EB-E00A77C9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83E-27BF-4EB2-92AD-CF2A9F1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6788-4A43-4B11-9968-37429EC0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76DC-C09C-42F4-9D65-C81B5594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CB9-3A36-4BE2-94AD-27842EF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AC64-34DF-454C-8EF3-0952F7B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8684-3A6C-4CF9-BF39-3D18F94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E02-9B3C-4932-B584-E68E8DC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8847-43B6-4AE2-B595-8677794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FAD5-B4AC-4293-8B40-5B7A35A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EE51-195A-4DB0-A479-8E6230E9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4550-9888-4630-862E-E10546EF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C61-A5CF-48F4-8FC6-64DCBFC6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5F5CC-6E3C-430E-B0AA-0F1442CD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6DCCD-176A-43EF-89F5-6E58284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EF0D4-99BD-47E3-B1B3-0724F47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B79BF-0BF3-43D6-AAFA-20EB38E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1E91A-F0CA-4FBD-A405-4A05936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0A0-7973-4402-B38B-C3BC3CFA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8F9A4-72E4-4A65-9DAF-2769C0EC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3333E-1B36-4C0B-A09C-D164C97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82FC2-7988-4846-ADE8-FCEA2B6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4903E-23BD-480E-9570-0953A39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429CF-21EA-4D0A-B279-9C559BBC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BDD79-438D-41C5-A39C-A7298E8F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F9536-3BBD-49F9-9D8C-A8682E71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4D65-490A-4613-B543-A9F302BE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B1E1-7F50-4784-83F0-2E43C760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864F-ED89-4651-8ACE-86D2B44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D2F-F73E-48A1-8B0E-426DC79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1A33-1D62-4215-A423-95C0940C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F37D-6E72-4986-95D4-52EF4B5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02AA-CCD4-4482-B1DA-B6A048C2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02C9-5CC6-4F59-909F-5B72117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14ED-C23C-476E-839A-8AC4CE0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DD78-E0CB-435A-AF18-F66D18F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305E-C573-494F-8746-74B26757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6138-865B-4A69-A842-D1F04AD9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B3C3-FEE0-4612-800F-CD109B30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977-0EA7-4A95-96DA-3285C09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0B2-F610-460A-9142-7E67E0A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275-52C5-46BE-9E77-F9665FC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2E8-16A4-4642-95F3-C3241B4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EF9-6E11-4D40-B938-CC402CB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41E-B20E-4680-911C-AEDBEC9E054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7DBC-38D7-4484-9A54-46F0CA38F886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8A9-770F-4D50-B25D-032A7664A95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1A90-5591-48D6-986D-983CBC98DE8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МИНИСТЕРСТВО СПОРТА РОССИЙСКОЙ ФЕДЕРАЦИИ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Федеральное государственное бюджетное образовательное учреждение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высшего образования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« ПОВОЛЖСКАЯ ГОСУДАРСТВЕННАЯ АКАДЕМИЯ ФИЗИЧЕСКОЙ КУЛЬТУРЫ, СПОРТА И ТУРИЗМА»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Центр дополнительного образования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Итоговая аттестационная работа слушателя курсов профессиональной переподготовки</a:t>
            </a:r>
            <a:br>
              <a:rPr sz="1700"/>
            </a:b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   </a:t>
            </a:r>
            <a:br>
              <a:rPr sz="1700"/>
            </a:b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на тему: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«</a:t>
            </a: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РАЗВИТИЕ ФИЗИЧЕСКИХ КАЧЕСТВ ДЕВОЧЕК- ПОДРОСТКОВ, ЗАНИМАЮЩИХСЯ ФИТНЕС-АЭРОБИКОЙ»</a:t>
            </a:r>
            <a:br>
              <a:rPr sz="1700"/>
            </a:b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 Работу выполнила: </a:t>
            </a:r>
            <a:r>
              <a:rPr b="1" lang="ru-RU" sz="1700" spc="-1" strike="noStrike">
                <a:solidFill>
                  <a:srgbClr val="3e3d2d"/>
                </a:solidFill>
                <a:latin typeface="Century Gothic"/>
              </a:rPr>
              <a:t>Кочешкова Екатерина Валерьевна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Руководитель ИАР: Фонарев Дмитрий Владимирович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доктор педагогических наук, доцент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Казань,2020</a:t>
            </a:r>
            <a:br>
              <a:rPr sz="1700"/>
            </a:br>
            <a:r>
              <a:rPr b="0" lang="ru-RU" sz="17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6" name="Picture 2" descr="C:\Users\user\Desktop\TxuFVHpw3ns.jpg"/>
          <p:cNvPicPr/>
          <p:nvPr/>
        </p:nvPicPr>
        <p:blipFill>
          <a:blip r:embed="rId1"/>
          <a:stretch/>
        </p:blipFill>
        <p:spPr>
          <a:xfrm>
            <a:off x="2916360" y="3573360"/>
            <a:ext cx="3311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-792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исследов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108000" y="549360"/>
            <a:ext cx="9144000" cy="65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endParaRPr b="0" lang="en-US" sz="35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Участники эксперимента</a:t>
            </a:r>
            <a:br>
              <a:rPr sz="2800"/>
            </a:b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Девочки-подростки, занимающиеся по дополнительной общеобразовательной, общеразвивающей программ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анятия проходили на базе Муниципального бюджетного дополнительного образования «Центр внешкольной работы» города Саров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роки реализации дополнительной общеобразовательной программы: </a:t>
            </a:r>
            <a:br>
              <a:rPr sz="2800"/>
            </a:br>
            <a:r>
              <a:rPr b="1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роки реализации – один год обуч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собенность физической подготовки:  применение в недельном микроцикле тренировочных занятий средств хореографической подготовки и упражнения с фитнес-резино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исследования и их обсуждение 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2205000"/>
          <a:ext cx="9144000" cy="4759200"/>
        </p:xfrm>
        <a:graphic>
          <a:graphicData uri="http://schemas.openxmlformats.org/drawingml/2006/table">
            <a:tbl>
              <a:tblPr/>
              <a:tblGrid>
                <a:gridCol w="654120"/>
                <a:gridCol w="4930560"/>
                <a:gridCol w="690840"/>
                <a:gridCol w="803160"/>
                <a:gridCol w="20653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ов и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образовательную программу и Т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1480"/>
                          <a:tab algn="l" pos="984240"/>
                          <a:tab algn="l" pos="1711440"/>
                          <a:tab algn="l" pos="29973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ирование обуч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эробики. Комплексы упражнений по фитнес-аэробике для развития си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занятий фитнес-аэробики на работу систем и функций организма. Комплексы упражнений по фитнес - аэробике для развития скоростно-силовых спосо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нагрузка и индивидуальные особенности. Комплексы упражнений по фитнес-аэробике для развития вынослив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Text Box 744"/>
          <p:cNvSpPr/>
          <p:nvPr/>
        </p:nvSpPr>
        <p:spPr>
          <a:xfrm>
            <a:off x="0" y="112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план занятий «Фитнес-аэробика» для девочек-подростков Муниципального бюджетного учреждения дополнительного образования «Центр внешкольной работы» города Са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-243360"/>
            <a:ext cx="70246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продолжение таблицы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98640"/>
          <a:ext cx="9180360" cy="5825880"/>
        </p:xfrm>
        <a:graphic>
          <a:graphicData uri="http://schemas.openxmlformats.org/drawingml/2006/table">
            <a:tbl>
              <a:tblPr/>
              <a:tblGrid>
                <a:gridCol w="468360"/>
                <a:gridCol w="6624720"/>
                <a:gridCol w="718920"/>
                <a:gridCol w="776520"/>
                <a:gridCol w="59184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 и их профилактика. Комплексы упражнений по фитнес-аэробике для развития скорости и быстроты реак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381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итания при занятиях фитнес- аэробикой. Комплексы хореографических и танцевальных упражнений по фитнес-аэробике для развития ловкости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й степени сложности. Силовые упражнения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восстановления в оздоровительной тренировке. Комплексы хореографических упражнений по  фитнес-аэробике для развития гибк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бика в  домашних  условиях.  Комплексы  упражнений для развития всех физических качеств в домашних услов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ческая аэробика. Комплексы упражнений для развития  силовой вынослив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ОФП, психологические тес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е и закрепление пройден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ая полугодовая и годовая аттес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 первый год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246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физической подготовленност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440" y="1890720"/>
          <a:ext cx="9142560" cy="4967280"/>
        </p:xfrm>
        <a:graphic>
          <a:graphicData uri="http://schemas.openxmlformats.org/drawingml/2006/table">
            <a:tbl>
              <a:tblPr/>
              <a:tblGrid>
                <a:gridCol w="358920"/>
                <a:gridCol w="3936960"/>
                <a:gridCol w="736560"/>
                <a:gridCol w="879480"/>
                <a:gridCol w="879480"/>
                <a:gridCol w="881280"/>
                <a:gridCol w="1469880"/>
              </a:tblGrid>
              <a:tr h="442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ктябрь 2019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июль 2020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ро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ъем тела  за 1 минуту (ра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гибание, разгибание рук в упоре лежа (ра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ок в длину с места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клон вперед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гибкость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та реакции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вновесие (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-ТЕС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усл. е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ордин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Челночный бег 3х10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3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7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олеваемост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блица</a:t>
            </a: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ные о заболеваемости девочек, занимающихся фитнес-аэробикой в течение учебного год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08000" y="2349360"/>
          <a:ext cx="8928000" cy="3040200"/>
        </p:xfrm>
        <a:graphic>
          <a:graphicData uri="http://schemas.openxmlformats.org/drawingml/2006/table">
            <a:tbl>
              <a:tblPr/>
              <a:tblGrid>
                <a:gridCol w="5394240"/>
                <a:gridCol w="1177920"/>
                <a:gridCol w="1177920"/>
                <a:gridCol w="1177920"/>
              </a:tblGrid>
              <a:tr h="116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-2019 уч.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-2020 уч.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±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ота заболеваний в течение года (кол-в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6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одного случая заболе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736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-243360"/>
            <a:ext cx="70246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нение мотивов к занятиям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5280" y="1557360"/>
          <a:ext cx="8353440" cy="3735360"/>
        </p:xfrm>
        <a:graphic>
          <a:graphicData uri="http://schemas.openxmlformats.org/drawingml/2006/table">
            <a:tbl>
              <a:tblPr/>
              <a:tblGrid>
                <a:gridCol w="6097680"/>
                <a:gridCol w="2255760"/>
              </a:tblGrid>
              <a:tr h="981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енные от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ушки 17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 улучшение двигательных качеств, укрепление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 стать привлекательной, научиться красиво танце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общение и знакомство с новыми подруг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 Box 42"/>
          <p:cNvSpPr/>
          <p:nvPr/>
        </p:nvSpPr>
        <p:spPr>
          <a:xfrm>
            <a:off x="971640" y="98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тренировки по фитнес- аэробике у девушек 15 и 17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-243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Gothic"/>
              </a:rPr>
              <a:t>Заключе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0" y="126828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публикаций (статей, учебных пособий, монографий) показал, что фитнес-аэробика является популярным направление дополнительного образования подростков. Доказано положительное влияние аэробики на физическое развитие, эстетические качества. Однако, пока ещё не достаточно исследовано влияние разных направлений фитнес-аэробики и хореографической подготовки на физическую подготовленность девочек-подрост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и была разработана дополнительная общеобразовательная общеразвивающая программа «Фитнес-аэробика» для девочек-подростков. Акцент в программе был сделан на физическую подготовку. Основными средствами физической подготовки стали такие направления фитнеса, как: степ-аэробика, танцевальные виды, фитбол-аэробика, аэробика со скакалкой, интервальная аэробика, виды аэробики с латексной и тканевой фитнес-резинкой. Дополнительными средствами стали упражнения хореографической подготовки: танцевальные базовые шаги аэробики и танцевальные связ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окончании одного года обучения по нашей программе, мы определили, что развитие всех двигательных качеств происходит с некоторым опережением естественных темпов прироста. Наибольший прирост оказался в равновесии и общей выносливости (20% и 18%). Более 80% девушек отметили, что аэробика делает девушку более женственной (красивая походка, правильная осанка и т.д.); Формирует такие волевые качества, как решительность, смелость, настойчивость и упорство. У девочек произошло снижение частоты и продолжительности заболеваний по сравнению с аналогичным периодом прошлого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0267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3" name="Объект 2" descr=""/>
          <p:cNvPicPr/>
          <p:nvPr/>
        </p:nvPicPr>
        <p:blipFill>
          <a:blip r:embed="rId1"/>
          <a:stretch/>
        </p:blipFill>
        <p:spPr>
          <a:xfrm>
            <a:off x="2511360" y="2324160"/>
            <a:ext cx="38401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Gothic"/>
              </a:rPr>
              <a:t>Актуальност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920" y="105264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Фитнес-аэробика – сложно координированный, эстетический, командный вид спорта из семейства «Аэробики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 практике фитнес – аэробики недостаточно представлен опыт применения средств хореографической подготовки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для развития физических качеств. В связи с этим, в своей работе мы попытались разработать программу физической подготовки для девочек-подростков, в которой наряду с гимнастическими, силовыми, танцевальными движениями, классической и степ-аэробикой будут представлены упражнения хореографической подготовки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0246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вальная тренировка (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ss-fit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24360" cy="3924000"/>
          </a:xfrm>
          <a:prstGeom prst="rect">
            <a:avLst/>
          </a:prstGeom>
          <a:ln w="0">
            <a:noFill/>
          </a:ln>
        </p:spPr>
      </p:pic>
      <p:pic>
        <p:nvPicPr>
          <p:cNvPr id="341" name="Объект 6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8909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нировка с фитнес-резинкой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3" name="Объект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943440" cy="3945240"/>
          </a:xfrm>
          <a:prstGeom prst="rect">
            <a:avLst/>
          </a:prstGeom>
          <a:ln w="0">
            <a:noFill/>
          </a:ln>
        </p:spPr>
      </p:pic>
      <p:pic>
        <p:nvPicPr>
          <p:cNvPr id="344" name="Объект 5" descr=""/>
          <p:cNvPicPr/>
          <p:nvPr/>
        </p:nvPicPr>
        <p:blipFill>
          <a:blip r:embed="rId2"/>
          <a:stretch/>
        </p:blipFill>
        <p:spPr>
          <a:xfrm>
            <a:off x="5148360" y="1644480"/>
            <a:ext cx="3095640" cy="3957840"/>
          </a:xfrm>
          <a:prstGeom prst="rect">
            <a:avLst/>
          </a:prstGeom>
          <a:ln w="0">
            <a:noFill/>
          </a:ln>
        </p:spPr>
      </p:pic>
      <p:sp>
        <p:nvSpPr>
          <p:cNvPr id="345" name="Заголовок 6"/>
          <p:cNvSpPr/>
          <p:nvPr/>
        </p:nvSpPr>
        <p:spPr>
          <a:xfrm>
            <a:off x="4284720" y="5589720"/>
            <a:ext cx="48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ункциональная тренировка с фитболо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ловая тренировка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гантелям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4125960" cy="4025880"/>
          </a:xfrm>
          <a:prstGeom prst="rect">
            <a:avLst/>
          </a:prstGeom>
          <a:ln w="0">
            <a:noFill/>
          </a:ln>
        </p:spPr>
      </p:pic>
      <p:pic>
        <p:nvPicPr>
          <p:cNvPr id="348" name="Объект 5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47516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Gothic"/>
              </a:rPr>
              <a:t>Хореографическая подготовк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Picture 6" descr="VDcQk8t98cA"/>
          <p:cNvPicPr/>
          <p:nvPr/>
        </p:nvPicPr>
        <p:blipFill>
          <a:blip r:embed="rId1"/>
          <a:stretch/>
        </p:blipFill>
        <p:spPr>
          <a:xfrm>
            <a:off x="468360" y="1989000"/>
            <a:ext cx="3994200" cy="358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aZg0vBZctjQ"/>
          <p:cNvPicPr/>
          <p:nvPr/>
        </p:nvPicPr>
        <p:blipFill>
          <a:blip r:embed="rId2"/>
          <a:stretch/>
        </p:blipFill>
        <p:spPr>
          <a:xfrm>
            <a:off x="4643280" y="2205000"/>
            <a:ext cx="42498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5640" y="1125000"/>
            <a:ext cx="7920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– физическая подготовка девочек-подростков, занимающихся фитнес аэробикой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– содержание физической подготовки фитнес-аэробики с элементами хореографической подготовки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79280" y="549000"/>
            <a:ext cx="856944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Цель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вышение показателей физической подготовленности девушек-подростков, занимающихся фитнес-аэробикой.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700"/>
            </a:b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Подвергнуть анализу научную и популярную литературу по проблеме физической подготовки девочек-подростков средствами фитнес-аэробики</a:t>
            </a:r>
            <a:br>
              <a:rPr sz="2700"/>
            </a:b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Определить физическую подготовленность девочек-подростков, занимающихся фитнес-аэробикой</a:t>
            </a:r>
            <a:br>
              <a:rPr sz="2700"/>
            </a:b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. Разработать содержание физической подготовки для девочек-подростков, занимающихся фитнес-аэробикой и оценить его эффективность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-23760" y="635040"/>
            <a:ext cx="914400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Гипотеза:</a:t>
            </a:r>
            <a:br>
              <a:rPr sz="3000"/>
            </a:br>
            <a:r>
              <a:rPr b="0" lang="ru-RU" sz="3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Мы предполагаем, что разработанное нами содержание физической подготовки и планирование одного занятия в неделю хореографической направленности будут способствовать повышению физической подготовленности у девочек–подростков, снижению заболеваемости и изменит их мотивы к занятиям фитнес-аэроби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овизна:</a:t>
            </a:r>
            <a:br>
              <a:rPr sz="3000"/>
            </a:br>
            <a:r>
              <a:rPr b="0" lang="ru-RU" sz="3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Целенаправленное применение средств хореографической подготовки и резиновых жгутов для развития физических качест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актическая значимость:</a:t>
            </a:r>
            <a:br>
              <a:rPr sz="3200"/>
            </a:br>
            <a:r>
              <a:rPr b="0" lang="ru-RU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Разработанное нами содержание и план годичной физической подготовки могут быть использованы в учреждениях дополнительного образов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14:29:32Z</dcterms:created>
  <dc:creator>Я</dc:creator>
  <dc:description/>
  <dc:language>en-US</dc:language>
  <cp:lastModifiedBy>Zdorov</cp:lastModifiedBy>
  <dcterms:modified xsi:type="dcterms:W3CDTF">2020-09-22T14:55:11Z</dcterms:modified>
  <cp:revision>29</cp:revision>
  <dc:subject/>
  <dc:title>МИНИСТЕРСТВО СПОРТА РОССИЙСКОЙ ФЕДЕРАЦИИ Федеральное государственное бюджетное образовательное учреждение высшего образования « ПОВОЛЖСКАЯ ГОСУДАРСТВЕННАЯ АКАДЕМИЯ ФИЗИЧЕСКОЙ КУЛЬТУРЫ, СПОРТА И ТУРИЗМА» Центр дополнительного образования Итоговая аттестационная работа слушателя курсов профессиональной переподготовки «    « на тему: РАЗВИТИЕ ФИЗИЧЕСКИХ КАЧЕСТВ ДЕВОЧЕК- ПОДРОСТКОВ, ЗАНИМАЮЩИХСЯ ФИТНЕС-АЭРОБИКОЙ Работу выполнила: Кочешкова Екатерина Валерьевна Руководитель ИАР: Фонарев Дмитрий Владимирович доктор педагогических наук, доцент Казань, 2020 СОДЕРЖАНИЕ </dc:title>
</cp:coreProperties>
</file>