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353D-2C79-41F2-B789-838B71749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8B6A-9459-47B7-8CA4-5E8FF0F57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45B-4354-4781-A159-636D6B8E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8D9-17F3-4F1F-8588-1F1A0FBD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815-1565-49F7-AF22-94F8755C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310-22F8-4FB0-8C2E-2A3BE399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54C-674F-43C0-8395-3204070C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A6E-7479-4DA3-8071-3C40A01F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032-42C4-4106-9809-BBCAEFCB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AD9-4E31-4425-AC1C-2DCD25EA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8E9-1F23-4715-8EF6-A1594F11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5AE-2645-4CB3-AF4C-B44BC067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A58-4847-4546-AAF8-F21EA52D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ED4-F607-4963-BED3-6853A9BD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530E-A46D-4491-BB00-4FC6FD10A2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k.ru/upload/iblock_mk/475/df/a8/f9/DETAIL_PICTURE__16505611.jpg" TargetMode="External"/><Relationship Id="rId2" Type="http://schemas.openxmlformats.org/officeDocument/2006/relationships/hyperlink" Target="http://dostoevskiy.biografy.ru/img/dostoevskiy-1.jpg" TargetMode="External"/><Relationship Id="rId3" Type="http://schemas.openxmlformats.org/officeDocument/2006/relationships/hyperlink" Target="http://s42.radikal.ru/i096/0809/3e/99ed9d955f40.jpg" TargetMode="External"/><Relationship Id="rId4" Type="http://schemas.openxmlformats.org/officeDocument/2006/relationships/hyperlink" Target="https://encrypted-tbn2.gstatic.com/images?q=tbn:ANd9GcQtMTaIs6CHvAnZXKWJbEtbWVgyJvURpvfsRM_ppzMIdcld_e0l" TargetMode="External"/><Relationship Id="rId5" Type="http://schemas.openxmlformats.org/officeDocument/2006/relationships/hyperlink" Target="https://encrypted-tbn3.gstatic.com/images?q=tbn:ANd9GcQVrO2VTIAVPlhBjBlGYmf-LG4gg8ObV_q9zJQfy8llN3TFgKz-VA" TargetMode="External"/><Relationship Id="rId6" Type="http://schemas.openxmlformats.org/officeDocument/2006/relationships/hyperlink" Target="https://encrypted-tbn0.gstatic.com/images?q=tbn:ANd9GcQOfDpxQg_sx4SOsUP0DzLW0aLNg0BAgxZ8SL3rrnSuhofvhyT_" TargetMode="External"/><Relationship Id="rId7" Type="http://schemas.openxmlformats.org/officeDocument/2006/relationships/hyperlink" Target="http://news.sarbc.ru/images/orig/2015/06/img_XqbIsM.jpg" TargetMode="External"/><Relationship Id="rId8" Type="http://schemas.openxmlformats.org/officeDocument/2006/relationships/hyperlink" Target="http://literatura5.narod.ru/glazunov_n2.jpg" TargetMode="External"/><Relationship Id="rId9" Type="http://schemas.openxmlformats.org/officeDocument/2006/relationships/hyperlink" Target="https://encrypted-tbn3.gstatic.com/images?q=tbn:ANd9GcSB5acIDx9SJ5A6XvOYQqi5EmcYhafbVXdfniPa93LhcpyrHAA9RQ" TargetMode="External"/><Relationship Id="rId10" Type="http://schemas.openxmlformats.org/officeDocument/2006/relationships/hyperlink" Target="http://img0.liveinternet.ru/images/attach/c/2/73/772/73772068_1661266_13175b46a86bf23fc92675451951d452.jpg" TargetMode="External"/><Relationship Id="rId11" Type="http://schemas.openxmlformats.org/officeDocument/2006/relationships/hyperlink" Target="http://statehistory.ru/img_lib2/2015/02/1424743672_5406.jpg" TargetMode="External"/><Relationship Id="rId12" Type="http://schemas.openxmlformats.org/officeDocument/2006/relationships/hyperlink" Target="http://900igr.net/datai/literatura/Rasskazy-Dostoevskogo/0010-011-1850-1854-gody-katorga.jpg" TargetMode="External"/><Relationship Id="rId13" Type="http://schemas.openxmlformats.org/officeDocument/2006/relationships/hyperlink" Target="http://900igr.net/datai/literatura/F.M.Dostoevskij/0009-009-Dostoevskij-pod-sledstviem-i-na-katorge.jpg" TargetMode="External"/><Relationship Id="rId14" Type="http://schemas.openxmlformats.org/officeDocument/2006/relationships/hyperlink" Target="https://encrypted-tbn2.gstatic.com/images?q=tbn:ANd9GcR_zx5Fhf_k3ZWkjEsfvmrgkcCtEyVmpgi9c8m6Qf1GN4A2qQ3I" TargetMode="External"/><Relationship Id="rId15" Type="http://schemas.openxmlformats.org/officeDocument/2006/relationships/hyperlink" Target="http://snob.ru/i/indoc/70/rubric_issue_80584.jpg" TargetMode="External"/><Relationship Id="rId16" Type="http://schemas.openxmlformats.org/officeDocument/2006/relationships/hyperlink" Target="http://naar.ru/upload/medialibrary/edd/edd3b49bbd87f51c1e12520ab2732cf6.jpg" TargetMode="External"/><Relationship Id="rId17" Type="http://schemas.openxmlformats.org/officeDocument/2006/relationships/hyperlink" Target="http://media1.fanparty.ru/fanclubs/dostoevsky/articles/21428/17240_tribune_dostoevsky.jpg" TargetMode="External"/><Relationship Id="rId18" Type="http://schemas.openxmlformats.org/officeDocument/2006/relationships/hyperlink" Target="https://upload.wikimedia.org/wikipedia/commons/thumb/9/9b/Dostoevskij_1863.jpg/200px-Dostoevskij_1863.jpg" TargetMode="External"/><Relationship Id="rId19" Type="http://schemas.openxmlformats.org/officeDocument/2006/relationships/hyperlink" Target="http://www.eg.ru/upimg/photo/127226.jpg" TargetMode="External"/><Relationship Id="rId20" Type="http://schemas.openxmlformats.org/officeDocument/2006/relationships/hyperlink" Target="http://i020.radikal.ru/0911/ce/5296efcc61e9.jpg" TargetMode="External"/><Relationship Id="rId21" Type="http://schemas.openxmlformats.org/officeDocument/2006/relationships/hyperlink" Target="http://cdn.topwar.ru/uploads/posts/2015-06/1434161949_text_0830oldorfo-1.jpg" TargetMode="Externa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Фёдор Михайлович Достое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(1821 – 188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nner_signature"/>
          <p:cNvPicPr/>
          <p:nvPr/>
        </p:nvPicPr>
        <p:blipFill>
          <a:blip r:embed="rId1"/>
          <a:stretch/>
        </p:blipFill>
        <p:spPr>
          <a:xfrm>
            <a:off x="250920" y="5940360"/>
            <a:ext cx="5905440" cy="79524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4470480" y="1295280"/>
            <a:ext cx="3220920" cy="42944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Учёба и служ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79280" y="1633680"/>
            <a:ext cx="3961080" cy="155700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ь этот веселящийся Петербург увлёк молодого литератора, но стоил ему «страшных денег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911320" y="692280"/>
            <a:ext cx="605808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евский любил вечерние зрелища, рестораны, кофейни, офицерские пи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719600" y="4365720"/>
            <a:ext cx="4122720" cy="22885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удивительно, что уже в первые годы самостоятельной жизни он знакомится с миром закладов, денежных ссуд, процентов, векс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4249800" y="1603440"/>
            <a:ext cx="4417920" cy="233028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  <p:pic>
        <p:nvPicPr>
          <p:cNvPr id="102" name="Рисунок 2" descr=""/>
          <p:cNvPicPr/>
          <p:nvPr/>
        </p:nvPicPr>
        <p:blipFill>
          <a:blip r:embed="rId2"/>
          <a:stretch/>
        </p:blipFill>
        <p:spPr>
          <a:xfrm>
            <a:off x="185760" y="4062240"/>
            <a:ext cx="4314960" cy="257040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Творчество 40-х г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79280" y="1633680"/>
            <a:ext cx="345600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45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роман «Бедные лю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911320" y="692280"/>
            <a:ext cx="605808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евский вошёл в литературу как писатель натур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59280" y="5888160"/>
            <a:ext cx="5910120" cy="11912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ы физиологического очерка: детальное описание быта петербургских ни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rcRect l="1606" t="1049" r="50970" b="5501"/>
          <a:stretch/>
        </p:blipFill>
        <p:spPr>
          <a:xfrm>
            <a:off x="179280" y="2571840"/>
            <a:ext cx="2732040" cy="412092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pic>
        <p:nvPicPr>
          <p:cNvPr id="108" name="Рисунок 10" descr=""/>
          <p:cNvPicPr/>
          <p:nvPr/>
        </p:nvPicPr>
        <p:blipFill>
          <a:blip r:embed="rId2"/>
          <a:srcRect l="55465" t="2028" r="0" b="1374"/>
          <a:stretch/>
        </p:blipFill>
        <p:spPr>
          <a:xfrm>
            <a:off x="6516720" y="1635120"/>
            <a:ext cx="2452680" cy="407340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pic>
        <p:nvPicPr>
          <p:cNvPr id="109" name="Рисунок 5" descr=""/>
          <p:cNvPicPr/>
          <p:nvPr/>
        </p:nvPicPr>
        <p:blipFill>
          <a:blip r:embed="rId3"/>
          <a:srcRect l="1842" t="0" r="0" b="0"/>
          <a:stretch/>
        </p:blipFill>
        <p:spPr>
          <a:xfrm>
            <a:off x="3059280" y="3017880"/>
            <a:ext cx="3265200" cy="213372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Тип «маленького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780000" y="1973160"/>
            <a:ext cx="5173560" cy="30200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… Какой-то чиновник без места, без службы лет семь тому исключённый за что-то. Фамилья его Горшков, такой седенький, маленький; ходит в таком засаленном, в таком истёртом платье, что больно смотрет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911320" y="692280"/>
            <a:ext cx="6058080" cy="11912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М.Достоевский обращает внимание на сложную психологию героя, углубляет внутренний м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10960" y="4397400"/>
            <a:ext cx="5175360" cy="22885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«маленький человек» раним, амбициозен, умеет сопереживать, размышляет об общественной жизни, несправедливости, живёт идеей осознания и утверждения собственной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5508720" y="4248000"/>
            <a:ext cx="3324240" cy="246564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pic>
        <p:nvPicPr>
          <p:cNvPr id="115" name="Рисунок 2" descr=""/>
          <p:cNvPicPr/>
          <p:nvPr/>
        </p:nvPicPr>
        <p:blipFill>
          <a:blip r:embed="rId2"/>
          <a:stretch/>
        </p:blipFill>
        <p:spPr>
          <a:xfrm>
            <a:off x="444600" y="569880"/>
            <a:ext cx="2330280" cy="371160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Творчество 50-х г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8000" y="4797360"/>
            <a:ext cx="8928000" cy="26542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Посмотрите на эти волшебные призраки, которые так очаровательно, так прихотливо, так безбрежно и широко слагаются перед ним в такой волшебной, одушевлённой картине, где на первом плане, первым лицом, уж конечно, он сам, наш мечтатель, своею дорогою особою. Посмотрите, какие разнообразные приключения, какой бесконечный рой восторженных грёз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0960" y="665280"/>
            <a:ext cx="605808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45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роман «Белые но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9" descr=" (469x698, 77Kb)"/>
          <p:cNvPicPr/>
          <p:nvPr/>
        </p:nvPicPr>
        <p:blipFill>
          <a:blip r:embed="rId1"/>
          <a:stretch/>
        </p:blipFill>
        <p:spPr>
          <a:xfrm>
            <a:off x="82440" y="1219320"/>
            <a:ext cx="2303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Picture 23" descr=" (434x649, 117Kb)"/>
          <p:cNvPicPr/>
          <p:nvPr/>
        </p:nvPicPr>
        <p:blipFill>
          <a:blip r:embed="rId2"/>
          <a:stretch/>
        </p:blipFill>
        <p:spPr>
          <a:xfrm>
            <a:off x="2260440" y="1219320"/>
            <a:ext cx="22924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Picture 25" descr=" (432x650, 84Kb)"/>
          <p:cNvPicPr/>
          <p:nvPr/>
        </p:nvPicPr>
        <p:blipFill>
          <a:blip r:embed="rId3"/>
          <a:stretch/>
        </p:blipFill>
        <p:spPr>
          <a:xfrm>
            <a:off x="4572000" y="1219320"/>
            <a:ext cx="2279520" cy="342900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pic>
        <p:nvPicPr>
          <p:cNvPr id="122" name="Picture 28" descr=" (439x650, 114Kb)"/>
          <p:cNvPicPr/>
          <p:nvPr/>
        </p:nvPicPr>
        <p:blipFill>
          <a:blip r:embed="rId4"/>
          <a:stretch/>
        </p:blipFill>
        <p:spPr>
          <a:xfrm>
            <a:off x="6827760" y="1219320"/>
            <a:ext cx="2208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Кружок петрашев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87200" y="708120"/>
            <a:ext cx="510552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45 – 1848г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тербурге собирался кружок петрашев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06280" y="1700280"/>
            <a:ext cx="5086440" cy="192276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46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накомство с бывшим служащим МИДа М.В.Буташевичем-Петрошевским («пятница»). Привлекают </a:t>
            </a: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идеи утопического социализ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06280" y="3811680"/>
            <a:ext cx="580572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49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се члены кружка арестованы и заключены в Петропавловскую креп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87200" y="4813200"/>
            <a:ext cx="8848800" cy="22885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енный суд приговорил к расстрелу: </a:t>
            </a: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…за недонесение о распространении преступного о религии и правительстве письма литератора Белинского и злоумышленного сочинения поручика Григорьева, - лишить… чинов, всех прав состояния и подвергнуть смертной казни расстреляние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"/>
          <p:cNvPicPr/>
          <p:nvPr/>
        </p:nvPicPr>
        <p:blipFill>
          <a:blip r:embed="rId1"/>
          <a:stretch/>
        </p:blipFill>
        <p:spPr>
          <a:xfrm>
            <a:off x="6173640" y="708120"/>
            <a:ext cx="2759400" cy="393372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Кружок петрашев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25280" y="5877000"/>
            <a:ext cx="8893440" cy="11912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они вынесли те </a:t>
            </a: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ужасные, безмерно страшные минуты ожидания смерти»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 которых впоследствии вспоминал Достое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25280" y="708120"/>
            <a:ext cx="888552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23 декабря 1849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Семёновском плацу они стояли на эшаф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136440" y="1317600"/>
            <a:ext cx="6470640" cy="443088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sp>
        <p:nvSpPr>
          <p:cNvPr id="133" name="Text Box 8"/>
          <p:cNvSpPr/>
          <p:nvPr/>
        </p:nvSpPr>
        <p:spPr>
          <a:xfrm>
            <a:off x="3905280" y="4797360"/>
            <a:ext cx="510552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следнюю минуту им сообщили об отмене ка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Като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635280" y="4127400"/>
            <a:ext cx="5381640" cy="155700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ьство острога получило предписание содержать Достоевского в полном смысле арестантом, </a:t>
            </a: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без всякого снисхожд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19320" y="668160"/>
            <a:ext cx="603108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50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остоевский попал в Омский остр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771640" y="1268280"/>
            <a:ext cx="6245280" cy="26542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ладевший каким-либо ремеслом, он был зачислен в разряд чернорабочих: вертел в мастерской неповоротливое точильное колесо, обжигал на заводе кирпичи и подносил к стойке эту грузную кладь, разбирал на Иртыше старые казённые бараки, стоя по колено в ледяной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8440" y="5877000"/>
            <a:ext cx="908712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торга не сломила писателя, она даже усилила его стремление к дальнейшей литератур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179280" y="631800"/>
            <a:ext cx="2365560" cy="319392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pic>
        <p:nvPicPr>
          <p:cNvPr id="140" name="Рисунок 3" descr=""/>
          <p:cNvPicPr/>
          <p:nvPr/>
        </p:nvPicPr>
        <p:blipFill>
          <a:blip r:embed="rId2"/>
          <a:stretch/>
        </p:blipFill>
        <p:spPr>
          <a:xfrm>
            <a:off x="179280" y="4127400"/>
            <a:ext cx="3294000" cy="151632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«Записки из мёртвого дом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882880" y="2544840"/>
            <a:ext cx="3193920" cy="192276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ом для написания послужило непосредственное общение с людьми из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882880" y="668160"/>
            <a:ext cx="616752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61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остоевский пишет (после каторги) «Записки из мёртвого дом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882880" y="1606680"/>
            <a:ext cx="442584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каз каторжника о реально существующем мире катор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139680" y="708120"/>
            <a:ext cx="2602080" cy="390996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pic>
        <p:nvPicPr>
          <p:cNvPr id="146" name="Рисунок 4" descr=""/>
          <p:cNvPicPr/>
          <p:nvPr/>
        </p:nvPicPr>
        <p:blipFill>
          <a:blip r:embed="rId2"/>
          <a:stretch/>
        </p:blipFill>
        <p:spPr>
          <a:xfrm>
            <a:off x="6218280" y="2425680"/>
            <a:ext cx="2800440" cy="433404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sp>
        <p:nvSpPr>
          <p:cNvPr id="147" name="Text Box 8"/>
          <p:cNvSpPr/>
          <p:nvPr/>
        </p:nvSpPr>
        <p:spPr>
          <a:xfrm>
            <a:off x="250920" y="4724280"/>
            <a:ext cx="5825880" cy="155700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евский показывает образцы полного извращения человеческой природы: </a:t>
            </a: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Трудно представить, до чего можно исказить природу человече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Воз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924360" y="2544840"/>
            <a:ext cx="512604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зыв вернуться к «своей почве», народным, национальным начал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08000" y="657360"/>
            <a:ext cx="5184720" cy="192276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61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месте с братом издаёт журналы «Время», «Эпоха», в которых изложена программа нового направления в русской общественной жизни </a:t>
            </a: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почвенниче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882880" y="3500280"/>
            <a:ext cx="6167520" cy="11912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отив крепостничества, бюрократии, за развитие промышленности, торговли, за свободу печати и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411280" y="4826160"/>
            <a:ext cx="665640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нимая «западную культуру», они обличали буржуазность и бездуховность Запа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979640" y="5783400"/>
            <a:ext cx="707076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твергали революционные идеи, противопоставляли им христианские иде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Выгнутая влево стрелка 2"/>
          <p:cNvSpPr/>
          <p:nvPr/>
        </p:nvSpPr>
        <p:spPr>
          <a:xfrm>
            <a:off x="2577960" y="2616120"/>
            <a:ext cx="752760" cy="833400"/>
          </a:xfrm>
          <a:custGeom>
            <a:avLst/>
            <a:gdLst>
              <a:gd name="textAreaLeft" fmla="*/ 100800 w 752760"/>
              <a:gd name="textAreaRight" fmla="*/ 651960 w 752760"/>
              <a:gd name="textAreaTop" fmla="*/ 137520 h 833400"/>
              <a:gd name="textAreaBottom" fmla="*/ 601560 h 83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44" stAng="-5400000" swAng="-5400000"/>
                <a:lnTo>
                  <a:pt x="0" y="12019"/>
                </a:lnTo>
                <a:arcTo wR="21600" hR="7144" stAng="10800000" swAng="-3121201"/>
                <a:lnTo>
                  <a:pt x="16200" y="21373"/>
                </a:lnTo>
                <a:lnTo>
                  <a:pt x="21600" y="16725"/>
                </a:lnTo>
                <a:lnTo>
                  <a:pt x="16200" y="11622"/>
                </a:lnTo>
                <a:lnTo>
                  <a:pt x="16200" y="14060"/>
                </a:lnTo>
                <a:arcTo wR="21600" hR="7144" stAng="7678799" swAng="2710457"/>
                <a:lnTo>
                  <a:pt x="1296" y="9581"/>
                </a:lnTo>
                <a:arcTo wR="21600" hR="7144" stAng="-10389256" swAng="4989256"/>
                <a:close/>
              </a:path>
              <a:path fill="darkenLess" w="21600" h="21600">
                <a:moveTo>
                  <a:pt x="21600" y="0"/>
                </a:moveTo>
                <a:arcTo wR="21600" hR="7144" stAng="-5400000" swAng="-5400000"/>
                <a:lnTo>
                  <a:pt x="0" y="7144"/>
                </a:lnTo>
                <a:arcTo wR="21600" hR="7144" stAng="10800000" swAng="-410744"/>
                <a:lnTo>
                  <a:pt x="1296" y="9581"/>
                </a:lnTo>
                <a:arcTo wR="21600" hR="7144" stAng="-10389256" swAng="4989256"/>
                <a:close/>
              </a:path>
            </a:pathLst>
          </a:custGeom>
          <a:solidFill>
            <a:srgbClr val="ecd3dc"/>
          </a:solidFill>
          <a:ln w="255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Выгнутая влево стрелка 15"/>
          <p:cNvSpPr/>
          <p:nvPr/>
        </p:nvSpPr>
        <p:spPr>
          <a:xfrm>
            <a:off x="1979640" y="2595600"/>
            <a:ext cx="803160" cy="1976400"/>
          </a:xfrm>
          <a:custGeom>
            <a:avLst/>
            <a:gdLst>
              <a:gd name="textAreaLeft" fmla="*/ 107640 w 803160"/>
              <a:gd name="textAreaRight" fmla="*/ 695520 w 803160"/>
              <a:gd name="textAreaTop" fmla="*/ 418680 h 1976400"/>
              <a:gd name="textAreaBottom" fmla="*/ 1457280 h 197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54" stAng="-5400000" swAng="-5400000"/>
                <a:lnTo>
                  <a:pt x="0" y="11349"/>
                </a:lnTo>
                <a:arcTo wR="21600" hR="9154" stAng="10800000" swAng="-3518882"/>
                <a:lnTo>
                  <a:pt x="16200" y="21309"/>
                </a:lnTo>
                <a:lnTo>
                  <a:pt x="21600" y="19406"/>
                </a:lnTo>
                <a:lnTo>
                  <a:pt x="16200" y="16920"/>
                </a:lnTo>
                <a:lnTo>
                  <a:pt x="16200" y="18017"/>
                </a:lnTo>
                <a:arcTo wR="21600" hR="9154" stAng="7281118" swAng="3343094"/>
                <a:lnTo>
                  <a:pt x="156" y="10252"/>
                </a:lnTo>
                <a:arcTo wR="21600" hR="9154" stAng="-10624212" swAng="5224212"/>
                <a:close/>
              </a:path>
              <a:path fill="darkenLess" w="21600" h="21600">
                <a:moveTo>
                  <a:pt x="21600" y="0"/>
                </a:moveTo>
                <a:arcTo wR="21600" hR="9154" stAng="-5400000" swAng="-5400000"/>
                <a:lnTo>
                  <a:pt x="0" y="9154"/>
                </a:lnTo>
                <a:arcTo wR="21600" hR="9154" stAng="10800000" swAng="-175788"/>
                <a:lnTo>
                  <a:pt x="156" y="10252"/>
                </a:lnTo>
                <a:arcTo wR="21600" hR="9154" stAng="-10624212" swAng="5224212"/>
                <a:close/>
              </a:path>
            </a:pathLst>
          </a:custGeom>
          <a:solidFill>
            <a:srgbClr val="ecd3dc"/>
          </a:solidFill>
          <a:ln w="255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Выгнутая влево стрелка 16"/>
          <p:cNvSpPr/>
          <p:nvPr/>
        </p:nvSpPr>
        <p:spPr>
          <a:xfrm>
            <a:off x="1459080" y="2604960"/>
            <a:ext cx="852480" cy="2840040"/>
          </a:xfrm>
          <a:custGeom>
            <a:avLst/>
            <a:gdLst>
              <a:gd name="textAreaLeft" fmla="*/ 114120 w 852480"/>
              <a:gd name="textAreaRight" fmla="*/ 738360 w 852480"/>
              <a:gd name="textAreaTop" fmla="*/ 630000 h 2840040"/>
              <a:gd name="textAreaBottom" fmla="*/ 2103480 h 284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85" stAng="-5400000" swAng="-5400000"/>
                <a:lnTo>
                  <a:pt x="0" y="11205"/>
                </a:lnTo>
                <a:arcTo wR="21600" hR="9585" stAng="10800000" swAng="-3588326"/>
                <a:lnTo>
                  <a:pt x="16200" y="21296"/>
                </a:lnTo>
                <a:lnTo>
                  <a:pt x="21600" y="19979"/>
                </a:lnTo>
                <a:lnTo>
                  <a:pt x="16200" y="18054"/>
                </a:lnTo>
                <a:lnTo>
                  <a:pt x="16200" y="18865"/>
                </a:lnTo>
                <a:arcTo wR="21600" hR="9585" stAng="7211674" swAng="3459009"/>
                <a:lnTo>
                  <a:pt x="77" y="10395"/>
                </a:lnTo>
                <a:arcTo wR="21600" hR="9585" stAng="-10670683" swAng="5270683"/>
                <a:close/>
              </a:path>
              <a:path fill="darkenLess" w="21600" h="21600">
                <a:moveTo>
                  <a:pt x="21600" y="0"/>
                </a:moveTo>
                <a:arcTo wR="21600" hR="9585" stAng="-5400000" swAng="-5400000"/>
                <a:lnTo>
                  <a:pt x="0" y="9585"/>
                </a:lnTo>
                <a:arcTo wR="21600" hR="9585" stAng="10800000" swAng="-129317"/>
                <a:lnTo>
                  <a:pt x="77" y="10395"/>
                </a:lnTo>
                <a:arcTo wR="21600" hR="9585" stAng="-10670683" swAng="5270683"/>
                <a:close/>
              </a:path>
            </a:pathLst>
          </a:custGeom>
          <a:solidFill>
            <a:srgbClr val="ecd3dc"/>
          </a:solidFill>
          <a:ln w="255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Выгнутая влево стрелка 17"/>
          <p:cNvSpPr/>
          <p:nvPr/>
        </p:nvSpPr>
        <p:spPr>
          <a:xfrm>
            <a:off x="1127160" y="2631960"/>
            <a:ext cx="752400" cy="3749760"/>
          </a:xfrm>
          <a:custGeom>
            <a:avLst/>
            <a:gdLst>
              <a:gd name="textAreaLeft" fmla="*/ 100800 w 752400"/>
              <a:gd name="textAreaRight" fmla="*/ 651600 w 752400"/>
              <a:gd name="textAreaTop" fmla="*/ 866880 h 3749760"/>
              <a:gd name="textAreaBottom" fmla="*/ 2788920 h 374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88" stAng="-5400000" swAng="-5400000"/>
                <a:lnTo>
                  <a:pt x="0" y="11071"/>
                </a:lnTo>
                <a:arcTo wR="21600" hR="9988" stAng="10800000" swAng="-3649241"/>
                <a:lnTo>
                  <a:pt x="16200" y="21283"/>
                </a:lnTo>
                <a:lnTo>
                  <a:pt x="21600" y="20517"/>
                </a:lnTo>
                <a:lnTo>
                  <a:pt x="16200" y="19116"/>
                </a:lnTo>
                <a:lnTo>
                  <a:pt x="16200" y="19658"/>
                </a:lnTo>
                <a:arcTo wR="21600" hR="9988" stAng="7150759" swAng="3562949"/>
                <a:lnTo>
                  <a:pt x="32" y="10529"/>
                </a:lnTo>
                <a:arcTo wR="21600" hR="9988" stAng="-10713709" swAng="5313709"/>
                <a:close/>
              </a:path>
              <a:path fill="darkenLess" w="21600" h="21600">
                <a:moveTo>
                  <a:pt x="21600" y="0"/>
                </a:moveTo>
                <a:arcTo wR="21600" hR="9988" stAng="-5400000" swAng="-5400000"/>
                <a:lnTo>
                  <a:pt x="0" y="9988"/>
                </a:lnTo>
                <a:arcTo wR="21600" hR="9988" stAng="10800000" swAng="-86291"/>
                <a:lnTo>
                  <a:pt x="32" y="10529"/>
                </a:lnTo>
                <a:arcTo wR="21600" hR="9988" stAng="-10713709" swAng="5313709"/>
                <a:close/>
              </a:path>
            </a:pathLst>
          </a:custGeom>
          <a:solidFill>
            <a:srgbClr val="ecd3dc"/>
          </a:solidFill>
          <a:ln w="255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flat_106"/>
          <p:cNvPicPr/>
          <p:nvPr/>
        </p:nvPicPr>
        <p:blipFill>
          <a:blip r:embed="rId1"/>
          <a:srcRect l="23532" t="0" r="0" b="0"/>
          <a:stretch/>
        </p:blipFill>
        <p:spPr>
          <a:xfrm>
            <a:off x="5338800" y="944640"/>
            <a:ext cx="3664080" cy="133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Личная жиз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900000" y="4765680"/>
            <a:ext cx="8099640" cy="192276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57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остоевский женится на вдове отставного чиновника Марии Дмитриевне Исаевой. Он влюбился в неё с первого взгляда. В тот момент она ещё была замужем. У женщины был непростой характер, поэтому брак был неуда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46160" y="611280"/>
            <a:ext cx="593064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ая жизнь складывалась неуда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324000" y="1319040"/>
            <a:ext cx="6076800" cy="321948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4140360" y="701640"/>
            <a:ext cx="4824360" cy="375156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Толстой и Достоевский – два величайших гения, силою своих талантов они потрясли весь мир, они обратили на Россию изумлённое внимание все Европы, и оба встали как равные в великие ряды тех людей, чьи имена – Шекспир, Данте, Сервантес, Руссо, Гёте», -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.Гор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Великие о Ф.М.Достоев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140360" y="3868560"/>
            <a:ext cx="4824360" cy="22885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В сегодняшнем мире…тревожный набат Достоевского гудит, неумолчно взывая к человечности и гуманизму», -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.Айтм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140360" y="5559480"/>
            <a:ext cx="4824360" cy="11912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Он даёт мне больше, чем любой мыслитель», -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.Эйнште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rcRect l="33862" t="0" r="19676" b="18044"/>
          <a:stretch/>
        </p:blipFill>
        <p:spPr>
          <a:xfrm>
            <a:off x="198360" y="907920"/>
            <a:ext cx="3733920" cy="493740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Жизнь и 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052800" y="1628640"/>
            <a:ext cx="593100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евский обанкротился, и на него легло бремя забот о семье б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052800" y="620640"/>
            <a:ext cx="593100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смерти брата журнал, который он издавал, закры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dost41"/>
          <p:cNvPicPr/>
          <p:nvPr/>
        </p:nvPicPr>
        <p:blipFill>
          <a:blip r:embed="rId1"/>
          <a:srcRect l="0" t="0" r="0" b="2757"/>
          <a:stretch/>
        </p:blipFill>
        <p:spPr>
          <a:xfrm>
            <a:off x="233280" y="738360"/>
            <a:ext cx="2657520" cy="506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Text Box 8"/>
          <p:cNvSpPr/>
          <p:nvPr/>
        </p:nvSpPr>
        <p:spPr>
          <a:xfrm>
            <a:off x="2971800" y="2608200"/>
            <a:ext cx="609120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справиться с этой непосильной ношей, Достоевский рьяно взялся за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971800" y="3551400"/>
            <a:ext cx="6091200" cy="30200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66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«Преступление и наказание»,     </a:t>
            </a: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67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«Игрок», </a:t>
            </a: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68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«Идиот»,            </a:t>
            </a: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72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«Бесы»,                                                </a:t>
            </a: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80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«Братья Карамазовы».                       Все эти романы создавались в условиях чрезвычайной спешки. Достоевский не всегда имел возможность даже перечитать продиктованное стенографист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Личная жиз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906720" y="1938240"/>
            <a:ext cx="2467080" cy="11912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была стенографисткой пис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46160" y="611280"/>
            <a:ext cx="420984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67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женитьба на Анне Григорьевне Снитки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943440" y="3938760"/>
            <a:ext cx="507528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была преданная женщина с практической жил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43440" y="4903920"/>
            <a:ext cx="5075280" cy="11912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её помощью Достоевский стал укладываться в сроки и выпутался из финансового кризи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22360" y="6237360"/>
            <a:ext cx="809928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Это был счастли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3516120" cy="449280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pic>
        <p:nvPicPr>
          <p:cNvPr id="176" name="Рисунок 2" descr=""/>
          <p:cNvPicPr/>
          <p:nvPr/>
        </p:nvPicPr>
        <p:blipFill>
          <a:blip r:embed="rId2"/>
          <a:stretch/>
        </p:blipFill>
        <p:spPr>
          <a:xfrm>
            <a:off x="6516720" y="438120"/>
            <a:ext cx="2363760" cy="325584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10 мая 1880г. «Речь о Пушки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35000" y="3716280"/>
            <a:ext cx="8874000" cy="41173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ушкин первый своим глубоко прозорливым и гениальным умом и чисто русским сердцем своим отыскал и отметил главнейшее и болезненное </a:t>
            </a: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явление нашего интеллигентного, исторически оторванного от почвы общества, возвысившегося над народом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н первый дал нам художественные </a:t>
            </a: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типы красоты русско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вышедшей прямо из духа русского, обретавшегося в народной правде, в почве нашей, и им в ней отысканные. Черта художественного гения – </a:t>
            </a: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способность всемирной отзывчивости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полнейшего перевоплощения в гении чужих н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2195640" y="646200"/>
            <a:ext cx="4871880" cy="299880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Смерть Достое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33200" y="1913040"/>
            <a:ext cx="507708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81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остоевский умер, заслужив всеобщее признание и поч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2" descr=""/>
          <p:cNvPicPr/>
          <p:nvPr/>
        </p:nvPicPr>
        <p:blipFill>
          <a:blip r:embed="rId1"/>
          <a:srcRect l="2830" t="1867" r="4717" b="16176"/>
          <a:stretch/>
        </p:blipFill>
        <p:spPr>
          <a:xfrm>
            <a:off x="5435640" y="700200"/>
            <a:ext cx="3529080" cy="453708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pic>
        <p:nvPicPr>
          <p:cNvPr id="183" name="Рисунок 3" descr=""/>
          <p:cNvPicPr/>
          <p:nvPr/>
        </p:nvPicPr>
        <p:blipFill>
          <a:blip r:embed="rId2"/>
          <a:stretch/>
        </p:blipFill>
        <p:spPr>
          <a:xfrm>
            <a:off x="204840" y="2808360"/>
            <a:ext cx="5005440" cy="331128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  <p:sp>
        <p:nvSpPr>
          <p:cNvPr id="184" name="Text Box 8"/>
          <p:cNvSpPr/>
          <p:nvPr/>
        </p:nvSpPr>
        <p:spPr>
          <a:xfrm>
            <a:off x="133200" y="914400"/>
            <a:ext cx="507708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Конец января 1881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у Достоевского начались горловые кровот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95280" y="6262560"/>
            <a:ext cx="4681440" cy="3988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на с детьми у могилы пис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Смерть Достое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79280" y="6237360"/>
            <a:ext cx="878544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ные и друзья у могилы Достое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5" descr=""/>
          <p:cNvPicPr/>
          <p:nvPr/>
        </p:nvPicPr>
        <p:blipFill>
          <a:blip r:embed="rId1"/>
          <a:stretch/>
        </p:blipFill>
        <p:spPr>
          <a:xfrm>
            <a:off x="728640" y="684360"/>
            <a:ext cx="7804080" cy="540864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Могила Достое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50920" y="6237360"/>
            <a:ext cx="864216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хвинское кладбище (Санкт-Петербур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2" descr=""/>
          <p:cNvPicPr/>
          <p:nvPr/>
        </p:nvPicPr>
        <p:blipFill>
          <a:blip r:embed="rId1"/>
          <a:stretch/>
        </p:blipFill>
        <p:spPr>
          <a:xfrm>
            <a:off x="1049400" y="708120"/>
            <a:ext cx="6939000" cy="5384880"/>
          </a:xfrm>
          <a:prstGeom prst="rect">
            <a:avLst/>
          </a:prstGeom>
          <a:ln w="9360">
            <a:solidFill>
              <a:srgbClr val="7c354d"/>
            </a:solidFill>
            <a:miter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Использованные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0" y="714240"/>
            <a:ext cx="9144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http://www.mk.ru/upload/iblock_mk/475/df/a8/f9/DETAIL_PICTURE__1650561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http://dostoevskiy.biografy.ru/img/dostoevskiy-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http://s42.radikal.ru/i096/0809/3e/99ed9d955f40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https://encrypted-tbn2.gstatic.com/images?q=tbn:ANd9GcQtMTaIs6CHvAnZXKWJbEtbWVgyJvURpvfsRM_ppzMIdcld_e0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https://encrypted-tbn3.gstatic.com/images?q=tbn:ANd9GcQVrO2VTIAVPlhBjBlGYmf-LG4gg8ObV_q9zJQfy8llN3TFgKz-VA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https://encrypted-tbn0.gstatic.com/images?q=tbn:ANd9GcQOfDpxQg_sx4SOsUP0DzLW0aLNg0BAgxZ8SL3rrnSuhofvhyT_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7"/>
              </a:rPr>
              <a:t>http://news.sarbc.ru/images/orig/2015/06/img_XqbIsM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8"/>
              </a:rPr>
              <a:t>http://literatura5.narod.ru/glazunov_n2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9"/>
              </a:rPr>
              <a:t>https://encrypted-tbn3.gstatic.com/images?q=tbn:ANd9GcSB5acIDx9SJ5A6XvOYQqi5EmcYhafbVXdfniPa93LhcpyrHAA9RQ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0"/>
              </a:rPr>
              <a:t>http://img0.liveinternet.ru/images/attach/c/2/73/772/73772068_1661266_13175b46a86bf23fc92675451951d452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1"/>
              </a:rPr>
              <a:t>http://statehistory.ru/img_lib2/2015/02/1424743672_5406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2"/>
              </a:rPr>
              <a:t>http://900igr.net/datai/literatura/Rasskazy-Dostoevskogo/0010-011-1850-1854-gody-katorga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3"/>
              </a:rPr>
              <a:t>http://900igr.net/datai/literatura/F.M.Dostoevskij/0009-009-Dostoevskij-pod-sledstviem-i-na-katorge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4"/>
              </a:rPr>
              <a:t>https://encrypted-tbn2.gstatic.com/images?q=tbn:ANd9GcR_zx5Fhf_k3ZWkjEsfvmrgkcCtEyVmpgi9c8m6Qf1GN4A2qQ3I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5"/>
              </a:rPr>
              <a:t>http://snob.ru/i/indoc/70/rubric_issue_80584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6"/>
              </a:rPr>
              <a:t>http://naar.ru/upload/medialibrary/edd/edd3b49bbd87f51c1e12520ab2732cf6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7"/>
              </a:rPr>
              <a:t>http://media1.fanparty.ru/fanclubs/dostoevsky/articles/21428/17240_tribune_dostoevsky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8"/>
              </a:rPr>
              <a:t>https://upload.wikimedia.org/wikipedia/commons/thumb/9/9b/Dostoevskij_1863.jpg/200px-Dostoevskij_1863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19"/>
              </a:rPr>
              <a:t>http://www.eg.ru/upimg/photo/127226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20"/>
              </a:rPr>
              <a:t>http://i020.radikal.ru/0911/ce/5296efcc61e9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en-US" sz="1000" spc="-1" strike="noStrike" u="sng">
                <a:solidFill>
                  <a:srgbClr val="8e58b6"/>
                </a:solidFill>
                <a:uFillTx/>
                <a:latin typeface="Arial"/>
                <a:hlinkClick r:id="rId21"/>
              </a:rPr>
              <a:t>http://cdn.topwar.ru/uploads/posts/2015-06/1434161949_text_0830oldorfo-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2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lit.1september.ru/2003/38/8.gif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3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i.msmap.ru/5/9/8/thumbs/600_452_fixw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4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avtograf22.ru/wp-content/uploads/2015/04/080728-1041194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s-pb.in/images/stories/pamyatniki/poety_pisateli/dost_2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6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autotravel.ru/phalbum/90210/14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7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shkolazhizni.ru/img/content/i87/87287_or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art-assorty.ru/uploads/posts/2015-09/1442643964_dostoevsky_04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201600" y="781200"/>
            <a:ext cx="4824360" cy="22885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Гениальность Достоевского неоспорима, по силе изобразительности его таланта равен, быть может, только Шекспиру», -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.Гор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Великие о Ф.М.Достоев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0680" y="2489040"/>
            <a:ext cx="4824360" cy="375156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Вы говорите, что Достоевский описывал себя в своих героях, воображая, что все люди такие. И что же! Результат тот, что даже в этих исключительных лицах не только мы, родственные ему люди, но иностранцы узнают себя, свою душу», -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.Н.Тол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5219640" y="868320"/>
            <a:ext cx="3551400" cy="443880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Фёдор Михайлович Достое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(1821 – 188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356000" y="1324080"/>
            <a:ext cx="4608720" cy="338580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М.Достоевский – писатель чрезвычайно индивидуальный. У него своё мнение, очень отличное от  других классиков русской литературы открытие мира, отбор жизненного материала, его интерпретация, композиционное и словесное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50920" y="5805360"/>
            <a:ext cx="727380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тво Достоевского – новый этап в развитии критического ре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3311640" cy="414000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Родители пис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572000" y="5783400"/>
            <a:ext cx="446400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ья Фёдоровна Нечаева, мать пис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7240" y="5789520"/>
            <a:ext cx="431964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хаил Андреевич Достоевский, отец пис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5508720" y="1630440"/>
            <a:ext cx="2979720" cy="393048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900000" y="1593720"/>
            <a:ext cx="2997360" cy="394668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  <p:sp>
        <p:nvSpPr>
          <p:cNvPr id="69" name="Text Box 8"/>
          <p:cNvSpPr/>
          <p:nvPr/>
        </p:nvSpPr>
        <p:spPr>
          <a:xfrm>
            <a:off x="576360" y="598320"/>
            <a:ext cx="799128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нный дворянский род к 18в утратил свои привилегии. Дед и дядя – православные священ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Родители пис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924360" y="2276640"/>
            <a:ext cx="5040360" cy="11912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хаил Андреевич бежит из отчего дома и поступает в Московскую медико-хирургическую академ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924360" y="941400"/>
            <a:ext cx="5040360" cy="11912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 Достоевских, не принявший католичества, был вытеснен из рядов западного дворян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250920" y="757080"/>
            <a:ext cx="3384360" cy="445644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  <p:sp>
        <p:nvSpPr>
          <p:cNvPr id="74" name="Text Box 8"/>
          <p:cNvSpPr/>
          <p:nvPr/>
        </p:nvSpPr>
        <p:spPr>
          <a:xfrm>
            <a:off x="3924360" y="3618000"/>
            <a:ext cx="5040360" cy="155700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рактер Михаила Андреевича мало соответствовал этой гуманной профессии. Он был раздражителен и неуживч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619280" y="5327640"/>
            <a:ext cx="734544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21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лекарь Мариинской больницы для бе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82440" y="5931000"/>
            <a:ext cx="900900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54d"/>
                </a:solidFill>
                <a:latin typeface="Calibri"/>
              </a:rPr>
              <a:t>1839</a:t>
            </a: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р при загадочных обстоятельствах. (Известие и смерти отца спровоцировало припадок эпилепсии у Ф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Родители пис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79280" y="3057480"/>
            <a:ext cx="453708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ё лицо было одухотворённое, умное, немного грус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79280" y="1305000"/>
            <a:ext cx="4537080" cy="155700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сходила из среды старинных кустарей. Она была дочерью купца третьей гильдии Ф.Неча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4897440" y="768240"/>
            <a:ext cx="3781440" cy="498492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  <p:sp>
        <p:nvSpPr>
          <p:cNvPr id="81" name="Text Box 8"/>
          <p:cNvSpPr/>
          <p:nvPr/>
        </p:nvSpPr>
        <p:spPr>
          <a:xfrm>
            <a:off x="179280" y="660240"/>
            <a:ext cx="453708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19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ыходит заму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79280" y="5888160"/>
            <a:ext cx="878544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37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умирает от чахотки. Её смерть приводит к полному распаду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79280" y="4049640"/>
            <a:ext cx="4537080" cy="155700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годами углубляется личная драма кроткой жизни Марии Фёдоровны, подвергавшейся постоянным подозрениям му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2735280" y="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Детство пис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994280" y="5805360"/>
            <a:ext cx="397044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ут в Москве на Божедом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991040" y="868320"/>
            <a:ext cx="3973680" cy="375156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Я происходил из семейства русского и благочестивого. С тех пор, как я себя помню, я помню любовь ко мне родителей. Мы в семействе нашем знали Евангелие чуть не с первого детства», -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.М.Достое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mariinka"/>
          <p:cNvPicPr/>
          <p:nvPr/>
        </p:nvPicPr>
        <p:blipFill>
          <a:blip r:embed="rId1"/>
          <a:stretch/>
        </p:blipFill>
        <p:spPr>
          <a:xfrm>
            <a:off x="179280" y="3298680"/>
            <a:ext cx="4648320" cy="350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2376720" cy="2995560"/>
          </a:xfrm>
          <a:prstGeom prst="rect">
            <a:avLst/>
          </a:prstGeom>
          <a:ln w="9360">
            <a:solidFill>
              <a:srgbClr val="b55475"/>
            </a:solidFill>
            <a:miter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67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54d"/>
                </a:solidFill>
                <a:latin typeface="Monotype Corsiva"/>
              </a:rPr>
              <a:t>Учёба и служ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62000" y="2104920"/>
            <a:ext cx="577836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41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нженер-прапорщик, подпору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62000" y="1563840"/>
            <a:ext cx="5761080" cy="45972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40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унтер-офиц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2000" y="652320"/>
            <a:ext cx="5778360" cy="82548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34 – 1837г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частный пансион Л.И.Чермака в Моск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79280" y="4005360"/>
            <a:ext cx="4122720" cy="302004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alibri"/>
              </a:rPr>
              <a:t>1843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кончил полный курс в верхнем офицерском классе и был зачислен на скромный пост при петербургской команде с «употреблением при чертёжной инженерного департамен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dostoevskii_10"/>
          <p:cNvPicPr/>
          <p:nvPr/>
        </p:nvPicPr>
        <p:blipFill>
          <a:blip r:embed="rId1"/>
          <a:stretch/>
        </p:blipFill>
        <p:spPr>
          <a:xfrm>
            <a:off x="6372360" y="198360"/>
            <a:ext cx="2406600" cy="387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6" descr="St"/>
          <p:cNvPicPr/>
          <p:nvPr/>
        </p:nvPicPr>
        <p:blipFill>
          <a:blip r:embed="rId2"/>
          <a:srcRect l="0" t="6000" r="0" b="10000"/>
          <a:stretch/>
        </p:blipFill>
        <p:spPr>
          <a:xfrm>
            <a:off x="4508640" y="4205160"/>
            <a:ext cx="444636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8"/>
          <p:cNvSpPr/>
          <p:nvPr/>
        </p:nvSpPr>
        <p:spPr>
          <a:xfrm>
            <a:off x="152280" y="2646360"/>
            <a:ext cx="6067440" cy="1557000"/>
          </a:xfrm>
          <a:prstGeom prst="rect">
            <a:avLst/>
          </a:prstGeom>
          <a:solidFill>
            <a:srgbClr val="ecd3dc"/>
          </a:solidFill>
          <a:ln w="9360">
            <a:solidFill>
              <a:srgbClr val="7c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Monotype Corsiva"/>
              </a:rPr>
              <a:t>«Меня с братом свезли в Петербург в Инженерное училище и испортили нашу будущность. По-моему, это была ошибка», -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.М.Достое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11:12:02Z</dcterms:created>
  <dc:creator>user</dc:creator>
  <dc:description/>
  <dc:language>en-US</dc:language>
  <cp:lastModifiedBy>Admin</cp:lastModifiedBy>
  <dcterms:modified xsi:type="dcterms:W3CDTF">2021-10-28T09:26:13Z</dcterms:modified>
  <cp:revision>287</cp:revision>
  <dc:subject/>
  <dc:title>Слайд 1</dc:title>
</cp:coreProperties>
</file>