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54B-1EE9-4695-895D-D042C6E0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73C-402A-44C0-BF74-7EE41613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CD4-B131-4CE3-B0DD-7A45DB88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C69-4E3F-4A68-824C-3DB2648E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388-37FA-4939-819B-EA4AF73C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A3B-CE25-417A-A8C2-94D1E42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BD7-1CF8-4808-A183-C109406F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DFA-CDA0-4DBF-A4F7-F7411F7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6EB-99F3-4CBD-BB23-DE838B65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9B6-5F9B-497A-BAFE-D31E20D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A14-DF1D-47B1-8F69-3A65BE8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B81-E114-43B2-B8E8-F7B0070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7E6-1DA2-4DC9-B11F-D0806818C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58920" y="26028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История   флага  </a:t>
            </a:r>
            <a:r>
              <a:rPr b="1" i="1" lang="ru-RU" sz="4800" spc="-1" strike="noStrike">
                <a:solidFill>
                  <a:srgbClr val="558ed5"/>
                </a:solidFill>
                <a:latin typeface="Arial Black"/>
              </a:rPr>
              <a:t>Великобрит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635280" y="3429000"/>
            <a:ext cx="525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 по англий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ащихся  7 «В» класса:                                                                                               Баштыенова Д., Ковалева М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утова М., Степичева 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 Зинук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3cac05d60eed182e75ccaebc6bdc784a.jpg"/>
          <p:cNvPicPr/>
          <p:nvPr/>
        </p:nvPicPr>
        <p:blipFill>
          <a:blip r:embed="rId1"/>
          <a:stretch/>
        </p:blipFill>
        <p:spPr>
          <a:xfrm>
            <a:off x="179280" y="1989000"/>
            <a:ext cx="421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11280" y="40464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оединённое Королевство Великобритании                         и Северной Ирланд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4292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г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835280" y="4292640"/>
            <a:ext cx="23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Шот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732720" y="41497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верная Ир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716360" y="429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23b"/>
                </a:solidFill>
                <a:latin typeface="Arial"/>
              </a:rPr>
              <a:t>Уэль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1042920" y="242100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6443640" y="2421000"/>
            <a:ext cx="1297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3059280" y="2421000"/>
            <a:ext cx="5760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859280" y="2421000"/>
            <a:ext cx="433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england_map"/>
          <p:cNvPicPr/>
          <p:nvPr/>
        </p:nvPicPr>
        <p:blipFill>
          <a:blip r:embed="rId1"/>
          <a:stretch/>
        </p:blipFill>
        <p:spPr>
          <a:xfrm>
            <a:off x="2408400" y="-6480"/>
            <a:ext cx="440028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611280" y="40464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лаг Великобритании – символ ед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ждый человек из любой страны мира узнает этот флаг, но далеко не все знают историю флага Великобритании так же хорошо, как изображение. Флаг Великобритании имеет огромную историческую значимость и символизирует объединение трех стран: Англии, Шотландии и Ирландии.  Англичане называют свой флаг Юнион Джек (Union Jack), что обозначает «объединение флаг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456080" y="4267080"/>
            <a:ext cx="3913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260280"/>
            <a:ext cx="77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лаг Великобритании ведёт свою историю с 1603 года, когда король Шотландии Яков VI унаследовал престол Англии и стал английским королём под именем Якова I. 12 апреля 1606 года был утверждён флаг союза государств: на шотландский флаг святого Андрея (белый косой крест на синем фоне) был наложен английский флаг святого Георга (красный крест на белом фон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"/>
          <p:cNvPicPr/>
          <p:nvPr/>
        </p:nvPicPr>
        <p:blipFill>
          <a:blip r:embed="rId1"/>
          <a:stretch/>
        </p:blipFill>
        <p:spPr>
          <a:xfrm>
            <a:off x="468360" y="364500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5b751a19fc343ee5db31a9a98c7398f5"/>
          <p:cNvPicPr/>
          <p:nvPr/>
        </p:nvPicPr>
        <p:blipFill>
          <a:blip r:embed="rId2"/>
          <a:stretch/>
        </p:blipFill>
        <p:spPr>
          <a:xfrm>
            <a:off x="6516720" y="3645000"/>
            <a:ext cx="2160720" cy="145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Flag_of_Great_Britain_(English_version)"/>
          <p:cNvPicPr/>
          <p:nvPr/>
        </p:nvPicPr>
        <p:blipFill>
          <a:blip r:embed="rId3"/>
          <a:stretch/>
        </p:blipFill>
        <p:spPr>
          <a:xfrm>
            <a:off x="3203640" y="5084640"/>
            <a:ext cx="2585880" cy="1552680"/>
          </a:xfrm>
          <a:prstGeom prst="rect">
            <a:avLst/>
          </a:prstGeom>
          <a:ln w="0">
            <a:noFill/>
          </a:ln>
        </p:spPr>
      </p:pic>
      <p:sp>
        <p:nvSpPr>
          <p:cNvPr id="60" name="Line 14"/>
          <p:cNvSpPr/>
          <p:nvPr/>
        </p:nvSpPr>
        <p:spPr>
          <a:xfrm>
            <a:off x="2411280" y="4076640"/>
            <a:ext cx="2016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4572000" y="4076640"/>
            <a:ext cx="194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11280" y="220500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0920" y="404640"/>
            <a:ext cx="8281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801 году с принятием Акта об объединении Великобритании и Ирландии было образовано Соединённое королевство Великобритании и Северной Ирландии. К флагу, существовавшему прежде, был добавлен символ Ирландии — крест святого Патрика. При этом белый шотландский и красный ирландский крест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ённым образом. В таком виде флаг Великобритании и дошёл до наших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44840" y="3807000"/>
            <a:ext cx="38988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9:26:00Z</dcterms:created>
  <dc:creator>Teacher</dc:creator>
  <dc:description/>
  <dc:language>en-US</dc:language>
  <cp:lastModifiedBy>олег</cp:lastModifiedBy>
  <dcterms:modified xsi:type="dcterms:W3CDTF">2016-05-17T06:27:05Z</dcterms:modified>
  <cp:revision>19</cp:revision>
  <dc:subject/>
  <dc:title>Слайд 1</dc:title>
</cp:coreProperties>
</file>