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A39-EC1A-403B-8B93-53B81FB8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84D-AB78-4135-A0F4-712A34A8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7DF-10E0-47CB-AA26-B89BF6C7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09C-EF85-4987-9C89-3DA0DF28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56F2-8B85-46E0-A5B9-F2A6BF9C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F777-A53B-4142-A7DC-F85D7F91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173F-F96D-4451-9712-23B5665B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44B8-1A4C-4D04-8F04-C4E5FF98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DA7C-371C-437B-AA29-A750B8BF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8034-EA3D-43E4-B74C-FA9990FE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A93E-F45D-4B6A-8EFF-48140FCB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6F3-3199-4493-8DB0-68E42D6F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53D5-44E6-4E2F-894E-B54D556F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F4A9-DB12-4CD1-9184-E616E07F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E174-DF7A-48BB-BB57-510768A6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F204-F1DF-42D3-8FEA-FD59E66F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BEDE-AD02-4674-ACD3-3B241FA5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9367-8EA7-4441-99E7-D38F92E1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BD79C-BCD6-4E7E-9D28-B9310FD1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D5DC1-4D4D-4E1B-AF40-C25FACDF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314A-166E-4F97-A140-678678D5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2E8C-E653-4C64-A50F-3A97F483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AAE-08CB-40C2-AF56-9B4AE072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FC0CF-541C-411B-B4BD-B56D962B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D5DC-E9C5-49CF-B4DE-BE78515D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D97D-9675-4E23-820D-5D1445D4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ED13-6928-41E5-83C0-EBD1B3AE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B6F62-1A35-429B-8659-DE827898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D6FF-9BBC-4762-9D61-62A92689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6F32-4006-4E46-8B56-66B301C0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2F347-6688-45B3-AA34-805FDD03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2FCC4-23D1-4640-B45E-8DA5CF06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7FF8E-4FA6-46C5-9A55-0B555F3F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D23-41FA-42BE-B29F-1F20DB49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7A08A-96DD-46E9-9710-B3534C77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8BF3-12BA-48EF-8510-629C87A5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F7641-3355-4A3F-8BFB-DA66DDB8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E115-1652-4DC6-AD04-BA4B3FD3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59C4A-19F1-49C5-8B11-A7C3906C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D6F8-4CE0-46F3-95EA-DB3800DC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C831-F637-4993-A704-12192D79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4BCE6-C033-435E-BDAD-097719FC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7FDEE-5120-4833-9223-97DB53C7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FA77-D8DC-4DA5-83CE-E4E598EC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74F-63B6-46E1-AD7D-A4A5E7F7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1E7F4-1E36-4087-9284-989C7086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26D87-1A83-4087-B264-6F2CC905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AE6D4-30FF-4851-96CB-6FF3A446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5FF77-CA13-4CCB-8932-AB9EF72C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3448C-B854-4E2A-9C65-7C4B4B77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D16BE-4640-45A5-A856-3AB10B66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0BA30-27E9-4337-8633-C1D6E003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C6D03-95A5-4593-8C85-49E048F7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0B3E-4A15-432F-90BD-BC5FCCD3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A481B-F786-4009-85C9-30D780A8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3A2-C7A7-4BDA-B6CF-D337EC85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56DEE-A05D-4501-9094-8E5F2A36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07826-2D8A-40B4-8BB4-9FEEDF31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B06A2-F1D5-4E67-BC4A-091056DC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53246-61E8-4689-A114-F5883F0F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063D7-D74E-4BD8-914B-D7722EC8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91B0-DB20-4ED8-BC49-95573A8E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406F5-F30F-474C-B6C5-32A01CC9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DA627-6796-4B76-A22D-70FAA540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101A-86EE-49DA-B685-E622F30E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A58AF-567E-4100-9B5E-6F9B7B23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1FF-6896-48A9-BEC5-4D556B99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30042-A1C4-4899-80B2-8F357342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FAE73-A27E-4F66-922A-E86AB395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6EA45-7E00-4349-B919-5F8F0AA3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F8F-1312-4D4A-8044-5D288B2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D87-AFC3-4340-9474-3C57A1F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CCA3-4EA3-4297-BBE3-5C8B2F6A8C60}" type="slidenum">
              <a:rPr b="0" lang="ru-RU" sz="1000" spc="-1" strike="noStrike">
                <a:solidFill>
                  <a:srgbClr val="31313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7503-3F3D-4735-B52E-77E3B5292FB2}" type="slidenum">
              <a:rPr b="0" lang="ru-RU" sz="1000" spc="-1" strike="noStrike">
                <a:solidFill>
                  <a:srgbClr val="31313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70C4-226F-4E6F-B5BE-5C1C11A2326F}" type="slidenum">
              <a:rPr b="0" lang="ru-RU" sz="1000" spc="-1" strike="noStrike">
                <a:solidFill>
                  <a:srgbClr val="31313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7EAE-60C5-4E43-96DD-AC35711A8881}" type="slidenum">
              <a:rPr b="0" lang="ru-RU" sz="1000" spc="-1" strike="noStrike">
                <a:solidFill>
                  <a:srgbClr val="31313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E754-AE5B-4951-A6E0-A7E3D9BF410B}" type="slidenum">
              <a:rPr b="0" lang="ru-RU" sz="1000" spc="-1" strike="noStrike">
                <a:solidFill>
                  <a:srgbClr val="31313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E9AB-4079-4FB6-88D8-2E5644ACB0C4}" type="slidenum">
              <a:rPr b="0" lang="ru-RU" sz="1000" spc="-1" strike="noStrike">
                <a:solidFill>
                  <a:srgbClr val="31313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Творческая презентация, учащейся 8А класса Андреевой Екатери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haroni"/>
              </a:rPr>
              <a:t>Руководитель учитель музыки Дурсунова А.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532720" cy="13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Божественный инструмент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9" name="Picture 2" descr="C:\Users\админ\Desktop\Композиторы\Паганини\Божественный инструмент.jpg"/>
          <p:cNvPicPr/>
          <p:nvPr/>
        </p:nvPicPr>
        <p:blipFill>
          <a:blip r:embed="rId1"/>
          <a:stretch/>
        </p:blipFill>
        <p:spPr>
          <a:xfrm>
            <a:off x="1476360" y="333360"/>
            <a:ext cx="640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549000"/>
            <a:ext cx="48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1840 году болезнь отняла у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ганин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последние силы. Умирая от туберкулеза, музыкант не мог даже поднять смычок и лишь перебирал пальцами струны своей скрипки. 27 мая в 57 лет виртуоз скончал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3" descr="Никколо Паганини"/>
          <p:cNvPicPr/>
          <p:nvPr/>
        </p:nvPicPr>
        <p:blipFill>
          <a:blip r:embed="rId1"/>
          <a:stretch/>
        </p:blipFill>
        <p:spPr>
          <a:xfrm>
            <a:off x="4788000" y="765000"/>
            <a:ext cx="435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372360" y="1267920"/>
            <a:ext cx="3203280" cy="28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4" name="Picture 2" descr="C:\Users\админ\Desktop\Композиторы\Паганини\Музыка при луне.jpg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324000" y="476280"/>
            <a:ext cx="820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ганини умер 27 мая 1840 года в Ницце. Некоторые произведения мастера долгое время после его смерти считались неисполнимыми из-за их трудности. Виртуоз-гитарист, Паганини написал также около 200 пьес для гитары. Исполнительское и композиторское творчество оказало большое воздействие на последующее развитие инструментальной музыки. С 1954 года в Генуе ежегодно проводится Международный конкурс  скрипачей имени Паган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4608360" cy="439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78310b"/>
                </a:solidFill>
                <a:latin typeface="Arial"/>
              </a:rPr>
              <a:t>Скрипка Паганини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9" name="Picture 2" descr="C:\Users\админ\Desktop\Композиторы\Паганини\paganini5 skripka.jpg"/>
          <p:cNvPicPr/>
          <p:nvPr/>
        </p:nvPicPr>
        <p:blipFill>
          <a:blip r:embed="rId1"/>
          <a:stretch/>
        </p:blipFill>
        <p:spPr>
          <a:xfrm>
            <a:off x="5364000" y="404640"/>
            <a:ext cx="346716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632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  <a:ea typeface="Aharoni"/>
              </a:rPr>
              <a:t>Загадочная личность Паганин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53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Franklin Gothic Book"/>
                <a:ea typeface="Aharoni"/>
              </a:rPr>
              <a:t>Никколо Паганини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Franklin Gothic Book"/>
                <a:ea typeface="Aharoni"/>
              </a:rPr>
              <a:t>(1782 -1840г.г.)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Picture 2" descr="C:\Users\админ\Desktop\Композиторы\Паганини\Начало Карьеры.jpg"/>
          <p:cNvPicPr/>
          <p:nvPr/>
        </p:nvPicPr>
        <p:blipFill>
          <a:blip r:embed="rId1"/>
          <a:stretch/>
        </p:blipFill>
        <p:spPr>
          <a:xfrm>
            <a:off x="468360" y="297000"/>
            <a:ext cx="4513320" cy="61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9280" y="1483920"/>
            <a:ext cx="79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коло Паганини родился в 1782 году в итальянском городе Гену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259920"/>
            <a:ext cx="464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10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тец Никколо Паганини был музыкантом-любителем. Именно он привил сыну любовь к музыке и скрипк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10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Users\админ\Desktop\Композиторы\Паганини\Отец Никаколо.jpg"/>
          <p:cNvPicPr/>
          <p:nvPr/>
        </p:nvPicPr>
        <p:blipFill>
          <a:blip r:embed="rId1"/>
          <a:stretch/>
        </p:blipFill>
        <p:spPr>
          <a:xfrm>
            <a:off x="4427640" y="314280"/>
            <a:ext cx="439236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333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альчик научился виртуозной игре еще в раннем детстве, и вскоре в Генуе уже не могли найти учителя, который обучил бы юного исполнителя чему-нибудь ново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5148360" y="4094280"/>
            <a:ext cx="3744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995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25992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825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ри взгляде на портрет люди шептали: «На черта похож». Таков был маэстро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аганини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 – композитор и скрипач, равного которому не было, нет и едва ли будет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C:\Users\админ\Desktop\Композитор\230_pre.jpg"/>
          <p:cNvPicPr/>
          <p:nvPr/>
        </p:nvPicPr>
        <p:blipFill>
          <a:blip r:embed="rId1"/>
          <a:stretch/>
        </p:blipFill>
        <p:spPr>
          <a:xfrm>
            <a:off x="3851280" y="620640"/>
            <a:ext cx="5076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4:54:01Z</dcterms:created>
  <dc:creator>админ</dc:creator>
  <dc:description/>
  <dc:language>en-US</dc:language>
  <cp:lastModifiedBy>110</cp:lastModifiedBy>
  <dcterms:modified xsi:type="dcterms:W3CDTF">2021-10-28T09:09:58Z</dcterms:modified>
  <cp:revision>3</cp:revision>
  <dc:subject/>
  <dc:title>  </dc:title>
</cp:coreProperties>
</file>