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858-CA3A-4B9F-A3CD-E3D9911D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08F-63DB-4A64-B05D-9A180F4E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F2E03-EE68-4073-9840-5B7A9991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82FF3-CD7A-4A92-A273-133E25A8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4A418-EF2D-4813-B651-596DDEB4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A8D08-DF42-4B1F-AE52-D27F6CAF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D522E-4E82-41E5-B05E-698E4291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BA3D9-EC1B-4059-9515-981B9F8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5A732-D44D-4E11-A7ED-BE2CE16E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A9657-3598-4616-9B6F-C6AC809B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358EE-2B09-4F05-9B66-74423F15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C73A6-298E-427A-9406-BF59EE1C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999-B85C-42DF-A97B-71ED78C2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16340-F183-4045-91BF-B78F10B1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5DB87-E81C-4DF2-9752-32606885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0D7C9-A1FF-47AB-B86F-2CD703DE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5E5E5-B099-4B3F-893C-DDDBA23E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49720-BC77-4A47-B48B-8AF08D8D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2AEA9-ABAE-4276-9F80-A20A0484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5A3CA-1710-4A6B-8EC3-D0380501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1257A-2F72-448A-99DB-0B1D70A2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CE605-10E9-4275-8D86-5EBD0335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CEDBC-2117-403C-990A-B304DD38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902-D60D-4BAA-AFBA-13AEA9B1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FBA0D-5DA3-421E-A566-C8C0EF47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473AF-A859-45D1-BC94-B9D66729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7912F-80C7-4143-9D9B-0EDFAF46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5DB7C-97AD-49C8-8FE3-8D48B3A1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78CAC-512A-4A8B-9821-2119DE2A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0C0D8-396C-43A5-AE69-AF205F33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8E3B3-B174-4EB5-9752-3263BA6D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01CA2-207C-4614-A9F9-44B2FBB8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0D43F-CF14-402B-A9AE-7974858F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10964-EEFB-41A6-9DF6-7E06476F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2F42-056A-41E9-A22D-64D09E61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76B42-D671-41F3-B8A8-DFF2FF55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8D471-B4EE-4595-936D-AA05B2FB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C79D4-B616-488F-9A92-43CF91E8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0D68F-E462-4E42-81B1-42183AE9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8F4AE-72A9-4A05-B8FE-37915BEF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36961-73EB-4C14-9A63-1D05B40B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C00EC-60FD-44EE-811B-0BADF21B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8CB60-AA7F-4A54-AFFA-7B144E60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63612-8F39-4C77-8278-C85D0232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E2D58-EF36-4019-AFD3-C4AF1DA0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7273-C3C5-4FA1-BD71-12DBDFF3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75C59-D74C-4E47-87E2-2A22C4EC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94191-84B4-49B5-B740-AB42EA86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06E0C-8351-4968-B459-93B2ACAB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DDF14-B9EC-4725-B2B5-645198E1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72E17-EE3E-4744-91E6-62EEA21A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0ADBC-7971-416E-B4F8-D5FB99E0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E86D0-3853-4BB9-992A-66B2F545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37128-CDEC-4CFE-9D6F-6321D922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50F60-1196-4391-96F8-910F3A54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2D910-5DDE-4988-BA80-FBAF80C8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C842-3368-47C0-930D-177D0246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8B42E-FAF3-44A6-9240-2F574740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51FBF-F4FE-4FF8-86BB-BF381D65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E020F-1148-411B-BB1D-8C06A683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CA5CF-B66F-493C-A9AA-605EF0EF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1E93F-0939-41C6-AFA9-AE8975C2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4A29D-13F4-4569-A252-FAF46156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D33B1-B33B-40AD-8066-F91A257C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6F0F4-E5F5-4846-A024-3DD45EC2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5C5C3-8F7D-4320-9A8E-5DF29DE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51B2D-5FBD-43A7-B9E7-422BAE5C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F2E1-A6C1-47B6-8FD2-94FC8D52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5946D-7489-43A6-9098-B5216705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13645-A636-435C-B82A-2E75BACD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C8CB8-4D28-42E2-8722-000793B6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256B1-2833-4BA1-A413-166478F5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E912F-D3ED-47F6-8A12-407BBCEB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1C21C-2A24-4631-AE1B-7664253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063CB-EAA0-4B47-AD4E-B3B99E7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0F998-91D2-423C-8BB2-7C5728A6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8F79A-F8DE-401F-9D36-AAD9C745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21549-9A29-4737-963A-7559B295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9679-F94F-4B4C-9832-314A707D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881BE-E4E2-4073-BD53-D1AF847B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F756F-00BD-4FE6-A97B-123716E9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36D9A3-8E66-49C7-AE46-3E598E7C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01CF9-FCBD-42FE-8CB0-65844CB0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5BF73-DDA9-4CE0-9272-D98DBAE5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BFF74-1548-4005-B34E-066113AF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245508-BFAD-43D4-AF3B-8691FBF5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E7660-F954-4605-93D9-35D57B1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17BB8-A917-492B-9E37-8EEA29AA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06541-706A-4AE0-A38F-ED7129F0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CBB4-7099-4A49-AEB8-4616F0CC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C0BB4-74BB-46BB-B6C6-B098FBA2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A4DE0-4B5C-4540-AF80-C92A1E80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4F3A7-DFE7-4BDB-BC47-99D069EE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61D9C-458E-4EBF-8728-99B8B3A0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47B64-4DCB-474A-911B-BD65CFD7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8024E-8D07-44FD-92CE-2A246862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A0E14-967E-4811-9B0A-FC3405DA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7195F-0E12-4EA2-8C0C-25AB468E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A495D-E537-4443-A6D5-B13BDE73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2E1B5-1307-47B2-835A-FF233DA3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5100-5826-4DC3-B929-F6125CD3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5B9D1-A7CF-4703-9EBC-245AB894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5D263-F56B-4DE7-BE0A-1EBC810D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9A7808-23EF-42B3-A826-CFF89477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6D3AB2-29C1-4A82-AB8D-52BDEF5A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D02200-DD26-42BF-815B-6B0582E5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54634-1975-4504-80DA-F979650C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1F04F-99C1-4E74-A0FE-05D59297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AD773-AA21-4AF1-86FA-49DDAA99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12905-45C3-4942-AB3E-45FF5EE9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C952C-D115-460A-AC19-3DC6777F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BED-40E1-4FAE-BA2C-98093EFE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ACF9-376B-4A81-8CAE-AC69CB65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56F5E-11A9-4E9C-BB1F-77866F4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EEAD3-B183-4093-B892-2D74E11B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A0D14-396D-4526-8466-6AD3546B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917B1-760A-4FA3-BD9D-BD8D09AB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F7B53-A1D3-4885-BAC3-E9940C75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46CAE-11EF-4C34-B2CD-4506FA0C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11367-B8EA-4D27-A880-E5DBE600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4131C3-C062-4166-B436-95F7108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CCA37A-8CAF-47D6-A00F-E38AD04C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C6E5B-1E88-4BDD-B3BD-A64A8C6B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D5BF-4B35-491C-94BE-493122D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74D06-C0B7-495E-9C88-628C365B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6BDBFE-D9A1-4E9C-B5E8-1C7C1F0C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09D64-019C-451E-9A0D-074118FB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E21759-A532-4272-98EB-B42AFF8A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2A4DD-374E-459A-8074-B07E6AD3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DEA5B-6735-4C73-B7C6-D1B71FDE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1A21A5-E068-4FB4-90FD-7E64BE7E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17AF3-C6BE-465F-ADD7-559FF31A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1968FA-8B77-4565-80B4-4D9EA506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D9887A-B545-4928-BDEC-F4084ED7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484E-E1F9-4A3A-8256-2EE3B29E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B07A9B-76A3-41EA-A76F-7925ADA1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E44E23-7E7F-4747-9F12-A47366D5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75CC8-ECE2-4CDA-ADCF-A16FF10E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8ECD9-1407-4B41-9A61-2426B316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D114CF-6594-43D5-8B40-8357C89A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4BEF67-57CD-4A6D-B0EC-B9589BF4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30C19-5C93-4568-93CC-D4D0947D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BDFB6-1A76-4903-AF42-719A06D7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451F58-13D8-41F7-9B50-990B786F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185A5C-4579-40B2-883B-97850EBB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DA7C-DCB4-41A1-8939-5FC22CB7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071302-BA4A-4143-AD70-F8A64915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7D9A0A-4027-4A79-AB81-C9D460CF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9DD588-E108-4A3A-A96B-0E01A7CB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DB914-ECDF-43CF-8D89-F2B49D7A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394CE1-306C-4EAD-91A6-F5ABA131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D6ED4-D5E6-4C6A-B3B4-6C8233E7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7D65B-3BE5-4E4E-B21D-62500EE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6E140-5627-4DE4-B0FF-FF5E2AAE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E391D-C6A5-4213-A643-54316BF3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A3307D-9230-4294-89B3-E57911A7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DB3B-A328-49AD-93C8-971744E9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DA0875-8727-49AF-9658-DC59576A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ADF91-7342-44D6-AFF8-3D45BFFE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A7D98D-6360-4429-B416-A151AF92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364DE-490F-4442-B1F7-EEC45A82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BDFB30-23E7-46AB-B1E8-7C68CC3A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33EC8B-5B3A-4C8C-A361-884F92C1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E2BC6-3C6D-4212-8E7A-5830FC34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BA8BA1-53C6-4E57-8BAD-F45B56C2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B3ACC-85B8-468C-8995-6D7E882E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B0492E-436C-435E-99B0-58B0FAA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FEBC-3C7D-49C8-9125-E529C805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09D0D3-5910-489A-B6FE-D278096C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BFE3D-A1EA-4165-BB08-08889FBC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138A1-2BC8-4A90-B640-9DE309C6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EF5F0B-B592-4031-8D99-4037D120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DD32B0-0A32-45EF-9AC4-D4F94049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82E124-B448-435B-BDB4-7A7F38A9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F002CB-3F63-434E-B971-93175E21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CF5DA4-FF98-496B-805B-C3AAC22E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3A568-F962-4AED-97AD-54D0AE6F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4E05E4-2BF8-4D5D-8F3E-6A0E7E3A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1B32-61D3-422F-91EF-5D11E16F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393332-BC1B-4E71-A957-7F2A9A02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3CD68C-A837-49B6-9798-7A7FFCA2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DB8113-BA44-475F-9F78-E8A20B1A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C332AF-9153-4CB3-876F-F7D7B8FA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00488D-BBD8-4698-9A2D-5A13005D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4D1523-AB4A-475D-888F-0FEF5849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1E15B9-D018-483B-AD11-0AB79864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AB0ACD-5320-4373-9B98-6FB7AA6D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A5162D-D673-42AC-95D0-31A0BDFF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DFFDC3-A0C1-413C-806D-F7447214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297F-94BD-4D69-8662-1746B06A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2A5FBA-892B-4FEA-86BE-64D541C5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EB2B31-E128-46AF-86BE-ABAA634F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45F99E-AADE-478A-BF2D-C0F9FF47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B48DBE-3531-4DF0-9400-CC883C1D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3E6261-301F-4D36-9817-E5E6EAEA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097DE9-BFF6-4D38-916F-90BFBE4F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240A69-E130-4E79-A0CC-6F6D8469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DA2CDA-488B-42D0-98C8-A4082A22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78C0CF-2A73-4B4E-B41F-96282502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61EBFF-B1A9-45EC-8C1F-BC55AE25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5130C-C79E-4280-945E-A5274B9B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CF0B5F-479F-46B2-BB77-E94428D0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9DF0F1-43C0-4A60-BFC8-70BB6262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0917F7-3EED-444E-A86E-A1A388A7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480FE1-5F23-409B-BCD3-FB1B9FB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1086D7-955D-42EB-894C-D6B5D26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30A8D0-2FB7-4A05-96AF-5A702FC2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2E64F1-7797-4772-811C-C2244A6B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49F74B-47BC-4ECE-B93F-75C276C2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908A73-9093-43DF-8404-35C0113E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4211DB-B815-4D3A-86C5-5111D214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9BA0-3153-4107-A1AD-34FBD6BB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8A00BD-52EF-4546-8E69-C48CB0A7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B75193-237A-4622-87FB-F69DD9CF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81FD4D-1683-4100-970A-1B634443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01BF30-2359-4C3C-B4DA-655F766A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26ADA2-B4A0-4F7A-AC72-C5FA271F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FAB826-EE76-4621-B201-1416A945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04977A-BB05-44DE-86E0-27EE34CE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8B9AAB-68C0-465E-83D4-B94FFA68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8D1601-4379-47E8-92D6-12C425D7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F6AF21-C051-4EAA-A9C1-C1340CFC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DD8-E1A2-4C31-BE3E-74C1C57B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91B6-B756-41A8-A4FF-89DEDBF9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8626D9-2751-4299-8A6A-48231E77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9E33D2-430E-421C-A297-2FFF803C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8DF6F9-2854-44C6-A4CA-2E8FD8D0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1A9AAE-C262-496A-B20D-CFC6DFDD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7A36C2-C29E-4805-9D77-855EB6B8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1675F3-BFBF-46B5-98F7-41255919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938108-84C4-4C10-8261-C27A1DEF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3DF96D-0864-4C7E-98C5-4CD237EA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E11F76-88CC-42D5-94B3-307F0637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2476A2-8F55-4B8A-BC2B-1495EC27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2967-044A-4561-A0AD-88186439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D2EB25-5FE8-4499-97A3-D3229600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7CD186-C878-4842-B771-465336C7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B7482D-FB9D-4394-AE16-6BC800B1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D90950-91A3-428B-90D2-662FDCE2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AE0132-AD38-4876-8939-B63A0263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AF6ED3-2679-47A5-80F5-F332CC19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800C07-C4D0-4149-BE23-B4B5B1BD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3AD8AC-D620-4443-89A4-AC3A03F2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9023F0-58B0-4FB3-9E22-606DB161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85E880-D676-4783-A2F2-A6504E00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B0A1-A8E8-430E-B849-1D5B5195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5EA379-7DC1-4365-BC41-3E1B75D7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2ED62F-5249-4D82-AA00-544FCF0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7DB7B7-0EC5-4B49-B135-7E9E70D4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A08B33-B4C5-49C3-A684-7A4F21B2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842FD9-D6E6-4FF4-87F3-7DF4ABB8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7055DA-6126-4766-9CCE-C59EEEE5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607DBF-8A50-4336-A0B3-7BF3ED7C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382275-F9E1-4C37-9B15-8FD4BA1E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14DF9B-754F-4A25-8137-0F576FE4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53CD59-9A45-44C1-AC9A-E08E9880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3778-B05D-40D6-AC6C-D0AF0128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050E1F-B116-43E4-AEE4-09FEEC8A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3D0DB6-FE23-42C5-A6E0-FBF763A5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A6BD58-6808-42F9-AFCE-43D35CF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67D95D-0108-427E-BD1D-726F509D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08574A-5344-4943-A173-FC3EF4C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4DE457-13E3-4E63-9DEA-AEF49DE8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99A3A4-1841-4863-BD20-6845989D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B49540-9DEB-48FF-80A4-DD18086E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1A8967-5491-4A06-A3C4-080520A5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AD2D0D-9F3A-4232-8C18-26C44084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F502-50A1-4550-9940-AFC4050B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0AD8D4-4E72-4FC2-8221-10EDF684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3295C4-4977-48C7-914C-FFDEA5D4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F6B30D-6FB3-4071-AC38-F547EB5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9ED0B5-F75F-4D9E-8CE3-F948DBFC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077FF9-9013-472C-9296-4358777E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109879-2079-46D9-8BB8-C3CA281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13FFC2-2B07-4A37-8C9F-4CB6603A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C61EF6-34F4-43A1-AA8E-02BC70B2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43ADAB-A23B-43DB-916E-1C7925BD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A604BA-E1E2-49A6-8F81-D5529535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806D-308C-4036-9D85-D3B919B3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A11446-443C-4609-841F-7A703637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DA8985-3F2B-4656-A92A-8161642A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C9922F-31F3-4F14-840E-645F920B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05AC4A-BEA8-42B6-AF6D-60E684E7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AE5159-6585-41B8-9CBB-5D706CA9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38257D-986B-444A-AF5E-4683452A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4705F4-C0A3-42FF-8FBD-90E95845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4917AF-AFDD-485B-B7CC-9CB3B329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0218BB-0257-4561-9D19-782029F8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265A80-58E2-4AE2-B08E-8B534E43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72EAF-C246-4658-8751-ED5FB7BA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5879C7-4460-418B-9B7E-A963DDED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875628-46C1-4732-9F68-7955B589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C4E12F-EB48-4B8F-A368-B793299F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112127-C6EB-44D4-87DD-701E853A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E050B3-CA3F-44C2-8218-AEB96147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32DC82-9D56-4DBB-B03E-B865AF15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D3DBD2-D5F0-4069-A87E-688C167E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750B20-87F1-4AE0-BCA0-3D8840B2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6868B4-36BA-4866-A1E8-425B0E99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7776A9-4CB5-4416-B08B-F093914A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71C0-D2BE-411F-811C-12BEA3EF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1A247C-CD80-45BC-840A-5E8FE27D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36825E-0BDF-46F6-8107-8D703756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C8FBDB-39F2-4B3C-8497-7FD8EF08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A2F706-B92C-4521-B4A3-7EE1C357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2F2A44-C5AD-4EA4-8D98-F3E1A1D6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AA075E-B1B9-4666-BB6A-63FFFF38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AE019D-AF59-42B9-81DE-2FF6B58B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E47E5A-198B-4098-8A22-A230B336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D68E02-6917-4B1D-8D15-8E3D4F0A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357A02-4ABE-4218-A527-553BAD9F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9F0B9-BB95-4D0B-8758-9D859614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BC0F17-E6F9-49CC-BCC4-88931C3D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FE3C05-B076-43E5-9D62-DCE5AF7D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F1DA66-9487-46EF-A905-4277FBA4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A6B925-EAC9-41C2-B402-2B1F3BB1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3AA56B-E6B4-4EA1-8CBF-D4DB5C1F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6FBED0-A025-4825-A00D-3F0F2709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8FD49F-DA01-4CF9-8BFD-3664B9BA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C4C525-7E70-442E-BEAC-4DD0CA90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8FA6E1-635B-44A4-B642-B7A6982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7E9605-928D-4DF3-B511-DE458879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3A79-49C0-479A-B056-4E19BFAD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A32E0C-EC75-4F1C-9E58-DB4403A9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6D3643-BDF4-4CF5-84DB-068F5F20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21EDEB-5A73-4A6A-8D18-BFD0763D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683F73-F93D-432B-961D-7CB43AC9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F61B54-3F71-49DA-9AE4-87464D7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308A83-D5C1-4486-B9A2-3B594171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88820F-30EA-4E3E-9438-D9793530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A833E4-44BE-40B5-A95D-986674EB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6303B7-C6AB-4A09-A999-03766FC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D28E2C-DB4C-4050-B27C-3E301638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433-8BBC-46BF-AC26-994B8FFB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930F-BA80-4736-A26F-E3058EF8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7DE347-9EFD-4E21-B7D8-86CB131C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867433-7B56-4A46-B2A4-72CEAFBD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2ACF60-553E-4BE7-84A7-F31AAF2D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BE8B64-BFEE-490D-8979-0DE835C1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486D2E-2F73-4425-AE7F-996FAD5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C3775D-C28B-435F-B88F-22969C47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657C6F-8A48-4AD3-BB1C-0FDE9E2D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DD8B47-8FED-4B69-B66F-6D9E07A4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60AF18-DDEB-4E1F-AA74-FAD7B57D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CEE9AA-E0FD-4BAD-BA0C-1DAAB79B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CD1A-4E24-4307-BDD5-F1A8EB7F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46A397-AAB6-494F-82CF-2D342200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1C355D-1E16-4E09-A44F-1C8A5E74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67E5ED-A466-4E79-A830-362634A7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023155-ECE4-4F96-94F8-CC6C5303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12BD08-55C4-4779-AE90-9DDE5740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B59BCA-1848-43FC-BF04-84CACBFB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70E86F-A009-4E46-9B27-2C63168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1C08A2-97B9-43EF-B040-43C34F55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894E21-2204-4D58-9C8C-9068D541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973E14-658D-43B5-BE39-61ECB968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6DA7-DE70-4DEB-A269-9B7EABCF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997019-FD62-48C0-AC6E-0959D653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80A719-F16D-4189-B635-0369508B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E98A33-2CA7-4D5A-80B9-C3C83668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77E1FA-056C-4B66-96DF-EF56B8B7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45AE1F-5A23-4AD4-A544-80D5D18E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52AE21-5F3F-482C-878B-836115E3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CFD233-6F5F-4D98-9B1A-4B67269A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8DD42C-5881-42F4-9169-0520D8BA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B062C6-20CD-45EF-8EBA-19D37A2B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138A57-B826-462F-A16C-6DDD9C0D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BEB8B-BAD2-44A6-B2DF-0520C79B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E69321-5430-4D3A-88B8-04BFBB9B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947C82-A50B-43FC-914C-CDC04739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BB00E1-3F61-4C08-800C-11290665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397B6-BDE3-4554-9798-69EB9808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164B2-4EBF-4AB0-8CCD-8D5D7A29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9BE4-6AD0-4D30-AD5A-1AD16658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68E6-543D-4C3B-A84A-D4608F89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F965-383F-45B8-B88C-96EAF91F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42B79-0F76-4635-BD24-55749948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575-9117-4232-B33F-E5D858AD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3675B-626B-4F8B-A168-0F7E7222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AFB07-F58D-44EC-A7BE-61945C70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04F20-1E92-4042-A10F-7C263DC7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370D5-8B20-490B-8846-5A538CD9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B10E-5114-4B0A-9962-C1A0889E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23ACA-39AA-45CC-9C69-49034B5E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F03A1-B2FA-46F1-B666-06744312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ADA7F-F31E-4C71-A843-9876B399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40D87-3104-4B81-ABF5-4EFD4968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FEA28-B68D-47EC-AB7A-1B52270E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3A6-6DC2-411D-AA12-ED71C8FE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BDB0-BCFD-43E7-80E3-1180506E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287B0-5471-4EB6-A7E9-097A5CBB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9B7DA-CBEA-43AA-BB5B-E55FC2DF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28A2F-932E-40BF-9271-ACA72389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1A221-0959-40D6-80A0-91BC3A59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66B5A-638E-4C32-A494-951E5A3E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4CEA4-16A5-4B15-9E71-8AF35E82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F0F90-9FE3-406B-80FD-B932954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41C01-0191-4BEB-8849-DA81BA5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13F02-299A-4829-A3FF-9913A7D3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516-37DA-4A02-A90A-EA5B9799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501A7-4687-44AF-9620-F58CCFC8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1340A-0BAA-44C5-AD78-C61FC9C8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0721-2369-43C6-821B-C47EE8BE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E8B71-2AA0-4350-8C27-632C386B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93A95-2878-4981-869C-43053AEC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D6DA1-04E4-41B5-A389-9A86B20C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A678F-D774-4FA4-B311-2B2C3B6D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53D4D-433A-44E4-A163-D397F7BC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0E8EC-2989-4B2C-83FD-588F7B3D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0B90C-4C77-4003-9DE3-648247C5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728-8B78-4070-AC52-72AEAAB7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16229-F59C-468A-8081-E808F7C6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59676-6068-4CBE-9FBF-94A19288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3254-C962-4FB5-844E-9F39E91C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E2B59-6D91-47B1-8973-F7FD8564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9675A-5286-49A5-8885-97601392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10B66-D92E-4001-8169-EC0B8113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80BE0-169F-45CB-ADCA-56139D08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35421-7EB6-4379-AB91-8BB6841F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4309E-CEAB-4FDE-9A3A-0D7A0BDB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62A1C-77BD-4763-B024-30C73EBC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7C8-83F7-45B5-83B1-BE19696F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8EC1F-8205-4997-BE1E-9729D3AC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0C670-5F3E-4D68-A5B3-7A0C04A3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2A3D0-C9DE-40D3-846C-68D35CD5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26E05-AEDA-4BC4-AA28-BCB66BBF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D8870-9A5F-4A9B-BB45-BABD88AB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1F572-8B25-4C35-81B0-467E1A9C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BEC92-0127-4C44-9819-258ED8B0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A9230-18F9-4E6C-B525-4F1CD5CF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0C1F8-01FA-4BFF-8C55-428508AD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9E39E-9D31-4322-9408-ABE3AA2F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6FD5-A0F1-40B3-86E7-9E4A880037E6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08E0-5D7C-4E51-9736-6D9B5496610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8209-064A-4C96-8CD4-34A6CF633F83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B2D2-A143-43EB-9414-5397AF9EAD6B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9EE0-233D-4948-8984-765533DF7844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B8EE-384F-41B6-883E-490E57C27250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FD89-48F8-4B88-A128-BC83180F9B59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FFAF-D601-406B-A773-92BD212699FB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D307-FACC-45AD-BEEE-C316B84DF2A7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1600-FDFC-42FA-837A-A5952303BB62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1908-5BD4-431F-B0C7-6D485EA13647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E7CA-0360-4AAC-BEE4-161E6264CA0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9578-0BD8-47F5-9B8D-F359EE7784FE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F35C-5B7B-40C2-A411-20044EE0BD5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A797-17C0-4237-A7EA-5105E2F96B5F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605E-A405-4C64-A528-8569D8EED2CC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FD7F-6A56-4655-81E0-ADE4B9ED75B6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916B-0ABD-4825-B414-105FCD2D809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2201-4013-4224-9770-910881E8C79C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D995-5A8E-4173-A8D8-524537C7A55C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83F1-4580-40AB-A0B5-F5732A5597A5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90B7-25EC-42A9-A386-821F3F10D39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B3F6-4B53-41A9-824F-71AF6B6F6A09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D892-8757-4284-B556-8EF6EA5D8752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38FE-0640-462C-866A-081366676D3D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C21D-EBBA-4207-9EA0-23A32F6C00E2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3290-962C-4BE6-A8BD-34E2FA27139F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3849-B45E-458A-83C4-41FC3C86B32D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B12-0B8D-4494-8D19-730F448C0837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5C0E-E005-4744-ABE8-F365D4836D69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91F0-B6BB-4ACC-88E0-F902D49D4E53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419C-CBD8-482C-B69D-A2F394B5118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DA19-6DAA-42E0-A63A-BAE7EE2662BD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125C-2A0C-4F69-B086-B841B0A1D21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54EC-21CE-4BD8-BD7E-1BED02CD2E49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104F-1712-4127-B766-B28DDF3CA008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FCF9-2BCA-46BC-8F96-CA0FE6643C34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CCE3-00A7-4BDD-9A8B-17662356556D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086E-0768-4F22-96F4-1A2AA6F8A3AA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0EFB-FE84-4479-BA8A-EBA335AC18B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83B7-1AD0-4CEF-8739-C972DBC32AA5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0375-F88D-4AFD-A4ED-2F8DC0DD9392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A1C0-CBE7-4AFA-8478-2D508B31D137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5B68-CF95-48DA-B492-EBCEED90E19B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27CA-BC4C-4267-8E8A-49B02920000F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B468-25CB-4B21-B8B6-0D6481BFF9B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D9BD-BE61-4AF5-86CA-EB165AF4CBF3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2AC0-CDCB-4B09-AB58-086924A7C70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B05F-7D4A-4B1C-8524-03F1B898EE39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F88D-15DB-4143-9FA2-1FF11DA35B1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213B-89A4-4DAA-8857-03AED7D3614B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E424-7141-471A-A65B-74CFCFEE1C93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3B43-9B79-427F-AB83-A027E2FE4908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512C-236E-49D9-A906-D827C27811F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8BC5-7AD4-4300-BA1F-5E49DC54709C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F568-CF3F-4AB3-A025-E2DBF92FC45B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2AB4-C24B-4ADA-88C6-6B0A8C4540E3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A2E6-D450-4ADC-99F7-349DFD13278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50A6-4EBA-433F-932F-8019F6D95574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F356-ED0A-4B48-8A13-C33BA4EFF1C2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F2A8-1418-4DDB-A6E0-964C963B47D6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7A30-7B85-4537-9E8E-DC4D40A793B8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5054-7D83-41AB-A420-022342DF4368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F08C-EDF2-429B-8801-A864B5AA686C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EEE1-8CC7-4FD3-AC96-22E6BEF7DDE6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FEB1-EF14-4DD9-90EE-231245C32FF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C7D1-7705-47C4-9582-A93C2184DB5D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E831-0F0A-4832-929B-C29FB81A307A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CC7E-C202-4224-AC0E-0B504D5D9AA8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F427-C920-4564-AD6E-5500B0DAC5A8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9E91-305A-4947-AB83-0C14111AB6E1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6E72-5CBC-4E0C-B9FF-0D2E85B43AB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0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2"/>
          <a:stretch/>
        </p:blipFill>
        <p:spPr>
          <a:xfrm>
            <a:off x="4356000" y="0"/>
            <a:ext cx="690840" cy="690480"/>
          </a:xfrm>
          <a:prstGeom prst="rect">
            <a:avLst/>
          </a:prstGeom>
          <a:ln w="0">
            <a:noFill/>
          </a:ln>
        </p:spPr>
      </p:pic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080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Воспитание дружеских взаимоотношений дошкольников в труде.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1908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8989"/>
                </a:solidFill>
                <a:latin typeface="Calibri"/>
              </a:rPr>
              <a:t>Подготовила: Асабина Наталья Викторовна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p:transition advTm="3000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3 этап. </a:t>
            </a:r>
            <a:r>
              <a:rPr b="0" lang="ru-RU" sz="4400" spc="-1" strike="noStrike" u="sng">
                <a:solidFill>
                  <a:srgbClr val="ffc000"/>
                </a:solidFill>
                <a:uFillTx/>
                <a:latin typeface="Arial"/>
              </a:rPr>
              <a:t>Заключительный</a:t>
            </a:r>
            <a:br>
              <a:rPr sz="4400"/>
            </a:b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468000" y="1599840"/>
            <a:ext cx="82184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Чтение и обсуждение произведений «Ласковое слово» Воронкова; 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«Друг детства» Драгунский.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Рассказ детей: «Мой лучший друг».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Просмотр мультфильмов: «Малыш и Карлсон», «Приключения поросенка 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Фунтика», «Крошка Енот», «По дороге с облаками».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Обсуждение стихотворения: «Дружба –это…» Развитие 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речи, словарного запаса, объяснение слов: мир, счастье, ненастье, 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хранить, ценить, ценный дар, друзья, ссориться, жалость, вежливость, 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доброта, мириться, беда, выручить, защитить, друг, недруг.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Составление графика дежурств исходя из дружеских предпочтений детей.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Игры «Найди друга», «Найди пару», «Давайте говорить друг другу комплименты».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libri"/>
              </a:rPr>
              <a:t>Развлечение «Паровоз Дружбы»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1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3D8C-029E-4877-8A21-04244EA661D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  <p:pic>
        <p:nvPicPr>
          <p:cNvPr id="1519" name="Picture 2" descr="C:\Users\елена\Pictures\294.jpg"/>
          <p:cNvPicPr/>
          <p:nvPr/>
        </p:nvPicPr>
        <p:blipFill>
          <a:blip r:embed="rId1"/>
          <a:stretch/>
        </p:blipFill>
        <p:spPr>
          <a:xfrm>
            <a:off x="6804000" y="4869000"/>
            <a:ext cx="2340000" cy="1687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4 Этап: Итоговый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610920" y="1628280"/>
            <a:ext cx="8126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Развлечение «Паровоз Дружбы»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2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2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50B7-3A11-48AB-A193-404C9D09FC75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</p:spTree>
  </p:cSld>
  <p:transition spd="med" advTm="5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ahoma"/>
                <a:ea typeface="Arial"/>
              </a:rPr>
              <a:t>используются следующие методы и приемы:</a:t>
            </a:r>
            <a:br>
              <a:rPr sz="3600"/>
            </a:br>
            <a:endParaRPr b="0" lang="en-US" sz="3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250920" y="1125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•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Разыгрывание и анализ ситуации.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•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Совместная разработка правил поведения.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•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Игровые упражнения.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•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Чтение художественных произведений с последующим     анализом.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•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Анализ смыслового содержания пословиц, поговорок.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•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Игры. 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•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Calibri"/>
              </a:rPr>
              <a:t>Беседы.</a:t>
            </a:r>
            <a:endParaRPr b="0" lang="en-US" sz="2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2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2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A5E4-1C2A-4276-8567-662B51F8AAF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</p:spTree>
  </p:cSld>
  <p:transition spd="med" advTm="5000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400" spc="-1" strike="noStrike">
                <a:solidFill>
                  <a:srgbClr val="17365d"/>
                </a:solidFill>
                <a:latin typeface="Cambria"/>
                <a:ea typeface="Calibri"/>
              </a:rPr>
              <a:t>Серия ситуативных игр-историй</a:t>
            </a:r>
            <a:br>
              <a:rPr sz="2400"/>
            </a:br>
            <a:r>
              <a:rPr b="1" lang="ru-RU" sz="2400" spc="-1" strike="noStrike">
                <a:solidFill>
                  <a:srgbClr val="17365d"/>
                </a:solidFill>
                <a:latin typeface="Cambria"/>
                <a:ea typeface="Calibri"/>
              </a:rPr>
              <a:t> «Будем крепко мы дружить».</a:t>
            </a:r>
            <a:br>
              <a:rPr sz="2400"/>
            </a:b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2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148C-A586-40C9-8228-3BABAD91CA3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итуативная игра-история с элементами театрализации «Котик и Ежик на качелях»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итуативная игра-история «Машина».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Calibri"/>
              </a:rPr>
              <a:t>Ситуативная игра-история «Случай в малине».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Cambria"/>
                <a:ea typeface="Calibri"/>
              </a:rPr>
              <a:t>Ситуативная игра-история «Помощь Бельчонку»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p:transition spd="med" advTm="5000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4061"/>
                </a:solidFill>
                <a:latin typeface="Cambria"/>
                <a:ea typeface="Calibri"/>
              </a:rPr>
              <a:t>Беседы на формирование дружеских отношений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684360" y="1557000"/>
            <a:ext cx="81468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«Урок дружбы».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«Дели хлеб пополам, хоть и голоден сам».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«Кто кого обидел?».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« Обиженные друзья».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« С чего начинается дружба».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« Хорошие товарищи».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« Кто щедрый, тот в дружбе первый,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А кто жаден, тот в дружбе неладен».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3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5C02-2C99-4FE0-BC27-EA7B7EC68B3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36" name="Прямоугольник 4"/>
          <p:cNvSpPr/>
          <p:nvPr/>
        </p:nvSpPr>
        <p:spPr>
          <a:xfrm>
            <a:off x="3796560" y="325908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nnaLightCTT"/>
              </a:rPr>
              <a:t>«</a:t>
            </a: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pic>
        <p:nvPicPr>
          <p:cNvPr id="1537" name="Picture 2" descr="C:\Users\елена\Pictures\1310593667_detskayadrugba-b.jpg"/>
          <p:cNvPicPr/>
          <p:nvPr/>
        </p:nvPicPr>
        <p:blipFill>
          <a:blip r:embed="rId1"/>
          <a:stretch/>
        </p:blipFill>
        <p:spPr>
          <a:xfrm>
            <a:off x="6732720" y="3789360"/>
            <a:ext cx="2232000" cy="2735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65d"/>
                </a:solidFill>
                <a:latin typeface="Cambria"/>
                <a:ea typeface="Calibri"/>
              </a:rPr>
              <a:t>КАРТОТЕКА ЛИТЕРАТУРНЫХ ПРОИЗВЕДЕНИЙ О ДРУЖБЕ.</a:t>
            </a:r>
            <a:br>
              <a:rPr sz="1600"/>
            </a:b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1539" name="Picture 2" descr=""/>
          <p:cNvPicPr/>
          <p:nvPr/>
        </p:nvPicPr>
        <p:blipFill>
          <a:blip r:embed="rId1"/>
          <a:stretch/>
        </p:blipFill>
        <p:spPr>
          <a:xfrm>
            <a:off x="3575160" y="1174680"/>
            <a:ext cx="5029200" cy="3622680"/>
          </a:xfrm>
          <a:prstGeom prst="rect">
            <a:avLst/>
          </a:prstGeom>
          <a:ln w="0">
            <a:noFill/>
          </a:ln>
        </p:spPr>
      </p:pic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1D2B-0B80-44FE-B1C6-F50C6E30330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  <p:pic>
        <p:nvPicPr>
          <p:cNvPr id="1543" name="Рисунок 9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97000" cy="4489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2929"/>
                </a:solidFill>
                <a:latin typeface="Calibri"/>
              </a:rPr>
              <a:t>Взаимодействие с родителями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45720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Консультация «Воспитание у детей дружеских взаимоотношений «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Консультация «Воспитание дружеских отношений в игре»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Консультация  «О дружбе»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4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AAA-2810-44F9-BD53-C5AC82C78C60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  <p:pic>
        <p:nvPicPr>
          <p:cNvPr id="1547" name="Picture 2" descr="C:\Users\елена\Pictures\vSkqPVvr1iiBzlHlXIehf1.jpg"/>
          <p:cNvPicPr/>
          <p:nvPr/>
        </p:nvPicPr>
        <p:blipFill>
          <a:blip r:embed="rId1"/>
          <a:stretch/>
        </p:blipFill>
        <p:spPr>
          <a:xfrm>
            <a:off x="5940360" y="3573360"/>
            <a:ext cx="2232000" cy="2105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0066"/>
                </a:solidFill>
                <a:latin typeface="Bookman Old Style"/>
              </a:rPr>
              <a:t>Уровень сформированности у  детей нравственных представлений.</a:t>
            </a:r>
            <a:br>
              <a:rPr sz="3600"/>
            </a:br>
            <a:endParaRPr b="0" lang="en-US" sz="3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49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5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C89C-04BF-4D25-8244-B996440C769A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  <p:pic>
        <p:nvPicPr>
          <p:cNvPr id="1551" name="Picture 14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570800" cy="391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Результатом осуществления проекта стали:</a:t>
            </a:r>
            <a:br>
              <a:rPr sz="3200"/>
            </a:b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95280" y="126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- повышение уровня сформированности коммуникативных навыков у детей, культуры межличностного общения и интереса к внутреннему миру другого ребенка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- формирование у детей устойчивой потребности к общению друг с другом, взаимопомощи,  поддержки, а также к совместной деятельности.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- Взаимопроникновение видов деятельности друг в друга, или, иначе говоря, их интеграция, даёт высокую результативность.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Calibri"/>
              </a:rPr>
              <a:t>Перспективы дальнейшей работы</a:t>
            </a: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</a:rPr>
              <a:t>Цель: Продолжать развивать полученные навыки эффективного взаимодействия детей через понятие «Дружба» используя  методы и приемы.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9026-09EE-4D14-A792-A631E926B270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</p:spTree>
  </p:cSld>
  <p:transition spd="med" advTm="5000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215120" y="428616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476360" y="1268280"/>
            <a:ext cx="7112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Спасибо за внимание</a:t>
            </a: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411800" y="5472000"/>
            <a:ext cx="426384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ba8989"/>
              </a:solidFill>
              <a:latin typeface="Calibri"/>
            </a:endParaRPr>
          </a:p>
        </p:txBody>
      </p:sp>
      <p:pic>
        <p:nvPicPr>
          <p:cNvPr id="1559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562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6000" y="0"/>
            <a:ext cx="690840" cy="69048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215120" y="428616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601"/>
              </a:spcBef>
              <a:spcAft>
                <a:spcPts val="10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 «Дружба </a:t>
            </a:r>
            <a:r>
              <a:rPr b="0" lang="ru-RU" sz="3200" spc="-1" strike="noStrike">
                <a:solidFill>
                  <a:srgbClr val="990000"/>
                </a:solidFill>
                <a:latin typeface="Symbol"/>
                <a:ea typeface="Symbol"/>
              </a:rPr>
              <a:t></a:t>
            </a: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самое необходимое для жизни, так как никто не пожелает себе жизни без друзей, даже если б он имел все остальные блага» (Аристотель). </a:t>
            </a:r>
            <a:br>
              <a:rPr sz="2800"/>
            </a:b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3780000" y="4437000"/>
            <a:ext cx="426384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ba8989"/>
              </a:solidFill>
              <a:latin typeface="Calibri"/>
            </a:endParaRPr>
          </a:p>
        </p:txBody>
      </p:sp>
      <p:pic>
        <p:nvPicPr>
          <p:cNvPr id="1482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6000" y="0"/>
            <a:ext cx="690840" cy="69048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755280" y="1600200"/>
            <a:ext cx="793116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пособствовать созданию условий для формирования положительного и доброжелательного отношения между сверстниками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8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48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1475-4E84-4DCE-A647-53E570D4E37B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  <p:pic>
        <p:nvPicPr>
          <p:cNvPr id="1490" name="Picture 6" descr="C:\Users\елена\Pictures\Poteshkisammalenkiy (1).jpg"/>
          <p:cNvPicPr/>
          <p:nvPr/>
        </p:nvPicPr>
        <p:blipFill>
          <a:blip r:embed="rId1"/>
          <a:stretch/>
        </p:blipFill>
        <p:spPr>
          <a:xfrm>
            <a:off x="3851280" y="3573360"/>
            <a:ext cx="4105440" cy="3095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86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Актуальность :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610920" y="1341000"/>
            <a:ext cx="7993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  <a:ea typeface="Calibri"/>
              </a:rPr>
              <a:t>Актуальность работы обусловлена необходимостью формирования дружеских взаимоотношений, развитию нравственных качеств у детей старшего дошкольного возраста, т. к. в настоящее время Россия переживает один из непростых исторических периодов. И самая большая опасность, подстерегающее наше общество сегодня – не в развале экономики, не в смене политической системы, а в разрушении личности. Ныне материальные ценности доминируют над духовными, поэтому у детей искажены представления о доброте, милосердии, великодушии, справедливости, взаимопомощи, дружбе</a:t>
            </a:r>
            <a:endParaRPr b="0" lang="en-US" sz="2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9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4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9DB5-051F-44F6-9C82-F7ADDA898D3A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дачи :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468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  <a:ea typeface="Calibri"/>
              </a:rPr>
              <a:t>Дать понятие «Что такое Дружба?»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  <a:ea typeface="Calibri"/>
              </a:rPr>
              <a:t>Закрепить правила общения детей друг с другом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  <a:ea typeface="Calibri"/>
              </a:rPr>
              <a:t>Побуждать детей оказывать поддержку друг другу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  <a:ea typeface="Calibri"/>
              </a:rPr>
              <a:t>Вызвать желание детей делать друг другу подарк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  <a:ea typeface="Calibri"/>
              </a:rPr>
              <a:t>Формировать умение замечать положительные качества другого человека и говорить о них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  <a:ea typeface="Calibri"/>
              </a:rPr>
              <a:t>Формировать умения правильно оценивать свои поступки и своих друзей.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  <a:ea typeface="Calibri"/>
              </a:rPr>
              <a:t>Побуждать детей к взаимопомощ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  <a:ea typeface="Calibri"/>
              </a:rPr>
              <a:t>Активизировать детей к совместной деятельности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alibri"/>
                <a:ea typeface="Calibri"/>
              </a:rPr>
              <a:t>Воспитывать умение внимательно выслушивать товарища, не перебивать и не повторять сказанное им;</a:t>
            </a: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9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49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F4FB-6178-4494-A178-DDC3FCDF34A8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</p:spTree>
  </p:cSld>
  <p:transition spd="med" advTm="5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едполагаемые результаты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539640" y="1125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У детей сформируется понятие о «дружбе»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Дошкольники научатся практиковать навыки щедрости, взаимопомощи при  решении проблем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8769-6AA3-45EC-84CA-CFC40B9F0C2A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</p:spTree>
  </p:cSld>
  <p:transition spd="med" advTm="5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проекта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395280" y="162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циально-личностный 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Долгосрочный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4425-4708-431A-A52C-88F5F73C2E8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</p:spTree>
  </p:cSld>
  <p:transition spd="med" advTm="5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 txBox="1"/>
          <p:nvPr/>
        </p:nvSpPr>
        <p:spPr>
          <a:xfrm>
            <a:off x="539280" y="1599840"/>
            <a:ext cx="814716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Формирование дружеских отношений между детьми с помощью игр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mbria"/>
                <a:ea typeface="Calibri"/>
              </a:rPr>
              <a:t>Серия ситуативных игр-историй «Будем крепко мы дружить»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еседы на формирование дружеских отношений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0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0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6309-1298-45F1-A2B7-B016A3ACECC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ы мероприятий:</a:t>
            </a:r>
            <a:br>
              <a:rPr sz="44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 этап. 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одготовительный</a:t>
            </a:r>
            <a:br>
              <a:rPr sz="1800"/>
            </a:b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p:transition spd="med" advTm="5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II этап: работа по проекту</a:t>
            </a:r>
            <a:br>
              <a:rPr sz="4400"/>
            </a:b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755640" y="1600200"/>
            <a:ext cx="77040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чтение художественной литературы, просмотр и анализ иллюстрационного материала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вовлечение родителей в данный проект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актические упражнения, задания, разыгрывания и анализ ситуации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1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AnnaLightCTT"/>
            </a:endParaRPr>
          </a:p>
        </p:txBody>
      </p:sp>
      <p:sp>
        <p:nvSpPr>
          <p:cNvPr id="15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44A3-27DD-4272-8FCE-C6DE2EBB7A35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nnaLightCTT"/>
            </a:endParaRPr>
          </a:p>
        </p:txBody>
      </p:sp>
    </p:spTree>
  </p:cSld>
  <p:transition spd="med"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42:26Z</dcterms:created>
  <dc:creator>QWE</dc:creator>
  <dc:description>http://aida.ucoz.ru</dc:description>
  <dc:language>en-US</dc:language>
  <cp:lastModifiedBy>Айдар</cp:lastModifiedBy>
  <dcterms:modified xsi:type="dcterms:W3CDTF">2021-10-28T20:23:47Z</dcterms:modified>
  <cp:revision>73</cp:revision>
  <dc:subject/>
  <dc:title>Тема: « Удивляюсь, злюсь, боюсь, хвастаюсь и радуюсь»   (эмоциональное воспитание дошкольников)</dc:title>
</cp:coreProperties>
</file>