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4B3E-8614-4DBE-AD09-FA6055CC5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8528-1378-4ADB-AE8C-602D3E5A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90D5-879B-429A-B53C-58D43D8BA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9933-CCAA-4FB0-8DB2-A591A832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1B20-5A15-4D06-A1DC-B44996B58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F4BB-0FA7-47D9-9A8A-1B8DEFEE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2D83-01B8-454F-A02E-853B94F4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0C85-5BF7-491B-AD26-5B9508E3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2F8D-5DB1-4E49-B590-ED8CDA7F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E4B2-F27B-43AE-81E7-5DFC61A3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12F6-8BA2-4C91-8E24-4508A649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812A-AF94-4B73-8336-0D00FB99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0384-A8BF-4EC7-9797-205512DA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CEA8-A22A-472D-9CD7-BDC6CA93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A378-AB50-4250-A2F4-D66057B6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BB30-B2AC-43AC-A513-D4DF98291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D6E6-7373-4B08-A4C5-FF8001A77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21F88-F4DC-4DDE-B832-C89DCF67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D79E9-108C-4F18-96F4-DAD79176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9424F-FC68-41F4-9A1C-85BCBDD1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2844A-E0AA-4E35-A139-C0815FEC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43CD6-8CCC-4CBE-9442-6E9A78A9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C7B3-9B8B-4B4C-9BEB-29A9F2F2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5CCC2-0952-4765-8D10-9897FE5F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9A938-3C94-4492-A385-E3E442E4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2342E-FC9E-40C3-866A-85026894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FAD8A-83CD-4467-910A-A10BEE5A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7F9D4-5581-4C8B-BA5F-5F5F7A2E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B4B37-62D1-4CE8-899A-DA87D0FC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9D83B-0473-4D8B-938C-731488E7E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0C37C-19DE-4C1C-9277-8D041585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4B9A8-2B68-4284-B3BE-39079860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3F80D-57EF-4072-8A27-5DA08413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3C80-B53D-4C02-9071-DCFAE93E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F3E76-F78E-4469-8D75-0C03901E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E7CED-AB5D-4987-B52D-A060930F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52103-16D3-4E12-BCDC-E0B2FFA2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E5437-1836-48C3-B91C-2FD91668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781D9-B9BC-4522-9289-FFCDBF18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5E79F-6B9F-4742-8F19-59B79E1F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B2A2A-3D2A-40E4-9B47-A2731EC1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4D53D-7A54-4032-9D3B-515075849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43653-5D69-43A3-ABF3-A5E812BE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17F55-887D-4F32-B84B-9BE4289B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F532-2650-4224-A632-ED7B5EFC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EA48F-F520-4E2D-9691-7CED2C50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55B99-94D9-424D-A0E0-BAE53C6C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0D6EF-0CEC-4714-88B6-3E8FC6EA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9B3C0-4FD7-4108-B872-A5D11735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DC007-6A98-492E-86B9-A3EEF179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02B46-37E0-4D5C-92FA-73AC5B06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8A633-A07D-4779-80BA-82AA26BD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4E319-1903-42B6-A537-7E920B39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DB5F4-585D-458D-AA81-FAD027E5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E1A0C-75F4-4899-9100-A0B047959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8BF4-A0DF-4CBA-97D9-A273284A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94C2C-24DA-4D18-9CF3-F6F6EAC3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DB8E39-FBB1-4DF5-A284-D6BCDF13A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9B5CB3-7A32-47EE-A425-2476A3EA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A4E4D9-5ECB-47D1-AB0C-720D885B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F5A40A-FF5D-4D61-97CB-FA6172E4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32E19A-1D34-4C9B-AD8E-DAA76891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6ECF2A-A45E-478A-965F-8D060263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4197D3-A574-49D9-97A6-D8BFFA0E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A2D7B1-2B54-4A1E-8D86-1DECB7D8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793D85-3F70-4013-9A94-31219054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52E5-0DBF-4BA0-A63E-411AFA6C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B2E0B6-2DCC-4D12-B890-1CE80E74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B159A5-F97E-49B0-93F1-25F2C5367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D0BF66-2C0F-42EA-A392-827CFAB9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598EF-6D96-4FF8-B77C-F9EB05199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D4094-7EE8-4E1F-8DEA-E6813E6F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3559C-8414-4791-BC73-5834A927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0A87C-0D60-4E89-AABD-1FC26758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DA2EA-DF9B-4F01-B299-A844F300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80836-3181-4A46-93C2-262BDF3E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5881E-A2B7-4508-8D94-CB97F34D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096D-B83C-4573-BDF8-9A0C80B9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A49DE-E394-4A42-A7D7-E448E509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42F4F-18F0-47EC-99EE-8C94D05F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AC1BD-507B-419A-9114-55B58D47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33B48-53B9-46CE-8F68-C8CCDDCA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97395-25EF-4B01-9F94-917F55A1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7589-CC28-405C-A22C-A7DD309F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3D26-FEBD-4464-843D-E9A3327FFCF3}" type="slidenum"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2CB1-46EF-4175-9A81-D014498FFD2D}" type="slidenum">
              <a:rPr b="0" lang="ru-RU" sz="2800" spc="-1" strike="noStrike">
                <a:solidFill>
                  <a:srgbClr val="47534c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C078-A40B-46D0-A3A0-1003E9F06B7C}" type="slidenum"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5CC6-D3DD-4E94-A099-2203D3DA69D4}" type="slidenum"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36BB-616A-4018-8037-BF460A00D37A}" type="slidenum"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22E2-A20B-49E0-8323-74399AA18A32}" type="slidenum"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296F-03D1-4E35-B484-A149900CE594}" type="slidenum"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>
              <a:lnSpc>
                <a:spcPct val="10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рал, Урал, твои просторы </a:t>
            </a:r>
            <a:br>
              <a:rPr sz="3600"/>
            </a:b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лнуют сердце мне всегда, </a:t>
            </a:r>
            <a:br>
              <a:rPr sz="3600"/>
            </a:b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вои леса, озёра, горы </a:t>
            </a:r>
            <a:br>
              <a:rPr sz="3600"/>
            </a:b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Я не забуду никогда. 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Филипп Голубничий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5520" y="407880"/>
            <a:ext cx="8261280" cy="424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2060"/>
                </a:solidFill>
                <a:latin typeface="Book Antiqua"/>
              </a:rPr>
              <a:t>СПАСИБО ЗА ВНИМАНИЕ!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457200" y="1752120"/>
            <a:ext cx="822960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57200" y="1752120"/>
            <a:ext cx="8229600" cy="43736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F:\УРОК ШУТОВ\poplyanova1.jpg"/>
          <p:cNvPicPr/>
          <p:nvPr/>
        </p:nvPicPr>
        <p:blipFill>
          <a:blip r:embed="rId2"/>
          <a:stretch/>
        </p:blipFill>
        <p:spPr>
          <a:xfrm>
            <a:off x="539640" y="388800"/>
            <a:ext cx="3600720" cy="54054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F:\УРОК ШУТОВ\yarushin.jpg"/>
          <p:cNvPicPr/>
          <p:nvPr/>
        </p:nvPicPr>
        <p:blipFill>
          <a:blip r:embed="rId3"/>
          <a:stretch/>
        </p:blipFill>
        <p:spPr>
          <a:xfrm>
            <a:off x="4510080" y="388800"/>
            <a:ext cx="4132440" cy="5405400"/>
          </a:xfrm>
          <a:prstGeom prst="rect">
            <a:avLst/>
          </a:prstGeom>
          <a:ln w="0">
            <a:noFill/>
          </a:ln>
        </p:spPr>
      </p:pic>
      <p:sp>
        <p:nvSpPr>
          <p:cNvPr id="337" name="TextBox 3"/>
          <p:cNvSpPr/>
          <p:nvPr/>
        </p:nvSpPr>
        <p:spPr>
          <a:xfrm>
            <a:off x="928440" y="626904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Елена Поплянова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TextBox 4"/>
          <p:cNvSpPr/>
          <p:nvPr/>
        </p:nvSpPr>
        <p:spPr>
          <a:xfrm>
            <a:off x="5324040" y="6269040"/>
            <a:ext cx="22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Валерий Ярушин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457200" y="1752120"/>
            <a:ext cx="8229600" cy="17478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F:\УРОК ШУТОВ\семенова.jpg"/>
          <p:cNvPicPr/>
          <p:nvPr/>
        </p:nvPicPr>
        <p:blipFill>
          <a:blip r:embed="rId2"/>
          <a:srcRect l="32203" t="0" r="4757" b="0"/>
          <a:stretch/>
        </p:blipFill>
        <p:spPr>
          <a:xfrm>
            <a:off x="493560" y="620640"/>
            <a:ext cx="4295880" cy="44640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F:\УРОК ШУТОВ\шкербина.jpg"/>
          <p:cNvPicPr/>
          <p:nvPr/>
        </p:nvPicPr>
        <p:blipFill>
          <a:blip r:embed="rId3"/>
          <a:stretch/>
        </p:blipFill>
        <p:spPr>
          <a:xfrm>
            <a:off x="5024520" y="584280"/>
            <a:ext cx="3922560" cy="4537080"/>
          </a:xfrm>
          <a:prstGeom prst="rect">
            <a:avLst/>
          </a:prstGeom>
          <a:ln w="0">
            <a:noFill/>
          </a:ln>
        </p:spPr>
      </p:pic>
      <p:sp>
        <p:nvSpPr>
          <p:cNvPr id="343" name="Прямоугольник 4"/>
          <p:cNvSpPr/>
          <p:nvPr/>
        </p:nvSpPr>
        <p:spPr>
          <a:xfrm>
            <a:off x="1332000" y="54421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Людмила Семёнова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TextBox 5"/>
          <p:cNvSpPr/>
          <p:nvPr/>
        </p:nvSpPr>
        <p:spPr>
          <a:xfrm>
            <a:off x="5748480" y="5442120"/>
            <a:ext cx="24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Татьяна Шкербина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604800" y="2565360"/>
            <a:ext cx="4687920" cy="188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 Antiqua"/>
              </a:rPr>
              <a:t>ЖИЗНЬ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Book Antiqua"/>
              </a:rPr>
              <a:t>И ТВОРЧЕСТВО И. И. ШУТОВА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47" name="Picture 2" descr="F:\УРОК ШУТОВ\шутов.jpg"/>
          <p:cNvPicPr/>
          <p:nvPr/>
        </p:nvPicPr>
        <p:blipFill>
          <a:blip r:embed="rId1"/>
          <a:srcRect l="0" t="-14891" r="0" b="10303"/>
          <a:stretch/>
        </p:blipFill>
        <p:spPr>
          <a:xfrm>
            <a:off x="5386320" y="0"/>
            <a:ext cx="331164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 Antiqua"/>
              </a:rPr>
              <a:t>ОТКРЫТИЕ МЕМОРИАЛЬНОЙ ДОСКИ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21 октября 2017 года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50" name="Picture 2" descr="F:\УРОК ШУТОВ\IMG_3437.JPG"/>
          <p:cNvPicPr/>
          <p:nvPr/>
        </p:nvPicPr>
        <p:blipFill>
          <a:blip r:embed="rId1"/>
          <a:stretch/>
        </p:blipFill>
        <p:spPr>
          <a:xfrm>
            <a:off x="250920" y="3429000"/>
            <a:ext cx="5113080" cy="28735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F:\УРОК ШУТОВ\доска.jpg"/>
          <p:cNvPicPr/>
          <p:nvPr/>
        </p:nvPicPr>
        <p:blipFill>
          <a:blip r:embed="rId2"/>
          <a:stretch/>
        </p:blipFill>
        <p:spPr>
          <a:xfrm>
            <a:off x="4859280" y="1557360"/>
            <a:ext cx="38419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2060"/>
                </a:solidFill>
                <a:latin typeface="Book Antiqua"/>
              </a:rPr>
              <a:t>ПЕСНЯ «ЛЮБЛЮ УРАЛ»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457200" y="1752120"/>
            <a:ext cx="8229600" cy="43736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F:\УРОК ШУТОВ\3290534_large.jpg"/>
          <p:cNvPicPr/>
          <p:nvPr/>
        </p:nvPicPr>
        <p:blipFill>
          <a:blip r:embed="rId2"/>
          <a:stretch/>
        </p:blipFill>
        <p:spPr>
          <a:xfrm>
            <a:off x="623880" y="1844640"/>
            <a:ext cx="79232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0"/>
            <a:ext cx="82612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200" spc="-1" strike="noStrike">
                <a:solidFill>
                  <a:srgbClr val="002060"/>
                </a:solidFill>
                <a:latin typeface="Book Antiqua"/>
              </a:rPr>
              <a:t>ПЕСНИ И. И. ШУТОВА ЛЮБЯТ , ИСПОЛНЯЮТ  И СЕГОДНЯ ПРОФЕССИОНАЛЫ И САМОДЕЯТЕЛЬНЫЕ  КОЛЛЕКТИВЫ</a:t>
            </a:r>
            <a:endParaRPr b="0" lang="en-US" sz="2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752120"/>
            <a:ext cx="8229600" cy="43736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F:\УРОК ШУТОВ\IMG_3478.JPG"/>
          <p:cNvPicPr/>
          <p:nvPr/>
        </p:nvPicPr>
        <p:blipFill>
          <a:blip r:embed="rId2"/>
          <a:srcRect l="0" t="0" r="31984" b="0"/>
          <a:stretch/>
        </p:blipFill>
        <p:spPr>
          <a:xfrm>
            <a:off x="731880" y="1440000"/>
            <a:ext cx="2987640" cy="24685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F:\УРОК ШУТОВ\IMG_3520.JPG"/>
          <p:cNvPicPr/>
          <p:nvPr/>
        </p:nvPicPr>
        <p:blipFill>
          <a:blip r:embed="rId3"/>
          <a:stretch/>
        </p:blipFill>
        <p:spPr>
          <a:xfrm>
            <a:off x="4127400" y="1550880"/>
            <a:ext cx="3998880" cy="22464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" descr="F:\УРОК ШУТОВ\люблю урал.jpg"/>
          <p:cNvPicPr/>
          <p:nvPr/>
        </p:nvPicPr>
        <p:blipFill>
          <a:blip r:embed="rId4"/>
          <a:stretch/>
        </p:blipFill>
        <p:spPr>
          <a:xfrm>
            <a:off x="324000" y="4051440"/>
            <a:ext cx="3803400" cy="25351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F:\УРОК ШУТОВ\оренбург хор.jpg"/>
          <p:cNvPicPr/>
          <p:nvPr/>
        </p:nvPicPr>
        <p:blipFill>
          <a:blip r:embed="rId5"/>
          <a:stretch/>
        </p:blipFill>
        <p:spPr>
          <a:xfrm>
            <a:off x="4643280" y="3975120"/>
            <a:ext cx="358308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2060"/>
                </a:solidFill>
                <a:latin typeface="Book Antiqua"/>
              </a:rPr>
              <a:t>«ЛЮБЛЮ УРАЛ»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Урал, Урал, твои просторы 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Волнуют сердце мне всегда, 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Твои леса, озёра, горы 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Я не забуду никогда. 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Урал, Урал, я с детства знаю 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Твоих умельцев-мастеров, 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Люблю вершины Таганая, 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Огни уральских городов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3" name="Picture 2" descr="F:\УРОК ШУТОВ\b988da4s-960.jpg"/>
          <p:cNvPicPr/>
          <p:nvPr/>
        </p:nvPicPr>
        <p:blipFill>
          <a:blip r:embed="rId1"/>
          <a:stretch/>
        </p:blipFill>
        <p:spPr>
          <a:xfrm>
            <a:off x="5219640" y="4149720"/>
            <a:ext cx="3556080" cy="2303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F:\УРОК ШУТОВ\111242816_large_980493997.jpg"/>
          <p:cNvPicPr/>
          <p:nvPr/>
        </p:nvPicPr>
        <p:blipFill>
          <a:blip r:embed="rId2"/>
          <a:stretch/>
        </p:blipFill>
        <p:spPr>
          <a:xfrm>
            <a:off x="5634000" y="1700280"/>
            <a:ext cx="31417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ИТОГ УРОКА: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Что нового вы сегодня узнали?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С творчеством какого композитора вы сегодня познакомились?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Какое музыкальное произведение мы послушали?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Что на уроке вам понравилось больше всего?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9T09:42:36Z</dcterms:created>
  <dc:creator>Fizik</dc:creator>
  <dc:description/>
  <dc:language>en-US</dc:language>
  <cp:lastModifiedBy>HP</cp:lastModifiedBy>
  <dcterms:modified xsi:type="dcterms:W3CDTF">2017-11-09T14:48:06Z</dcterms:modified>
  <cp:revision>4</cp:revision>
  <dc:subject/>
  <dc:title>Презентация PowerPoint</dc:title>
</cp:coreProperties>
</file>