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950-5489-4954-8EAD-AF4C2093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F04-B6AB-485E-B37F-B145A82B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F05-4F28-4465-AAF3-09D95944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575-2C24-4C7B-B2EA-6EDAEF7A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FAF7-3A02-4105-9C11-7406F098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A495-2C80-4E29-A923-C58B5850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74B3-5911-4E13-920C-4F48FCA5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3F3E-E71E-4D78-9211-4D6CF18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57E2-CBFC-418C-B4BC-C1D6E1D8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29BE-84BE-4376-944E-7DBABE2F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7C0F-3225-4ABA-B53C-672341D9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242-BB69-4D2A-BCE2-3FE314B9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0952-F307-43D6-A20C-16B27261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FD36-AFF7-4B89-895A-979BA729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EA69-052D-4B24-A223-C82E1085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F6E6-200D-44F9-A0AC-0EE02BC3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887C-FBB5-4E42-AECE-01C9356A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7C0-6925-4334-AFEA-36B714AF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04D-2321-4654-83F2-DCE5964F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B29-0758-48C8-801A-00E24235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0D3-B887-4154-A2A3-5A6DC0D2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F2D-5DEE-43B4-8EF0-C61702C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DC8-5E62-4CDC-9E1E-1C8D14A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F54-08B0-4954-8BED-B2FB65AD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60E7-0269-479E-8F09-DC7310F62C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EBB-BDE1-46C9-A2B0-8B497F47C7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Технология опыта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своение сенсорных эталонов в работе с детьми младшего дошкольного возрас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Октяб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1600200"/>
          <a:ext cx="8001000" cy="46353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ч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комить детей с цветами спектра путём подбора по образцу. Упражнять в названии четырёх основных цвет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комить детей с квадратом. Сравнить его с кругом при обследовании его пальцем (у квадрата есть уголки, у круга – не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еплять представления об относительной величине предметов, упражнять детей в словесном обозначении величины предм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б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 методике М. Монтессор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олжать развивать координацию движений, знакомить детей с условиями жизни растений, правилами ухода за ни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838080" y="19810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20968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209680"/>
            <a:ext cx="4572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198108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19520"/>
            <a:ext cx="9907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8195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114800"/>
            <a:ext cx="9907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4343400"/>
            <a:ext cx="457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Октяб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447920"/>
          <a:ext cx="8229600" cy="5230800"/>
        </p:xfrm>
        <a:graphic>
          <a:graphicData uri="http://schemas.openxmlformats.org/drawingml/2006/table">
            <a:tbl>
              <a:tblPr/>
              <a:tblGrid>
                <a:gridCol w="1143000"/>
                <a:gridCol w="2666880"/>
                <a:gridCol w="2667240"/>
                <a:gridCol w="175248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местная деятельность воспитателя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средственно 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Разложи по цвету»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Дорожки для матрёшки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вижная игра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Разноцветные самолёты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Листья жёлтые летят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Цветные клубочки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комство с цветом предметов в процессе игр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«Геометрическое лото»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Что лежит в мешочке?»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ому какая форма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Цветные клубочки»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олечки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Мячи большие и маленькие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Бублики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комство с предметами круглой формы в процессе самостоятельной игровой деятельност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строим заборчик»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Найди такое же колечко»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Дорожки для матрёшк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Мячи большие и маленькие»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Ягоды и яблочки на блюдечке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большими и маленькими мяч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Нояб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153280" cy="5103720"/>
        </p:xfrm>
        <a:graphic>
          <a:graphicData uri="http://schemas.openxmlformats.org/drawingml/2006/table">
            <a:tbl>
              <a:tblPr/>
              <a:tblGrid>
                <a:gridCol w="3301920"/>
                <a:gridCol w="4851360"/>
              </a:tblGrid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ч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еплять представления о шести цветах. Научить детей выделять цвета, отвлекаясь от других призна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 детей различать  и правильно называть круг и квадрат; упражнять в обследовании моделей фигур пальцем и прослеживанием взглядом за движением ру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ь представление об отношениях по величине между плоскими и объёмными предметами, закреплять словесные обозначения величины предм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б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 методике М. Монтессор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 детей работать рамками – застёжками (завязывание бантов, застёгивание ремешков и пуговиц). Развивать моторику, координацию движ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914400" y="2209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6668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666880"/>
            <a:ext cx="38088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2666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2209680"/>
            <a:ext cx="380880" cy="3812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209680"/>
            <a:ext cx="380880" cy="381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352680"/>
            <a:ext cx="9907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3526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4724280"/>
            <a:ext cx="6094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572000"/>
            <a:ext cx="914400" cy="8380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Нояб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447920"/>
          <a:ext cx="8229600" cy="5180040"/>
        </p:xfrm>
        <a:graphic>
          <a:graphicData uri="http://schemas.openxmlformats.org/drawingml/2006/table">
            <a:tbl>
              <a:tblPr/>
              <a:tblGrid>
                <a:gridCol w="1295280"/>
                <a:gridCol w="2210040"/>
                <a:gridCol w="3047760"/>
                <a:gridCol w="16765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местная деятельность воспитателя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средственно 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Воздушные шар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расивые воздушные шары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Разноцветные колёс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Зажжём разноцветные огонь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детей в сухом бассей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Геометрическое лото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Чудесный мешоче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 «шарики и куби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Шарики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Орешки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ечень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ые строительн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ставь по рост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Укрась платье колечкам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Ягоды и яблоки в корзин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пирамид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Декаб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600200"/>
          <a:ext cx="8229600" cy="521964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ч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комить детей  с названием шести цветов спектра. Учить сравнивать предметы по цвету, путём прикладывания друг к друг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комить детей  с треугольником. Упражнять в различении квадрата и треугольника. Продолжать обучать приёму об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епить представления об отношениях по величине между плоскими и объёмными предметами. Научить располагать в порядке убывания величины четыре предме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б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 методике М. Монтессор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олжать работу с рамками - застёжками. Упражнять в наматывании верёвочки на катушку. Развивать моторику, координацию движений. Воспитывать желание выполнять до конца начатую рабо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95280" y="21337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25909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133720"/>
            <a:ext cx="380880" cy="3808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590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2133720"/>
            <a:ext cx="38088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59092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200400"/>
            <a:ext cx="76212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3200400"/>
            <a:ext cx="914400" cy="7621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44956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267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4724280"/>
            <a:ext cx="609840" cy="6098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43434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3808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4648320"/>
            <a:ext cx="838080" cy="76176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Декаб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447920"/>
          <a:ext cx="8153280" cy="4954320"/>
        </p:xfrm>
        <a:graphic>
          <a:graphicData uri="http://schemas.openxmlformats.org/drawingml/2006/table">
            <a:tbl>
              <a:tblPr/>
              <a:tblGrid>
                <a:gridCol w="1276200"/>
                <a:gridCol w="2381400"/>
                <a:gridCol w="2362320"/>
                <a:gridCol w="2133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местная деятельность воспитателя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средственно 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Воздушные шары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Окраска воды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обери букет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Бус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гремуш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мозаи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Фигуры из палочек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что лежит в мешочк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чини одеял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Башен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башенками, пирамид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прячь игрушку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Дорожки для матрёш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нежные комочки большие и маленьки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Лепёшки большие и маленьки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Башен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о строительным материал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Янва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33520" y="1523880"/>
          <a:ext cx="8001000" cy="529452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ч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ь детям представление о том, что цвет – признак разнообразных предметов и может быть исследован для их обозначения. Закреплять названия цветов спект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жнять в различении круга, квадрата, треугольника, находить модели этих фигур, несмотря на различия в них цвета и размера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 детей устанавливать отношения трёх предметов по величине при сопоставлении. Располагать различные предметы в порядке убывания велич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б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 методике М. Монтессор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ть тонкую моторику рук, Учить создавать порядковые структуры в области размеров, предметов (убывания по толщине десяти размеров, блоки с цилиндрам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685800" y="1905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2438280"/>
            <a:ext cx="762120" cy="533520"/>
          </a:xfrm>
          <a:custGeom>
            <a:avLst/>
            <a:gdLst>
              <a:gd name="textAreaLeft" fmla="*/ 178920 w 762120"/>
              <a:gd name="textAreaRight" fmla="*/ 582480 w 762120"/>
              <a:gd name="textAreaTop" fmla="*/ 62640 h 533520"/>
              <a:gd name="textAreaBottom" fmla="*/ 334800 h 533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198108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20040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3352680"/>
            <a:ext cx="609840" cy="609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3276720"/>
            <a:ext cx="685800" cy="53316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4191120"/>
            <a:ext cx="1295640" cy="11430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441972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57200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Янва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9480" y="1447920"/>
          <a:ext cx="8077320" cy="4705200"/>
        </p:xfrm>
        <a:graphic>
          <a:graphicData uri="http://schemas.openxmlformats.org/drawingml/2006/table">
            <a:tbl>
              <a:tblPr/>
              <a:tblGrid>
                <a:gridCol w="1584360"/>
                <a:gridCol w="2241720"/>
                <a:gridCol w="2415960"/>
                <a:gridCol w="183528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местная деятельность воспитателя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средственно 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Чудесный мешочек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пар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расивая салфеточ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матривание новогодней ёлоч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онструирование из геометрических фигур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пар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Наклей какую хочешь игрушк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Мандарины и апельси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сприятие формы предметов в самостоятельных игр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Найди такую ж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пар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негови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негови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пирамидками, башен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Февр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229600" cy="504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ч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 детей практически применять знания: сравнить по цвету, используя промежуточное средство (дорисовать вторую половину по контуру: радуга, коврик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комить детей с новыми формами: овалом, прямоугольником, давая их в паре с уже знакомыми: квадрат – треугольник, квадрат – прямоугольник, круг – ов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еплять умения у детей устанавливать соотношения между несколькими предметами по величине при собрании пирамидки из пяти коле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б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 методике М. Монтессор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ть осязание, знакомить с различными качествами поверхностей и материалов (клавишная доска, ящик с кусочками ткане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1600200" y="2209680"/>
            <a:ext cx="9144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209680"/>
            <a:ext cx="914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286000"/>
            <a:ext cx="30492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590920"/>
            <a:ext cx="304560" cy="30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2819520"/>
            <a:ext cx="304920" cy="30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2514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733920"/>
            <a:ext cx="12956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352680"/>
            <a:ext cx="609480" cy="1143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5410080"/>
            <a:ext cx="228600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5181480"/>
            <a:ext cx="1828800" cy="2286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4952880"/>
            <a:ext cx="1523880" cy="228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4800600"/>
            <a:ext cx="114300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4648320"/>
            <a:ext cx="685800" cy="1522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Февр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447920"/>
          <a:ext cx="8021520" cy="4078080"/>
        </p:xfrm>
        <a:graphic>
          <a:graphicData uri="http://schemas.openxmlformats.org/drawingml/2006/table">
            <a:tbl>
              <a:tblPr/>
              <a:tblGrid>
                <a:gridCol w="1295280"/>
                <a:gridCol w="2210040"/>
                <a:gridCol w="2458800"/>
                <a:gridCol w="20574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местная деятельность воспитателя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средственно 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Найди такой ж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по цвет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ветит солнышк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расивый цвет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детей в сухом бассей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форму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Мастерская форм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негов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Маленькая кукол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конструктор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акой предмет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Чудесный мешоче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Узор на круг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71800" y="838080"/>
            <a:ext cx="3581280" cy="1067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905120"/>
            <a:ext cx="281952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з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914400" y="3351960"/>
            <a:ext cx="259092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оммун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276720"/>
            <a:ext cx="243864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о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1752480"/>
            <a:ext cx="2667240" cy="1219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Чт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художе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4724280"/>
            <a:ext cx="266724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Художе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724280"/>
            <a:ext cx="2666880" cy="1067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940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18288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800" y="1828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971800" y="1905120"/>
            <a:ext cx="12952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905120"/>
            <a:ext cx="16002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809520" y="1905120"/>
            <a:ext cx="76212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905120"/>
            <a:ext cx="8384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теграция образовательных областей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Март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447920"/>
          <a:ext cx="8229600" cy="50403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ч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 детей группировать объекты, отличающиеся по форме, величине, назначению, но имеющие одинаковый цв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еплять представления детей о геометрических формах, упражнять в их названии. Учить подбирать фигуры по образц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 сравнивать предметы по величине путём накладывания одного предмета на другой, находить два предмета одинаковой велич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б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 методике М. Монтессор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ть зрительную память. Учить составлять из геометрических фигур другие фигуры, действовать с геометрическими фигурами, находить нужную нишу для укладывания фигур (рамки – вкладыш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457200" y="19810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1905120"/>
            <a:ext cx="7621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8288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198108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8288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2362320"/>
            <a:ext cx="304920" cy="304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3124080"/>
            <a:ext cx="129564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2743200"/>
            <a:ext cx="609480" cy="1143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4495680"/>
            <a:ext cx="3049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191120"/>
            <a:ext cx="38088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3962520"/>
            <a:ext cx="533520" cy="10666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Март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447920"/>
          <a:ext cx="8153280" cy="4535280"/>
        </p:xfrm>
        <a:graphic>
          <a:graphicData uri="http://schemas.openxmlformats.org/drawingml/2006/table">
            <a:tbl>
              <a:tblPr/>
              <a:tblGrid>
                <a:gridCol w="1316160"/>
                <a:gridCol w="2247840"/>
                <a:gridCol w="2498760"/>
                <a:gridCol w="20905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местная деятельность воспитателя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средственно 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Разложи по цвету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Воздушные шар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расивый платоче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алфет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ры в игровом угол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Что лежит в мешочк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Мастерская форм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расивые флажки на ниточк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Лопат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Флаж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процессе игр уточнять знания о прямоугольной фор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Найди отличия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В гости к нам пришли матрёш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Неваляш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расивый платоче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мозаи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Апре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447920"/>
          <a:ext cx="8229600" cy="4425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ч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 детей подбирать предметы по слову, обозначающему цвет, группировать объекты сходные с образами. Обобщать предметы по цветовому призна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 детей выделять форму у предметов, отвлекаясь от других его признаков: цвета, величины. Учить группировать геометрические фигуры по форм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ть умения выбирать на глаз предметы одинаковой велич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б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 методике М. Монтессор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олжать развивать тонкую моторику рук, упражнять в различии основных цветов (цветовые таблич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rot="21393000">
            <a:off x="2133720" y="2209320"/>
            <a:ext cx="76176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1828800"/>
            <a:ext cx="45720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2057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2057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581280"/>
            <a:ext cx="914400" cy="3812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352680"/>
            <a:ext cx="6858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200400"/>
            <a:ext cx="457200" cy="152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4191120"/>
            <a:ext cx="19810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47242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47242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7242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Апре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447920"/>
          <a:ext cx="8153280" cy="5060880"/>
        </p:xfrm>
        <a:graphic>
          <a:graphicData uri="http://schemas.openxmlformats.org/drawingml/2006/table">
            <a:tbl>
              <a:tblPr/>
              <a:tblGrid>
                <a:gridCol w="1317600"/>
                <a:gridCol w="2243160"/>
                <a:gridCol w="2500200"/>
                <a:gridCol w="2092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местная деятельность воспитателя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средственно 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Чудесный мешочек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пар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Разноцветные платочки сушатся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расивая тележ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коро праздник придет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художественная деятельность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Геометрическое лото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пар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убики стоят на стол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кворечни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Зайчи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ушки с застёжками («Ёлочка», «Машина», «Домик»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равни по высот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пар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Миски для трёх медведей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пирамидами, с матрёш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Ма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1447920"/>
          <a:ext cx="8229600" cy="4802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ч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ть у детей представление о разных оттенках цвета по светлоте (светлый, тём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 сопоставлять формы предметов с геометрическими образцами. Узнавать фигуры на глаз без внешних приёмов об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ть глазомер при выборе по образцу предметов определенной велич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б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 методике М. Монтессор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фференциация восприятия: температурных различий, обоняния, вкусовых ощущений, восприятия звуков, шумовых различий, развитие чувств тяже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1066680" y="1905120"/>
            <a:ext cx="7621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057400"/>
            <a:ext cx="60984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2133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4419720"/>
            <a:ext cx="6858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3886200"/>
            <a:ext cx="838080" cy="5335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4572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1008000" cy="1219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048120" y="3048120"/>
            <a:ext cx="609480" cy="533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Ма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447920"/>
          <a:ext cx="8021520" cy="4327560"/>
        </p:xfrm>
        <a:graphic>
          <a:graphicData uri="http://schemas.openxmlformats.org/drawingml/2006/table">
            <a:tbl>
              <a:tblPr/>
              <a:tblGrid>
                <a:gridCol w="1295280"/>
                <a:gridCol w="2210040"/>
                <a:gridCol w="2458800"/>
                <a:gridCol w="20574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местная деятельность воспитателя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средственно 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Угадай и назови цвета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по цвет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Картинки о празднике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Одуванчики в трав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дидактической черепах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Геометрическое лот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Высокий новый дом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Доми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ые игры детей в сенсорном угол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В гости к нам пришли матрёш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Деревья и куст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с дидактической черепах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Благодарим за внимание!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09680" y="533520"/>
            <a:ext cx="4496040" cy="129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сприятие сенсор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а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0"/>
            <a:ext cx="281952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осприя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362320"/>
            <a:ext cx="243864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осприя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572000"/>
            <a:ext cx="2666880" cy="1143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осприя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940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17524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42840" y="17524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9051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Восприятие цве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Цель: научить ребёнка различать предметы по цвету с помощью операции сравнения однородных и разных по цвету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практические действ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икладывание предметов друг к другу, выбор и группировка предметов по цветовому призна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Восприятие форм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Цель: научить ребёнка различать геометрические фигуры по фор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практические действ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ложение фигур, прикладывание, переворачива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поставление элементов фигур, обведение пальцем контура, ощупывание, рисова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Восприятие величин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Цель: научить ребёнка различать предметы по величине, длине, выс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практические действ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ложение, прикладывание, измерение, группировка предметов по одинаковому признак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Игровая система сенсорного обучения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етей младшего дошкольного возрас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Сентяб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1600200"/>
          <a:ext cx="7924680" cy="4842000"/>
        </p:xfrm>
        <a:graphic>
          <a:graphicData uri="http://schemas.openxmlformats.org/drawingml/2006/table">
            <a:tbl>
              <a:tblPr/>
              <a:tblGrid>
                <a:gridCol w="3208320"/>
                <a:gridCol w="4716360"/>
              </a:tblGrid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ч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особствовать формированию у детей цветовых представлений. Учить различать основные цвета предмето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красный, синий, жёлтый, зелёны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ь детям представление о круге, показать, что круги могут быть разных размеров. Учить обследовать фигуры обязательно – двигательным способ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учить детей соотносить по величине три предмета и обозначать их словами: (большой, маленький, средний, больше, меньше, самый большой, самый маленьки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об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о методике М. Монтессор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ть у детей координацию движений, помочь детям ориентироваться в окружающем мире (через упражнение в переливании вод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838080" y="21337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382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514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2096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581280"/>
            <a:ext cx="6098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3276720"/>
            <a:ext cx="762120" cy="5331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419720"/>
            <a:ext cx="304560" cy="304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4648320"/>
            <a:ext cx="914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724280"/>
            <a:ext cx="609840" cy="609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419720"/>
            <a:ext cx="45720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Сентябр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447920"/>
          <a:ext cx="8305920" cy="4911480"/>
        </p:xfrm>
        <a:graphic>
          <a:graphicData uri="http://schemas.openxmlformats.org/drawingml/2006/table">
            <a:tbl>
              <a:tblPr/>
              <a:tblGrid>
                <a:gridCol w="1341360"/>
                <a:gridCol w="2524320"/>
                <a:gridCol w="2309760"/>
                <a:gridCol w="21304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нсорные св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местная деятельность воспитателя с деть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осредственно образова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игровая деятельность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Угадай и назови цвет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Найди такой же цвет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вижная игр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Найди свой цве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Цветные ниточ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Шарики катятся по дорожк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 «Разноцветные мел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в сухом бассейне (цветные шари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Угадай и назови фигуру», «Чудесный мешочек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одбери фигур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Шарики катятся по дорожк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 «Мяч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в сухом бассейне (круглые цветные шари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Соберём пирамидк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Большие и маленькие ябло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ы детей с большой пирамид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lya</cp:lastModifiedBy>
  <dcterms:modified xsi:type="dcterms:W3CDTF">2013-11-25T15:17:0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