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00A9-2EA0-4941-A08D-65AEAA7AFF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3752-1488-4C67-BA18-3D433EA836B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4F9-36AE-47AE-A28E-F6C52DA8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6ED-3633-4F07-B9E7-E6267BEF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490-FED2-485D-A536-4B434B76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E79-F102-4CA8-A371-D6607C70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0147-99CE-44D9-B077-B0218BB8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8E65-44B5-41F0-AE48-1D8BF2E6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BFA0-88D8-412C-B1D0-2F5508B3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BB32-6D9F-46A9-8550-110DB6F1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BEC0-7B29-496E-AEEA-1E340B22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A30E-5FA0-4779-B430-FA6A04FB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ABF7-CABF-4D46-8E48-FC081365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755-1AC6-40E0-9A5F-2F8AEAF2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407E-3E38-4451-9323-200CE0FA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B62E-2998-4462-9F6B-7DEA2B59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7234-7FB6-4F67-8BA5-B3E7BC70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CD34-E4CE-44B2-ACD3-CD20366B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30D1-DE13-4B73-9148-667D8D66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B91E-596B-4275-AAF7-1D102DEF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36B5-69F5-4B06-BC73-AF9C0457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6CBE9-0E19-4DE5-85FF-21A0736A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4C2B-08DE-4108-A4D6-1B22152E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D9D0-FED3-437A-A5F8-D0ACE423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B0E-50D1-44D2-A17D-65E6A720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3D50-C692-40B7-BB14-E84E74CD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CDAD1-C631-4CA7-9443-4A4533C0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B0BF-4169-4FCA-A031-9533E256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4A8DC-D99D-4977-82AA-7FA5AE63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C6B6-2ACA-4F9A-93BD-C0147785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7283-83CB-415D-A907-40B4C8EF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CBC0-4866-41A3-B533-58A0F48B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DEBF1-DB50-488E-BEE2-14A332EA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D9C5F-9F6A-4265-8E80-493D29C9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7CC8-F6A8-4620-BA35-195173F2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285-4CF8-4800-A232-DED0D3DF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4C25E-513C-4261-B8CA-AAED0979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03691-36C9-47EA-928D-048C7F55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3FD97-ED12-4C7F-AE69-187E668E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9FCC9-DCAE-48F6-AA9D-9C60F24E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85732-CE5A-4345-83FE-3E504CE8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A6657-A17F-4878-9BD2-5643FD16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C9B2B-4D9B-4ED4-AE22-8A98FED2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C008F-0746-4F02-B69A-7E9AC8D4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A7E09-C1DF-4654-A607-05974393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A4F5C-A1D7-4896-AC3B-211A6EAC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F33-CB01-4FE3-9F01-08C00D05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CADD-60E3-4F9D-8A0C-424F628D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CC503-3E22-4534-9C0E-C2A21D2C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FB94E-5FDA-4222-B552-2749C000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39F56-0965-4445-BBC7-32B32343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78A66-0C67-418A-9248-C39EA2AA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CAA32-FBD2-47A1-AA91-357645E0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B86C1-5AD3-43EF-B224-9A5666AE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CFCCE-01E0-4926-A5A4-F0EEFEE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9D2F8-AB67-45D3-B8DE-95E3EE58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6FFC9-A00A-4260-AFC3-97C5794C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7CB-8AC2-41AE-B0C8-C89C2F99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B1FE4-617E-4EA6-A201-C59F2560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E34-28A4-4547-95B2-E71EB647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F27-993C-449E-AEBC-07C705FE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DF9-487E-4CF7-A31D-59469801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AF8C-B6BE-4946-9BEE-52F81E86FB3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E3E6-95BD-4E73-9F9F-5CF1B99D893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81CE-BE02-4720-8814-F4DBDE688F5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A315-AA26-4D53-B82D-9D175219B64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D572-AA19-4CE2-BEFC-35F402EBAC5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«ШКОЛЬНЫЙ СТАРТ»:</a:t>
            </a:r>
            <a:br>
              <a:rPr sz="4100"/>
            </a:br>
            <a:br>
              <a:rPr sz="41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ДИАГНОСТИКА СТАРТОВОЙ ГОТОВНОСТИ К УСПЕШНОМУ ОБУЧЕНИЮ В НАЧАЛЬНОЙ ШКОЛЕ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24000" y="4653000"/>
            <a:ext cx="8602560" cy="19908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еломытцева Ирина Анатольевн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У «СОШ № 3 им. С.В.Ишеев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рода Ясногорск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ульской област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148360" y="3919680"/>
            <a:ext cx="3620880" cy="241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2"/>
          <p:cNvSpPr/>
          <p:nvPr/>
        </p:nvSpPr>
        <p:spPr>
          <a:xfrm>
            <a:off x="250920" y="258840"/>
            <a:ext cx="8353440" cy="520560"/>
          </a:xfrm>
          <a:prstGeom prst="rect">
            <a:avLst/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люда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611280" y="1413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оспринимать знакомый объект как целое в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 фрагментарного предъявления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611280" y="2421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делять из потока информации отдельные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и исходя из поставленной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539640" y="3429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идеть существенные признаки в образе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нимаемого объекта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611280" y="4508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держиваться заданной последователь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наблюдения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611280" y="551664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ираться на зрительный образ для удержания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и учебной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2"/>
          <p:cNvSpPr/>
          <p:nvPr/>
        </p:nvSpPr>
        <p:spPr>
          <a:xfrm>
            <a:off x="324000" y="260280"/>
            <a:ext cx="8351640" cy="520560"/>
          </a:xfrm>
          <a:prstGeom prst="rect">
            <a:avLst/>
          </a:prstGeom>
          <a:solidFill>
            <a:srgbClr val="66ff33"/>
          </a:soli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слительные 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611280" y="105264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станавливать отношения типа «род – вид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понят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611280" y="1989000"/>
            <a:ext cx="82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станавливать логические связи типа «причин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» между явле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611280" y="2852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станавливать количественные отношения тип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льше –меньше» между объектами и явле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611280" y="3645000"/>
            <a:ext cx="82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делять объекты из множества других 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ть их в соответствии с поставленной задач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611280" y="450864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ерировать  информацией с помощью образа, слова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 и знаков при выполнении учебных зад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611280" y="5373720"/>
            <a:ext cx="85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идеть закономерность в изучаемой информ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611280" y="587700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нализировать объекты и  обнаруживать в них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енные признаки пон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3"/>
          <p:cNvSpPr/>
          <p:nvPr/>
        </p:nvSpPr>
        <p:spPr>
          <a:xfrm>
            <a:off x="539640" y="1989000"/>
            <a:ext cx="80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относить результат с образцом и  устанавливать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539640" y="3429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ледовать инструкции при выполнении учебных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324000" y="260280"/>
            <a:ext cx="8351640" cy="520560"/>
          </a:xfrm>
          <a:prstGeom prst="rect">
            <a:avLst/>
          </a:prstGeom>
          <a:solidFill>
            <a:srgbClr val="e69ca4"/>
          </a:soli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ольные ум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539640" y="1989000"/>
            <a:ext cx="80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пользовать речь взрослого как  источни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 при выполнении учебных зад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324000" y="260280"/>
            <a:ext cx="83516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муникативные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539640" y="1989000"/>
            <a:ext cx="80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ое эмоционально-ценностное отношение к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324000" y="260280"/>
            <a:ext cx="8351640" cy="520560"/>
          </a:xfrm>
          <a:prstGeom prst="rect">
            <a:avLst/>
          </a:prstGeom>
          <a:solidFill>
            <a:srgbClr val="e3ded1"/>
          </a:soli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чностный компон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611280" y="3213000"/>
            <a:ext cx="80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онная готовность выполнять учебные зад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го уровня слож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7"/>
          <p:cNvSpPr/>
          <p:nvPr/>
        </p:nvSpPr>
        <p:spPr>
          <a:xfrm>
            <a:off x="324000" y="260280"/>
            <a:ext cx="8351640" cy="947160"/>
          </a:xfrm>
          <a:prstGeom prst="rect">
            <a:avLst/>
          </a:prstGeom>
          <a:solidFill>
            <a:srgbClr val="fbeac7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может быть использована учителем для того, чтоб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971640" y="1934280"/>
            <a:ext cx="756108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предпосылки для развития универсальных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действ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эмоционально комфортну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ую сред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овать формы и методы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анировать индивидуальную педагогическу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консультацию у профиль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ов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2"/>
          <p:cNvSpPr/>
          <p:nvPr/>
        </p:nvSpPr>
        <p:spPr>
          <a:xfrm>
            <a:off x="2340000" y="333360"/>
            <a:ext cx="6335640" cy="520560"/>
          </a:xfrm>
          <a:prstGeom prst="rect">
            <a:avLst/>
          </a:prstGeom>
          <a:solidFill>
            <a:srgbClr val="c4e1f2"/>
          </a:solidFill>
          <a:ln w="42480">
            <a:solidFill>
              <a:srgbClr val="a088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диагно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539640" y="1197000"/>
            <a:ext cx="828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нтябре 1 класса, в течение третьей и четвёртой недели обу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КАКОЙ ПЕРИОДИЧНОСТЬЮ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(со вторника  по четверг), в начале 2 и 3 уроков в течение 5 – 10 мину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несколько специальных диагностических уроков (вторых или третьих) со вторника по четвер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, представленные в рабочей тетра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extBox 1" descr=""/>
          <p:cNvPicPr/>
          <p:nvPr/>
        </p:nvPicPr>
        <p:blipFill>
          <a:blip r:embed="rId1"/>
          <a:stretch/>
        </p:blipFill>
        <p:spPr>
          <a:xfrm>
            <a:off x="884160" y="1189080"/>
            <a:ext cx="7521480" cy="1328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1625760" y="2349360"/>
            <a:ext cx="5905440" cy="383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4"/>
          <p:cNvSpPr/>
          <p:nvPr/>
        </p:nvSpPr>
        <p:spPr>
          <a:xfrm>
            <a:off x="250920" y="260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 ли ребёнок к шк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762120" y="928800"/>
            <a:ext cx="7619760" cy="50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667640" cy="575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285400" cy="536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84720" cy="5989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4643280" y="1268280"/>
            <a:ext cx="424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уровня стартовой готовности ребёнка используют диагностические задания. Для каждого показателя разработано свое задание, вместе они составляют диагностическую тетрадь для уче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826920" y="1052640"/>
            <a:ext cx="763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4ea5d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a5d8"/>
                </a:solidFill>
                <a:latin typeface="Times New Roman"/>
                <a:ea typeface="Times New Roman"/>
              </a:rPr>
              <a:t>На тетради написаны фамилия и им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4ea5d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a5d8"/>
                </a:solidFill>
                <a:latin typeface="Times New Roman"/>
                <a:ea typeface="Times New Roman"/>
              </a:rPr>
              <a:t>Выдаётся на время проведения диагно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4ea5d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a5d8"/>
                </a:solidFill>
                <a:latin typeface="Times New Roman"/>
                <a:ea typeface="Times New Roman"/>
              </a:rPr>
              <a:t>Проходит под контролем взросл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4ea5d8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a5d8"/>
                </a:solidFill>
                <a:latin typeface="Times New Roman"/>
                <a:ea typeface="Times New Roman"/>
              </a:rPr>
              <a:t>Ребёнок не должен самостоятельно знакомится с содержанием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2"/>
          <p:cNvSpPr/>
          <p:nvPr/>
        </p:nvSpPr>
        <p:spPr>
          <a:xfrm>
            <a:off x="324000" y="260280"/>
            <a:ext cx="8351640" cy="947160"/>
          </a:xfrm>
          <a:prstGeom prst="rect">
            <a:avLst/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, которой обяза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жен владеть ребён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250920" y="16228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чем нужна эта тетрадь и как в ней работ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250920" y="2136960"/>
            <a:ext cx="85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омство с внешним видом страницы рабочей тетради происходит на примере первого задания  непосредственно перед его выполнени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250920" y="32871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задания выполняются под руководством учителя, на основании его инструк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250920" y="41515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ребёнок выполнил задание раньше остальных, он не переворачивает страницу и не делает других зад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250920" y="50162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он увидел ошибку, может её самостоятельно исправить или посоветоваться с учителем, как это лучше сдел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250920" y="58082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ребёнок ошибся, он может воспользоваться ластиком, это не считается ошиб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2"/>
          <p:cNvSpPr/>
          <p:nvPr/>
        </p:nvSpPr>
        <p:spPr>
          <a:xfrm>
            <a:off x="324000" y="333360"/>
            <a:ext cx="8351640" cy="520560"/>
          </a:xfrm>
          <a:prstGeom prst="rect">
            <a:avLst/>
          </a:prstGeom>
          <a:solidFill>
            <a:srgbClr val="ffffcc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разработки диагностических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900000" y="1268280"/>
            <a:ext cx="7561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показатель – одно зад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й характер зад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ный уровень предъявления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страница – одно зад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е предъявление диагностических зад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"/>
          <p:cNvSpPr/>
          <p:nvPr/>
        </p:nvSpPr>
        <p:spPr>
          <a:xfrm>
            <a:off x="250920" y="481536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бочей тетради последовательно даны задания , направленные на диагностику умений. Изменять порядок заданий крайне нежела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Прямоугольник 13" descr=""/>
          <p:cNvPicPr/>
          <p:nvPr/>
        </p:nvPicPr>
        <p:blipFill>
          <a:blip r:embed="rId1"/>
          <a:stretch/>
        </p:blipFill>
        <p:spPr>
          <a:xfrm>
            <a:off x="5389560" y="1158840"/>
            <a:ext cx="3406680" cy="10350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2"/>
          <p:cNvSpPr/>
          <p:nvPr/>
        </p:nvSpPr>
        <p:spPr>
          <a:xfrm>
            <a:off x="324000" y="260280"/>
            <a:ext cx="8351640" cy="520560"/>
          </a:xfrm>
          <a:prstGeom prst="rect">
            <a:avLst/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товая гото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Прямоугольник 8" descr=""/>
          <p:cNvPicPr/>
          <p:nvPr/>
        </p:nvPicPr>
        <p:blipFill>
          <a:blip r:embed="rId2"/>
          <a:stretch/>
        </p:blipFill>
        <p:spPr>
          <a:xfrm>
            <a:off x="847800" y="1158840"/>
            <a:ext cx="3413160" cy="1035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9"/>
          <p:cNvSpPr/>
          <p:nvPr/>
        </p:nvSpPr>
        <p:spPr>
          <a:xfrm>
            <a:off x="971640" y="126828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ль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Крест 10"/>
          <p:cNvSpPr/>
          <p:nvPr/>
        </p:nvSpPr>
        <p:spPr>
          <a:xfrm>
            <a:off x="4572000" y="1341360"/>
            <a:ext cx="576360" cy="574920"/>
          </a:xfrm>
          <a:prstGeom prst="plus">
            <a:avLst>
              <a:gd name="adj" fmla="val 25000"/>
            </a:avLst>
          </a:prstGeom>
          <a:solidFill>
            <a:srgbClr val="00b0f0"/>
          </a:solidFill>
          <a:ln w="42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5508720" y="126828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компоне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4"/>
          <p:cNvSpPr/>
          <p:nvPr/>
        </p:nvSpPr>
        <p:spPr>
          <a:xfrm>
            <a:off x="1692360" y="2708280"/>
            <a:ext cx="3166920" cy="42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тель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5"/>
          <p:cNvSpPr/>
          <p:nvPr/>
        </p:nvSpPr>
        <p:spPr>
          <a:xfrm>
            <a:off x="1692360" y="3429000"/>
            <a:ext cx="3166920" cy="76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ительные способ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1692360" y="4508640"/>
            <a:ext cx="3166920" cy="42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е ум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1692360" y="5373720"/>
            <a:ext cx="3166920" cy="76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ум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9"/>
          <p:cNvSpPr/>
          <p:nvPr/>
        </p:nvSpPr>
        <p:spPr>
          <a:xfrm>
            <a:off x="1258920" y="2060640"/>
            <a:ext cx="0" cy="36720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 flipH="1">
            <a:off x="1258920" y="2924280"/>
            <a:ext cx="43344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29"/>
          <p:cNvSpPr/>
          <p:nvPr/>
        </p:nvSpPr>
        <p:spPr>
          <a:xfrm flipH="1" flipV="1">
            <a:off x="1258920" y="3789360"/>
            <a:ext cx="433440" cy="237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34"/>
          <p:cNvSpPr/>
          <p:nvPr/>
        </p:nvSpPr>
        <p:spPr>
          <a:xfrm flipH="1">
            <a:off x="1258920" y="4724280"/>
            <a:ext cx="43344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36"/>
          <p:cNvSpPr/>
          <p:nvPr/>
        </p:nvSpPr>
        <p:spPr>
          <a:xfrm>
            <a:off x="1258920" y="5732640"/>
            <a:ext cx="433440" cy="25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5"/>
          <p:cNvSpPr/>
          <p:nvPr/>
        </p:nvSpPr>
        <p:spPr>
          <a:xfrm>
            <a:off x="6372360" y="2708280"/>
            <a:ext cx="2520720" cy="143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и ценностное отношение к зна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46"/>
          <p:cNvSpPr/>
          <p:nvPr/>
        </p:nvSpPr>
        <p:spPr>
          <a:xfrm>
            <a:off x="5796000" y="2060640"/>
            <a:ext cx="0" cy="13683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49"/>
          <p:cNvSpPr/>
          <p:nvPr/>
        </p:nvSpPr>
        <p:spPr>
          <a:xfrm>
            <a:off x="5796000" y="3429000"/>
            <a:ext cx="576360" cy="144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6:55:55Z</dcterms:created>
  <dc:creator>я</dc:creator>
  <dc:description/>
  <dc:language>en-US</dc:language>
  <cp:lastModifiedBy>Microsoft Office</cp:lastModifiedBy>
  <dcterms:modified xsi:type="dcterms:W3CDTF">2016-06-11T20:30:42Z</dcterms:modified>
  <cp:revision>27</cp:revision>
  <dc:subject/>
  <dc:title>«ШКОЛЬНЫЙ СТАРТ»: ПЕДАГОГИЧЕСКАЯ ДИАГНОСТИКА СТАРТОВОЙ ГОТОВНОСТИ К УСПЕШНОМУ ОБУЧЕНИЮ В НАЧАЛЬНОЙ ШКОЛЕ.</dc:title>
</cp:coreProperties>
</file>