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B313-4338-4D62-8345-D226C155F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849492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82160" y="4872960"/>
            <a:ext cx="849492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FDD2-B327-47DE-962D-AB5C0D0C6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41454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435280" y="2939760"/>
            <a:ext cx="41454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D53842-A780-493A-AB88-534F06310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2A0CE5-B019-4F3C-871E-42D894DE4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1082160" y="503280"/>
            <a:ext cx="8494920" cy="101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spcAft>
                <a:spcPts val="663"/>
              </a:spcAft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E3C165-EBF0-4B21-9E67-2C8EDA7E0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435280" y="2939760"/>
            <a:ext cx="41454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082160" y="48729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298E32-4E67-4F6B-A486-FED36F480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41454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435280" y="29397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435280" y="48729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59390E-5F28-497F-9897-DED796C0C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435280" y="29397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1082160" y="4872960"/>
            <a:ext cx="849492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839915-A6D1-44AB-B5FB-72E5E45E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849492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1082160" y="4872960"/>
            <a:ext cx="849492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CCEAD6-26B5-42BE-8EDA-FCAC6CB05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435280" y="29397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1082160" y="48729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5435280" y="48729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156915-B9CA-4AC9-8149-0E143D7CC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273528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954600" y="2939760"/>
            <a:ext cx="273528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827040" y="2939760"/>
            <a:ext cx="273528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1082160" y="4872960"/>
            <a:ext cx="273528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954600" y="4872960"/>
            <a:ext cx="273528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827040" y="4872960"/>
            <a:ext cx="273528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6530DF-5232-4641-BF83-27675AA20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602DF6-6BA5-447A-A715-726A2522D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35280" y="29397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82160" y="48729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35280" y="48729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FC12-BFE8-4D26-AE15-39910532A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1082160" y="2939760"/>
            <a:ext cx="849492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spcAft>
                <a:spcPts val="663"/>
              </a:spcAft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B0E650-792E-4C60-8852-AF4A8F71F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849492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FF38AE-4F34-48A2-A3C6-884C9EFE9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41454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435280" y="2939760"/>
            <a:ext cx="41454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2B1915-0D6C-4C12-857E-C1CD4CEA5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8AEBD5-3819-400F-BF53-42A51AEBC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1082160" y="503280"/>
            <a:ext cx="8494920" cy="101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spcAft>
                <a:spcPts val="663"/>
              </a:spcAft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C6EFF2-26B8-432D-B985-3D10C67EF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435280" y="2939760"/>
            <a:ext cx="41454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1082160" y="48729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773C7D-E97B-4501-A106-4090DCFFD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41454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435280" y="29397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435280" y="48729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445709-54B3-4164-BCBA-754D9B54C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435280" y="29397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082160" y="4872960"/>
            <a:ext cx="849492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4E5724-D1EC-4AB8-9987-6C8CC68B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849492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1082160" y="4872960"/>
            <a:ext cx="849492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26EDDA-F970-4D95-B888-6DFF09E64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435280" y="29397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082160" y="48729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5435280" y="48729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116534-0574-47A7-B90D-AD5B2D748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273528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54600" y="2939760"/>
            <a:ext cx="273528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27040" y="2939760"/>
            <a:ext cx="273528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82160" y="4872960"/>
            <a:ext cx="273528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54600" y="4872960"/>
            <a:ext cx="273528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827040" y="4872960"/>
            <a:ext cx="273528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CA15-2F53-4582-A8A1-ED0B23573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273528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954600" y="2939760"/>
            <a:ext cx="273528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827040" y="2939760"/>
            <a:ext cx="273528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1082160" y="4872960"/>
            <a:ext cx="273528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954600" y="4872960"/>
            <a:ext cx="273528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827040" y="4872960"/>
            <a:ext cx="273528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7B4388-9D51-4306-8F4B-98DAC6127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C65A5F-0B72-43BA-A5EA-24E778472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1082160" y="2939760"/>
            <a:ext cx="849492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spcAft>
                <a:spcPts val="663"/>
              </a:spcAft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8A4F37-8F29-4310-AAF0-0D45D5531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849492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85CC9F-1CC8-43AD-A601-0D0EDCB9E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41454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435280" y="2939760"/>
            <a:ext cx="41454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AEA7E3-711E-4C5F-A310-FCD929537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A02759-730E-4222-AB84-57A366F04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1082160" y="503280"/>
            <a:ext cx="8494920" cy="101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spcAft>
                <a:spcPts val="663"/>
              </a:spcAft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A9DDFA-700D-439C-B3EF-F19AA8D5A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435280" y="2939760"/>
            <a:ext cx="41454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1082160" y="48729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55092B-D9DE-4DCB-A06C-AFFE182DE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41454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435280" y="29397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435280" y="48729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93D9C3-131F-4D86-A224-74F370E33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435280" y="29397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082160" y="4872960"/>
            <a:ext cx="849492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030ECF-5524-4B8E-83A5-328DE8898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07A33-2277-45D4-A589-4CA00619B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849492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1082160" y="4872960"/>
            <a:ext cx="849492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D74264-C7C7-439D-BDD5-B5691B6B3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5435280" y="29397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1082160" y="48729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435280" y="48729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271A6B-8480-48FD-8F59-5736F2E72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273528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954600" y="2939760"/>
            <a:ext cx="273528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827040" y="2939760"/>
            <a:ext cx="273528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1082160" y="4872960"/>
            <a:ext cx="273528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954600" y="4872960"/>
            <a:ext cx="273528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827040" y="4872960"/>
            <a:ext cx="273528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F3EBAE-565C-45C4-BCC7-F74C7AA73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F1F120-9770-417D-994C-B155FABE8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1082160" y="2939760"/>
            <a:ext cx="849492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spcAft>
                <a:spcPts val="663"/>
              </a:spcAft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BD7155-AA8B-4E37-9143-C8E89D6FB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849492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277AB0-1046-49B2-B5F0-5C4B94313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41454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5435280" y="2939760"/>
            <a:ext cx="41454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CABCFC-F103-445E-A1A4-D26BE2C4B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3E25FF-89C9-4EB6-AE87-0EB1ACB7E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1082160" y="503280"/>
            <a:ext cx="8494920" cy="101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spcAft>
                <a:spcPts val="663"/>
              </a:spcAft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22AC6D-54D6-45B9-924E-71987BB6A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435280" y="2939760"/>
            <a:ext cx="41454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1082160" y="48729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FBAEF9-32D4-4002-9DC8-237B646B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82160" y="2939760"/>
            <a:ext cx="849492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spcAft>
                <a:spcPts val="663"/>
              </a:spcAft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ECDBC-1E93-4F1C-8B05-8B13ADCD5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41454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5435280" y="29397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435280" y="48729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D4AE1D-27A3-467D-8A49-F89C3D476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5435280" y="29397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1082160" y="4872960"/>
            <a:ext cx="849492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8006EF-370C-497F-840D-275AE01C9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849492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1082160" y="4872960"/>
            <a:ext cx="849492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57635C-9675-440C-B501-55E0B0328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435280" y="29397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1082160" y="48729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5435280" y="48729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942151-BC28-44C1-BCDB-9FA499C73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273528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954600" y="2939760"/>
            <a:ext cx="273528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827040" y="2939760"/>
            <a:ext cx="273528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1082160" y="4872960"/>
            <a:ext cx="273528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954600" y="4872960"/>
            <a:ext cx="273528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827040" y="4872960"/>
            <a:ext cx="273528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622A9C-7A79-4943-925C-C13C65EAC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FFF636-F67E-4C07-A643-13F091D86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1082160" y="2939760"/>
            <a:ext cx="849492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spcAft>
                <a:spcPts val="663"/>
              </a:spcAft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16D96C-1935-46DC-BD2B-46AFCA145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849492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AA41D9-EB9B-4C46-9F32-4967917A8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41454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5435280" y="2939760"/>
            <a:ext cx="41454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E7D241-147B-4914-9550-3EA9CE5E5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B0C340-24A7-46DE-8C45-641A3EB78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849492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CB290-502C-4966-937C-7E6AB3601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1082160" y="503280"/>
            <a:ext cx="8494920" cy="101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spcAft>
                <a:spcPts val="663"/>
              </a:spcAft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39E9E3-FBD5-47FB-A049-1E029B640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5435280" y="2939760"/>
            <a:ext cx="41454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1082160" y="48729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B3357B-B78E-42B6-8DE6-B462F5441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41454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435280" y="29397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5435280" y="48729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EBC477-3549-41AF-BA18-C08F8180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5435280" y="29397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1082160" y="4872960"/>
            <a:ext cx="849492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9864B3-FFD3-4663-8065-C79ACAD5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849492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1082160" y="4872960"/>
            <a:ext cx="849492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167AC8-66A8-46BE-A9B2-62C0ADE56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5435280" y="29397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1082160" y="48729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5435280" y="48729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8D4D31-D83B-4E9E-9A28-9E382EF81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273528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954600" y="2939760"/>
            <a:ext cx="273528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827040" y="2939760"/>
            <a:ext cx="273528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1082160" y="4872960"/>
            <a:ext cx="273528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3954600" y="4872960"/>
            <a:ext cx="273528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6827040" y="4872960"/>
            <a:ext cx="273528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B5E71E-30A5-4B7F-B8A7-41F30D3B0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83E369-FDC7-497E-8ACF-017F7EC4B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1082160" y="2939760"/>
            <a:ext cx="849492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spcAft>
                <a:spcPts val="663"/>
              </a:spcAft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7854FB-07C6-479C-B499-AE1A797B0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849492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DCD87C-50AE-4640-9DE4-F8C5F1614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41454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435280" y="2939760"/>
            <a:ext cx="41454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DB69D-60C6-49D0-B56F-517AE9836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41454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5435280" y="2939760"/>
            <a:ext cx="41454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497BCB-A52D-4CA0-A3DB-458083D15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13EA4C-6BE5-4C6F-9791-8DCA41D44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ubTitle"/>
          </p:nvPr>
        </p:nvSpPr>
        <p:spPr>
          <a:xfrm>
            <a:off x="1082160" y="503280"/>
            <a:ext cx="8494920" cy="101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spcAft>
                <a:spcPts val="663"/>
              </a:spcAft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26B3D8-3D71-4BA5-A881-D72376028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5435280" y="2939760"/>
            <a:ext cx="41454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1082160" y="48729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E5D777-E42E-43F5-9200-B76619671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41454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5435280" y="29397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5435280" y="48729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718221-A47C-4C52-AB16-C02AD40D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5435280" y="29397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1082160" y="4872960"/>
            <a:ext cx="849492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930233-5CBB-4242-81CF-76225D38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849492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1082160" y="4872960"/>
            <a:ext cx="849492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38E955-725A-44AA-96B9-3C994C479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5435280" y="29397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1082160" y="48729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5435280" y="48729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D742A9-8959-4C7B-A947-690143F8B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273528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3954600" y="2939760"/>
            <a:ext cx="273528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827040" y="2939760"/>
            <a:ext cx="273528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1082160" y="4872960"/>
            <a:ext cx="273528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9" name="PlaceHolder 6"/>
          <p:cNvSpPr>
            <a:spLocks noGrp="1"/>
          </p:cNvSpPr>
          <p:nvPr>
            <p:ph/>
          </p:nvPr>
        </p:nvSpPr>
        <p:spPr>
          <a:xfrm>
            <a:off x="3954600" y="4872960"/>
            <a:ext cx="273528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0" name="PlaceHolder 7"/>
          <p:cNvSpPr>
            <a:spLocks noGrp="1"/>
          </p:cNvSpPr>
          <p:nvPr>
            <p:ph/>
          </p:nvPr>
        </p:nvSpPr>
        <p:spPr>
          <a:xfrm>
            <a:off x="6827040" y="4872960"/>
            <a:ext cx="273528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30F8A4-EF84-484C-B9B7-72CF8F291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CE1143-F494-4B47-8437-C1C1D4B6D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646DF-5923-467A-B503-9AA331A98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1082160" y="2939760"/>
            <a:ext cx="849492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spcAft>
                <a:spcPts val="663"/>
              </a:spcAft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DC476B-FFF2-4FAA-AA6D-B30BF3FFE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849492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5A3B1B-028E-4B09-A265-6807B6F7A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41454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5435280" y="2939760"/>
            <a:ext cx="41454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B29E47-A0DD-4980-9B17-D261B1DEC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708B6A-7FC9-4254-8002-838223190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1082160" y="503280"/>
            <a:ext cx="8494920" cy="101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spcAft>
                <a:spcPts val="663"/>
              </a:spcAft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7CE76B-F667-466F-A210-0D8A6CA2D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5435280" y="2939760"/>
            <a:ext cx="41454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1082160" y="48729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E7036E-B33B-475D-A2DB-23D34E494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41454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5435280" y="29397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5435280" y="48729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CD3F3F-C0AC-48FD-8012-944A7A7F5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5435280" y="29397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1082160" y="4872960"/>
            <a:ext cx="849492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DE6F8C-73B5-40A7-A65F-A1B8E9A7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849492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1082160" y="4872960"/>
            <a:ext cx="849492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A04DC1-539D-48E1-8279-FC7B9352F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5435280" y="29397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1082160" y="48729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5435280" y="48729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01401C-6AA0-47E9-BB83-1C07F5A86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82160" y="503280"/>
            <a:ext cx="8494920" cy="101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spcAft>
                <a:spcPts val="663"/>
              </a:spcAft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7F8A5-2CD8-43C8-A8D1-45A226842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273528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954600" y="2939760"/>
            <a:ext cx="273528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827040" y="2939760"/>
            <a:ext cx="273528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1082160" y="4872960"/>
            <a:ext cx="273528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954600" y="4872960"/>
            <a:ext cx="273528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827040" y="4872960"/>
            <a:ext cx="273528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063CA8-2EAE-475B-A10F-70C791D9A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subTitle"/>
          </p:nvPr>
        </p:nvSpPr>
        <p:spPr>
          <a:xfrm>
            <a:off x="1082160" y="2939760"/>
            <a:ext cx="849492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spcAft>
                <a:spcPts val="663"/>
              </a:spcAft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849492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41454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5435280" y="2939760"/>
            <a:ext cx="41454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ubTitle"/>
          </p:nvPr>
        </p:nvSpPr>
        <p:spPr>
          <a:xfrm>
            <a:off x="1082160" y="503280"/>
            <a:ext cx="8494920" cy="101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spcAft>
                <a:spcPts val="663"/>
              </a:spcAft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435280" y="2939760"/>
            <a:ext cx="41454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1082160" y="48729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41454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5435280" y="29397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5435280" y="48729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5435280" y="29397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1082160" y="4872960"/>
            <a:ext cx="849492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435280" y="2939760"/>
            <a:ext cx="41454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82160" y="48729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F2FF2-89DD-4F25-A94C-84007709B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849492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1082160" y="4872960"/>
            <a:ext cx="849492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5435280" y="29397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1082160" y="48729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5435280" y="48729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273528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3954600" y="2939760"/>
            <a:ext cx="273528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6827040" y="2939760"/>
            <a:ext cx="273528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1082160" y="4872960"/>
            <a:ext cx="273528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2" name="PlaceHolder 6"/>
          <p:cNvSpPr>
            <a:spLocks noGrp="1"/>
          </p:cNvSpPr>
          <p:nvPr>
            <p:ph/>
          </p:nvPr>
        </p:nvSpPr>
        <p:spPr>
          <a:xfrm>
            <a:off x="3954600" y="4872960"/>
            <a:ext cx="273528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3" name="PlaceHolder 7"/>
          <p:cNvSpPr>
            <a:spLocks noGrp="1"/>
          </p:cNvSpPr>
          <p:nvPr>
            <p:ph/>
          </p:nvPr>
        </p:nvSpPr>
        <p:spPr>
          <a:xfrm>
            <a:off x="6827040" y="4872960"/>
            <a:ext cx="273528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subTitle"/>
          </p:nvPr>
        </p:nvSpPr>
        <p:spPr>
          <a:xfrm>
            <a:off x="1082160" y="2939760"/>
            <a:ext cx="849492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spcAft>
                <a:spcPts val="663"/>
              </a:spcAft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849492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41454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5435280" y="2939760"/>
            <a:ext cx="41454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ubTitle"/>
          </p:nvPr>
        </p:nvSpPr>
        <p:spPr>
          <a:xfrm>
            <a:off x="1082160" y="503280"/>
            <a:ext cx="8494920" cy="101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spcAft>
                <a:spcPts val="663"/>
              </a:spcAft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5435280" y="2939760"/>
            <a:ext cx="41454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1082160" y="48729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82160" y="2939760"/>
            <a:ext cx="849492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spcAft>
                <a:spcPts val="663"/>
              </a:spcAft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56C9-5468-4096-9B53-36C1BE43F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41454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435280" y="29397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435280" y="48729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E9AA6-873A-4041-80EE-E334E3B5C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41454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5435280" y="29397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435280" y="48729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435280" y="29397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1082160" y="4872960"/>
            <a:ext cx="849492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849492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1082160" y="4872960"/>
            <a:ext cx="849492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435280" y="29397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1082160" y="48729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5435280" y="48729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273528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3954600" y="2939760"/>
            <a:ext cx="273528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6827040" y="2939760"/>
            <a:ext cx="273528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1082160" y="4872960"/>
            <a:ext cx="273528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7" name="PlaceHolder 6"/>
          <p:cNvSpPr>
            <a:spLocks noGrp="1"/>
          </p:cNvSpPr>
          <p:nvPr>
            <p:ph/>
          </p:nvPr>
        </p:nvSpPr>
        <p:spPr>
          <a:xfrm>
            <a:off x="3954600" y="4872960"/>
            <a:ext cx="273528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8" name="PlaceHolder 7"/>
          <p:cNvSpPr>
            <a:spLocks noGrp="1"/>
          </p:cNvSpPr>
          <p:nvPr>
            <p:ph/>
          </p:nvPr>
        </p:nvSpPr>
        <p:spPr>
          <a:xfrm>
            <a:off x="6827040" y="4872960"/>
            <a:ext cx="273528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35280" y="29397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82160" y="4872960"/>
            <a:ext cx="849492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E482D-9C12-418A-AB7F-98DD245D4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849492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82160" y="4872960"/>
            <a:ext cx="849492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03105-2D7D-4B77-85B7-B1AB9031D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435280" y="29397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82160" y="48729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435280" y="48729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BAC7D-B002-463F-A388-A92270317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273528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954600" y="2939760"/>
            <a:ext cx="273528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27040" y="2939760"/>
            <a:ext cx="273528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82160" y="4872960"/>
            <a:ext cx="273528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954600" y="4872960"/>
            <a:ext cx="273528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827040" y="4872960"/>
            <a:ext cx="273528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0BA96-504E-4849-B017-8AAC1F794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D9297-D8F9-4FE0-B184-4D81B3FF1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082160" y="2939760"/>
            <a:ext cx="849492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spcAft>
                <a:spcPts val="663"/>
              </a:spcAft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BC1AC-4958-425F-8A68-B96E47842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849492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90530-408D-4E30-BAAF-0130A19D0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41454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435280" y="2939760"/>
            <a:ext cx="41454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53155-ABAD-4258-9D3B-880512091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3AD94-895C-4D40-8612-1112B21D2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849492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A07E-D004-4965-9C59-BE45A56CD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082160" y="503280"/>
            <a:ext cx="8494920" cy="101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spcAft>
                <a:spcPts val="663"/>
              </a:spcAft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0BACF-39EA-4F02-822A-6EFC04196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435280" y="2939760"/>
            <a:ext cx="41454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82160" y="48729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FD87E-7225-4A85-A985-6DEF49C88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41454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435280" y="29397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435280" y="48729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90769-8E39-424B-BE58-80103EA62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435280" y="29397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082160" y="4872960"/>
            <a:ext cx="849492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03012-20B8-4DDD-889B-38072880F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849492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1082160" y="4872960"/>
            <a:ext cx="849492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608D1-CE88-46FD-8B98-8C1C7E00B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435280" y="29397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082160" y="48729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5435280" y="48729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18B05-FBDB-48FD-830C-ED4969BA8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273528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954600" y="2939760"/>
            <a:ext cx="273528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27040" y="2939760"/>
            <a:ext cx="273528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1082160" y="4872960"/>
            <a:ext cx="273528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954600" y="4872960"/>
            <a:ext cx="273528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827040" y="4872960"/>
            <a:ext cx="273528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AC04A-F6E8-4AC7-ADA8-3C37640F4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D975E-7A59-41F5-8063-D34843AF5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082160" y="2939760"/>
            <a:ext cx="849492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spcAft>
                <a:spcPts val="663"/>
              </a:spcAft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5C834-5979-4875-B670-652A9838C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849492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41FB0-3362-4B18-9B9D-02D5BD127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41454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35280" y="2939760"/>
            <a:ext cx="41454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3A40-6905-4FFF-8348-B6B32BF69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41454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435280" y="2939760"/>
            <a:ext cx="41454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AC838-A0F1-464D-BFAB-5699EA4B4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04545-4EB4-4C85-83FD-F5C75B5B0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082160" y="503280"/>
            <a:ext cx="8494920" cy="101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spcAft>
                <a:spcPts val="663"/>
              </a:spcAft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A2114-13FB-42AD-AA3F-F545B6652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435280" y="2939760"/>
            <a:ext cx="41454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082160" y="48729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63110-116D-404E-8E73-89C3650D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41454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435280" y="29397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435280" y="48729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B2307-2DBB-4032-A7AF-AEFCFA119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435280" y="29397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082160" y="4872960"/>
            <a:ext cx="849492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CDB3B-408F-4394-A6F9-E0D786FE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849492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082160" y="4872960"/>
            <a:ext cx="849492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B16C5-0EC0-4320-8312-6CB8A5B74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435280" y="29397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082160" y="48729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435280" y="48729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F022F-B0A6-4FCD-9B8E-4FFB3F445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273528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954600" y="2939760"/>
            <a:ext cx="273528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27040" y="2939760"/>
            <a:ext cx="273528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082160" y="4872960"/>
            <a:ext cx="273528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954600" y="4872960"/>
            <a:ext cx="273528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827040" y="4872960"/>
            <a:ext cx="273528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DD797-B421-4EFE-B68B-F881A82B4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7D63C-95AB-4A9F-BEC3-7674BB471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20E4-7F88-4D7B-A1B5-15064F6CD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082160" y="2939760"/>
            <a:ext cx="849492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spcAft>
                <a:spcPts val="663"/>
              </a:spcAft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49379-95D0-468F-9605-DFAEF51CF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849492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72E36-32C1-4D6B-830C-CCD614424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41454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435280" y="2939760"/>
            <a:ext cx="41454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6B049-D952-4CA5-B41E-CA993F83A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F08A2-A158-43C4-8187-D53AE4C41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1082160" y="503280"/>
            <a:ext cx="8494920" cy="101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spcAft>
                <a:spcPts val="663"/>
              </a:spcAft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7129D1-6CBC-4003-8E8F-7F4DA13D4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435280" y="2939760"/>
            <a:ext cx="41454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082160" y="48729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6A346-5FA3-4F04-A31E-7A8027E1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41454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435280" y="29397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435280" y="48729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921E08-47B7-49E7-91F2-962DE589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435280" y="29397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082160" y="4872960"/>
            <a:ext cx="849492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6D8FB-D043-4A8B-874B-8EE2932F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849492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1082160" y="4872960"/>
            <a:ext cx="849492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1B8B0-4B74-4BBD-92C1-F1D386A86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435280" y="29397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082160" y="48729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5435280" y="48729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432360-338E-435E-ADB4-B345C3841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82160" y="503280"/>
            <a:ext cx="8494920" cy="101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spcAft>
                <a:spcPts val="663"/>
              </a:spcAft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E9C1-37D5-470D-952E-77B95229B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273528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954600" y="2939760"/>
            <a:ext cx="273528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27040" y="2939760"/>
            <a:ext cx="273528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1082160" y="4872960"/>
            <a:ext cx="273528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954600" y="4872960"/>
            <a:ext cx="273528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827040" y="4872960"/>
            <a:ext cx="273528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C02C5A-EEAB-4A08-92EA-498BB3640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01EA14-11B0-4D33-AA42-DFF4A555E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1082160" y="2939760"/>
            <a:ext cx="849492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spcAft>
                <a:spcPts val="663"/>
              </a:spcAft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767244-E5DA-4BE2-AD6D-233D2CDF0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849492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E5FF8D-7AEC-4D5D-A06A-FD5A66706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41454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435280" y="2939760"/>
            <a:ext cx="41454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212956-4063-4674-A793-6DC21D734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6C38C6-BAA6-41FC-BD8E-C0EDBC9B9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1082160" y="503280"/>
            <a:ext cx="8494920" cy="101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spcAft>
                <a:spcPts val="663"/>
              </a:spcAft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55CD0-7BBC-434F-A28C-2060362AB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435280" y="2939760"/>
            <a:ext cx="41454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082160" y="48729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876C2D-E6A7-471A-9329-11753DE2F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41454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435280" y="29397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435280" y="48729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9EDAA3-931A-44AE-A323-817DA7829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435280" y="29397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082160" y="4872960"/>
            <a:ext cx="849492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3AD202-3490-4505-838C-DD55B30F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35280" y="2939760"/>
            <a:ext cx="41454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82160" y="48729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0B64-6B40-4EEF-97B3-1ACA270C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849492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1082160" y="4872960"/>
            <a:ext cx="849492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E9AED-327F-46B2-ACED-597E3BABB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435280" y="29397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1082160" y="48729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5435280" y="48729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D1D9DA-C732-4A56-A1DF-A4CB2E8FE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273528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954600" y="2939760"/>
            <a:ext cx="273528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827040" y="2939760"/>
            <a:ext cx="273528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1082160" y="4872960"/>
            <a:ext cx="273528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954600" y="4872960"/>
            <a:ext cx="273528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827040" y="4872960"/>
            <a:ext cx="273528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A550AD-0A36-4031-A435-C88C51B26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F642F7-2570-4EDD-90A6-5D613F6FF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1082160" y="2939760"/>
            <a:ext cx="849492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spcAft>
                <a:spcPts val="663"/>
              </a:spcAft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7A81FD-4C73-4A0D-A61E-3900ACC49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849492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FABCDE-292F-4ADD-8C0D-58D4854DF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41454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435280" y="2939760"/>
            <a:ext cx="41454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218FB4-E957-4A4A-847E-B6C304F7D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1A28F1-8E11-42BF-A999-A149D811D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082160" y="503280"/>
            <a:ext cx="8494920" cy="101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spcAft>
                <a:spcPts val="663"/>
              </a:spcAft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F80012-C44F-4AD0-A55F-A09BFE3F5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435280" y="2939760"/>
            <a:ext cx="41454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1082160" y="48729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9F5DAB-67CD-4FA7-97E1-69E51A019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41454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35280" y="29397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35280" y="48729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DA5A-B588-4609-A1B8-B81C0DBF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41454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435280" y="29397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435280" y="48729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0E81B9-9C3A-43F7-8826-6201D40E8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435280" y="29397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1082160" y="4872960"/>
            <a:ext cx="849492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DC9183-4093-4AC9-ABAE-319023E6C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849492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1082160" y="4872960"/>
            <a:ext cx="849492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6F59DC-3162-403F-916D-0C4406E7D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435280" y="29397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1082160" y="48729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5435280" y="48729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39A452-766F-4787-A51E-06EA2991F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273528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954600" y="2939760"/>
            <a:ext cx="273528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27040" y="2939760"/>
            <a:ext cx="273528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1082160" y="4872960"/>
            <a:ext cx="273528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954600" y="4872960"/>
            <a:ext cx="273528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827040" y="4872960"/>
            <a:ext cx="273528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D41B52-743D-4948-8449-4B5045EBF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D37A50-495E-4F6F-A947-BFD9F4040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1082160" y="2939760"/>
            <a:ext cx="849492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spcAft>
                <a:spcPts val="663"/>
              </a:spcAft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E1CCDC-605B-461C-AF7E-D2F499E97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849492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C061D4-26E5-464D-9F21-68DF3CFBD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41454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435280" y="2939760"/>
            <a:ext cx="41454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0A7E97-62B8-4CD1-9976-A76726AFD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50EAD1-E27F-4D99-B662-57E3D5D6C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35280" y="29397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82160" y="4872960"/>
            <a:ext cx="849492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D5DD-11EE-447E-9202-A155DE402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1082160" y="503280"/>
            <a:ext cx="8494920" cy="101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spcAft>
                <a:spcPts val="663"/>
              </a:spcAft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9B163D-4BFB-47E6-9358-1AC3683ED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435280" y="2939760"/>
            <a:ext cx="41454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1082160" y="48729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6027F1-D8AC-4804-BEA6-7226EDDD5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41454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435280" y="29397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435280" y="48729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0F1B91-1BE6-4FBC-A80D-A5AF6028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435280" y="29397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082160" y="4872960"/>
            <a:ext cx="849492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0331D0-2806-40FE-A6E6-9295EC19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849492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1082160" y="4872960"/>
            <a:ext cx="849492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193764-A55F-4C71-9CC9-84563DB91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435280" y="29397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1082160" y="48729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5435280" y="4872960"/>
            <a:ext cx="41454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5415B0-A32A-4A30-9157-606A0F970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273528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954600" y="2939760"/>
            <a:ext cx="273528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827040" y="2939760"/>
            <a:ext cx="273528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1082160" y="4872960"/>
            <a:ext cx="273528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954600" y="4872960"/>
            <a:ext cx="273528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827040" y="4872960"/>
            <a:ext cx="273528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343A5E-9D6A-4103-AF24-01DA9D2C8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CBCEFF-2373-41A0-B234-DB06FBA10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1082160" y="2939760"/>
            <a:ext cx="849492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spcAft>
                <a:spcPts val="663"/>
              </a:spcAft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3330BF-839E-429E-9624-83DADCD59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082160" y="2939760"/>
            <a:ext cx="849492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spcAft>
                <a:spcPts val="663"/>
              </a:spcAft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533FB8-ECCC-4FB2-8EAE-1FC0D64C2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E721BD-A5EF-4F8B-AB7A-679E5A6A2E03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Group 13"/>
          <p:cNvGrpSpPr/>
          <p:nvPr/>
        </p:nvGrpSpPr>
        <p:grpSpPr>
          <a:xfrm>
            <a:off x="0" y="0"/>
            <a:ext cx="2351160" cy="7559640"/>
            <a:chOff x="0" y="0"/>
            <a:chExt cx="2351160" cy="7559640"/>
          </a:xfrm>
        </p:grpSpPr>
        <p:sp>
          <p:nvSpPr>
            <p:cNvPr id="428" name="Freeform 6"/>
            <p:cNvSpPr/>
            <p:nvPr/>
          </p:nvSpPr>
          <p:spPr>
            <a:xfrm>
              <a:off x="0" y="0"/>
              <a:ext cx="1183320" cy="583272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Freeform 7"/>
            <p:cNvSpPr/>
            <p:nvPr/>
          </p:nvSpPr>
          <p:spPr>
            <a:xfrm>
              <a:off x="0" y="0"/>
              <a:ext cx="836640" cy="509760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Freeform 8"/>
            <p:cNvSpPr/>
            <p:nvPr/>
          </p:nvSpPr>
          <p:spPr>
            <a:xfrm>
              <a:off x="0" y="6242040"/>
              <a:ext cx="1000080" cy="13176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Freeform 9"/>
            <p:cNvSpPr/>
            <p:nvPr/>
          </p:nvSpPr>
          <p:spPr>
            <a:xfrm>
              <a:off x="0" y="5837400"/>
              <a:ext cx="1640160" cy="17222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Freeform 10"/>
            <p:cNvSpPr/>
            <p:nvPr/>
          </p:nvSpPr>
          <p:spPr>
            <a:xfrm>
              <a:off x="0" y="5796000"/>
              <a:ext cx="2351160" cy="176364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Freeform 11"/>
            <p:cNvSpPr/>
            <p:nvPr/>
          </p:nvSpPr>
          <p:spPr>
            <a:xfrm>
              <a:off x="0" y="5905440"/>
              <a:ext cx="1519200" cy="165420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1082160" y="2939760"/>
            <a:ext cx="849492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5000"/>
          </a:bodyPr>
          <a:p>
            <a:pPr marL="298440" indent="-298440">
              <a:spcBef>
                <a:spcPts val="649"/>
              </a:spcBef>
              <a:spcAft>
                <a:spcPts val="663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76520" indent="-298440">
              <a:spcBef>
                <a:spcPts val="649"/>
              </a:spcBef>
              <a:spcAft>
                <a:spcPts val="663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2" marL="1256040" indent="-298440">
              <a:spcBef>
                <a:spcPts val="649"/>
              </a:spcBef>
              <a:spcAft>
                <a:spcPts val="663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3" marL="1614960" indent="-179280">
              <a:spcBef>
                <a:spcPts val="649"/>
              </a:spcBef>
              <a:spcAft>
                <a:spcPts val="663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4" marL="2093040" indent="-179280">
              <a:spcBef>
                <a:spcPts val="649"/>
              </a:spcBef>
              <a:spcAft>
                <a:spcPts val="663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5" marL="2093040" indent="-179280">
              <a:spcBef>
                <a:spcPts val="649"/>
              </a:spcBef>
              <a:spcAft>
                <a:spcPts val="663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6" marL="2093040" indent="-179280">
              <a:spcBef>
                <a:spcPts val="649"/>
              </a:spcBef>
              <a:spcAft>
                <a:spcPts val="663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dt" idx="28"/>
          </p:nvPr>
        </p:nvSpPr>
        <p:spPr>
          <a:xfrm>
            <a:off x="8112240" y="6742080"/>
            <a:ext cx="94608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ftr" idx="29"/>
          </p:nvPr>
        </p:nvSpPr>
        <p:spPr>
          <a:xfrm>
            <a:off x="2190600" y="6742080"/>
            <a:ext cx="585792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sldNum" idx="30"/>
          </p:nvPr>
        </p:nvSpPr>
        <p:spPr>
          <a:xfrm>
            <a:off x="9120240" y="6742080"/>
            <a:ext cx="45720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AEC3755-485C-4538-8ECA-9C1239FC4AF1}" type="slidenum">
              <a:rPr b="0" lang="en-US" sz="11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Group 13"/>
          <p:cNvGrpSpPr/>
          <p:nvPr/>
        </p:nvGrpSpPr>
        <p:grpSpPr>
          <a:xfrm>
            <a:off x="0" y="0"/>
            <a:ext cx="2351160" cy="7559640"/>
            <a:chOff x="0" y="0"/>
            <a:chExt cx="2351160" cy="7559640"/>
          </a:xfrm>
        </p:grpSpPr>
        <p:sp>
          <p:nvSpPr>
            <p:cNvPr id="476" name="Freeform 6"/>
            <p:cNvSpPr/>
            <p:nvPr/>
          </p:nvSpPr>
          <p:spPr>
            <a:xfrm>
              <a:off x="0" y="0"/>
              <a:ext cx="1183320" cy="583272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Freeform 7"/>
            <p:cNvSpPr/>
            <p:nvPr/>
          </p:nvSpPr>
          <p:spPr>
            <a:xfrm>
              <a:off x="0" y="0"/>
              <a:ext cx="836640" cy="509760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Freeform 8"/>
            <p:cNvSpPr/>
            <p:nvPr/>
          </p:nvSpPr>
          <p:spPr>
            <a:xfrm>
              <a:off x="0" y="6242040"/>
              <a:ext cx="1000080" cy="13176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Freeform 9"/>
            <p:cNvSpPr/>
            <p:nvPr/>
          </p:nvSpPr>
          <p:spPr>
            <a:xfrm>
              <a:off x="0" y="5837400"/>
              <a:ext cx="1640160" cy="17222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Freeform 10"/>
            <p:cNvSpPr/>
            <p:nvPr/>
          </p:nvSpPr>
          <p:spPr>
            <a:xfrm>
              <a:off x="0" y="5796000"/>
              <a:ext cx="2351160" cy="176364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Freeform 11"/>
            <p:cNvSpPr/>
            <p:nvPr/>
          </p:nvSpPr>
          <p:spPr>
            <a:xfrm>
              <a:off x="0" y="5905440"/>
              <a:ext cx="1519200" cy="165420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1082160" y="2939760"/>
            <a:ext cx="849492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5000"/>
          </a:bodyPr>
          <a:p>
            <a:pPr marL="298440" indent="-298440">
              <a:spcBef>
                <a:spcPts val="649"/>
              </a:spcBef>
              <a:spcAft>
                <a:spcPts val="663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76520" indent="-298440">
              <a:spcBef>
                <a:spcPts val="649"/>
              </a:spcBef>
              <a:spcAft>
                <a:spcPts val="663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2" marL="1256040" indent="-298440">
              <a:spcBef>
                <a:spcPts val="649"/>
              </a:spcBef>
              <a:spcAft>
                <a:spcPts val="663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3" marL="1614960" indent="-179280">
              <a:spcBef>
                <a:spcPts val="649"/>
              </a:spcBef>
              <a:spcAft>
                <a:spcPts val="663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4" marL="2093040" indent="-179280">
              <a:spcBef>
                <a:spcPts val="649"/>
              </a:spcBef>
              <a:spcAft>
                <a:spcPts val="663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5" marL="2093040" indent="-179280">
              <a:spcBef>
                <a:spcPts val="649"/>
              </a:spcBef>
              <a:spcAft>
                <a:spcPts val="663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6" marL="2093040" indent="-179280">
              <a:spcBef>
                <a:spcPts val="649"/>
              </a:spcBef>
              <a:spcAft>
                <a:spcPts val="663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dt" idx="31"/>
          </p:nvPr>
        </p:nvSpPr>
        <p:spPr>
          <a:xfrm>
            <a:off x="8112240" y="6742080"/>
            <a:ext cx="94608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ftr" idx="32"/>
          </p:nvPr>
        </p:nvSpPr>
        <p:spPr>
          <a:xfrm>
            <a:off x="2190600" y="6742080"/>
            <a:ext cx="585792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sldNum" idx="33"/>
          </p:nvPr>
        </p:nvSpPr>
        <p:spPr>
          <a:xfrm>
            <a:off x="9120240" y="6742080"/>
            <a:ext cx="45720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47F3357-F8A2-449E-9D8F-F4C05C0C26C8}" type="slidenum">
              <a:rPr b="0" lang="en-US" sz="11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Group 13"/>
          <p:cNvGrpSpPr/>
          <p:nvPr/>
        </p:nvGrpSpPr>
        <p:grpSpPr>
          <a:xfrm>
            <a:off x="0" y="0"/>
            <a:ext cx="2351160" cy="7559640"/>
            <a:chOff x="0" y="0"/>
            <a:chExt cx="2351160" cy="7559640"/>
          </a:xfrm>
        </p:grpSpPr>
        <p:sp>
          <p:nvSpPr>
            <p:cNvPr id="524" name="Freeform 6"/>
            <p:cNvSpPr/>
            <p:nvPr/>
          </p:nvSpPr>
          <p:spPr>
            <a:xfrm>
              <a:off x="0" y="0"/>
              <a:ext cx="1183320" cy="583272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Freeform 7"/>
            <p:cNvSpPr/>
            <p:nvPr/>
          </p:nvSpPr>
          <p:spPr>
            <a:xfrm>
              <a:off x="0" y="0"/>
              <a:ext cx="836640" cy="509760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Freeform 8"/>
            <p:cNvSpPr/>
            <p:nvPr/>
          </p:nvSpPr>
          <p:spPr>
            <a:xfrm>
              <a:off x="0" y="6242040"/>
              <a:ext cx="1000080" cy="13176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Freeform 9"/>
            <p:cNvSpPr/>
            <p:nvPr/>
          </p:nvSpPr>
          <p:spPr>
            <a:xfrm>
              <a:off x="0" y="5837400"/>
              <a:ext cx="1640160" cy="17222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Freeform 10"/>
            <p:cNvSpPr/>
            <p:nvPr/>
          </p:nvSpPr>
          <p:spPr>
            <a:xfrm>
              <a:off x="0" y="5796000"/>
              <a:ext cx="2351160" cy="176364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Freeform 11"/>
            <p:cNvSpPr/>
            <p:nvPr/>
          </p:nvSpPr>
          <p:spPr>
            <a:xfrm>
              <a:off x="0" y="5905440"/>
              <a:ext cx="1519200" cy="165420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0" name="TextBox 13"/>
          <p:cNvSpPr/>
          <p:nvPr/>
        </p:nvSpPr>
        <p:spPr>
          <a:xfrm>
            <a:off x="1068480" y="950760"/>
            <a:ext cx="5047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TextBox 14"/>
          <p:cNvSpPr/>
          <p:nvPr/>
        </p:nvSpPr>
        <p:spPr>
          <a:xfrm>
            <a:off x="9009000" y="3108240"/>
            <a:ext cx="5047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1082160" y="2939760"/>
            <a:ext cx="849492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5000"/>
          </a:bodyPr>
          <a:p>
            <a:pPr marL="298440" indent="-298440">
              <a:spcBef>
                <a:spcPts val="649"/>
              </a:spcBef>
              <a:spcAft>
                <a:spcPts val="663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76520" indent="-298440">
              <a:spcBef>
                <a:spcPts val="649"/>
              </a:spcBef>
              <a:spcAft>
                <a:spcPts val="663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2" marL="1256040" indent="-298440">
              <a:spcBef>
                <a:spcPts val="649"/>
              </a:spcBef>
              <a:spcAft>
                <a:spcPts val="663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3" marL="1614960" indent="-179280">
              <a:spcBef>
                <a:spcPts val="649"/>
              </a:spcBef>
              <a:spcAft>
                <a:spcPts val="663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4" marL="2093040" indent="-179280">
              <a:spcBef>
                <a:spcPts val="649"/>
              </a:spcBef>
              <a:spcAft>
                <a:spcPts val="663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5" marL="2093040" indent="-179280">
              <a:spcBef>
                <a:spcPts val="649"/>
              </a:spcBef>
              <a:spcAft>
                <a:spcPts val="663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6" marL="2093040" indent="-179280">
              <a:spcBef>
                <a:spcPts val="649"/>
              </a:spcBef>
              <a:spcAft>
                <a:spcPts val="663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dt" idx="34"/>
          </p:nvPr>
        </p:nvSpPr>
        <p:spPr>
          <a:xfrm>
            <a:off x="8112240" y="6742080"/>
            <a:ext cx="94608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 type="ftr" idx="35"/>
          </p:nvPr>
        </p:nvSpPr>
        <p:spPr>
          <a:xfrm>
            <a:off x="2190600" y="6742080"/>
            <a:ext cx="585792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 type="sldNum" idx="36"/>
          </p:nvPr>
        </p:nvSpPr>
        <p:spPr>
          <a:xfrm>
            <a:off x="9120240" y="6742080"/>
            <a:ext cx="45720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83BA6AF-E451-4436-A197-92B775EA592C}" type="slidenum">
              <a:rPr b="0" lang="ru-RU" sz="11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Group 13"/>
          <p:cNvGrpSpPr/>
          <p:nvPr/>
        </p:nvGrpSpPr>
        <p:grpSpPr>
          <a:xfrm>
            <a:off x="0" y="0"/>
            <a:ext cx="2351160" cy="7559640"/>
            <a:chOff x="0" y="0"/>
            <a:chExt cx="2351160" cy="7559640"/>
          </a:xfrm>
        </p:grpSpPr>
        <p:sp>
          <p:nvSpPr>
            <p:cNvPr id="574" name="Freeform 6"/>
            <p:cNvSpPr/>
            <p:nvPr/>
          </p:nvSpPr>
          <p:spPr>
            <a:xfrm>
              <a:off x="0" y="0"/>
              <a:ext cx="1183320" cy="583272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Freeform 7"/>
            <p:cNvSpPr/>
            <p:nvPr/>
          </p:nvSpPr>
          <p:spPr>
            <a:xfrm>
              <a:off x="0" y="0"/>
              <a:ext cx="836640" cy="509760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Freeform 8"/>
            <p:cNvSpPr/>
            <p:nvPr/>
          </p:nvSpPr>
          <p:spPr>
            <a:xfrm>
              <a:off x="0" y="6242040"/>
              <a:ext cx="1000080" cy="13176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Freeform 9"/>
            <p:cNvSpPr/>
            <p:nvPr/>
          </p:nvSpPr>
          <p:spPr>
            <a:xfrm>
              <a:off x="0" y="5837400"/>
              <a:ext cx="1640160" cy="17222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Freeform 10"/>
            <p:cNvSpPr/>
            <p:nvPr/>
          </p:nvSpPr>
          <p:spPr>
            <a:xfrm>
              <a:off x="0" y="5796000"/>
              <a:ext cx="2351160" cy="176364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Freeform 11"/>
            <p:cNvSpPr/>
            <p:nvPr/>
          </p:nvSpPr>
          <p:spPr>
            <a:xfrm>
              <a:off x="0" y="5905440"/>
              <a:ext cx="1519200" cy="165420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0" name="TextBox 13"/>
          <p:cNvSpPr/>
          <p:nvPr/>
        </p:nvSpPr>
        <p:spPr>
          <a:xfrm>
            <a:off x="1068480" y="950760"/>
            <a:ext cx="5047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TextBox 14"/>
          <p:cNvSpPr/>
          <p:nvPr/>
        </p:nvSpPr>
        <p:spPr>
          <a:xfrm>
            <a:off x="9009000" y="3108240"/>
            <a:ext cx="5047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1082160" y="2939760"/>
            <a:ext cx="849492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5000"/>
          </a:bodyPr>
          <a:p>
            <a:pPr marL="298440" indent="-298440">
              <a:spcBef>
                <a:spcPts val="649"/>
              </a:spcBef>
              <a:spcAft>
                <a:spcPts val="663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76520" indent="-298440">
              <a:spcBef>
                <a:spcPts val="649"/>
              </a:spcBef>
              <a:spcAft>
                <a:spcPts val="663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2" marL="1256040" indent="-298440">
              <a:spcBef>
                <a:spcPts val="649"/>
              </a:spcBef>
              <a:spcAft>
                <a:spcPts val="663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3" marL="1614960" indent="-179280">
              <a:spcBef>
                <a:spcPts val="649"/>
              </a:spcBef>
              <a:spcAft>
                <a:spcPts val="663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4" marL="2093040" indent="-179280">
              <a:spcBef>
                <a:spcPts val="649"/>
              </a:spcBef>
              <a:spcAft>
                <a:spcPts val="663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5" marL="2093040" indent="-179280">
              <a:spcBef>
                <a:spcPts val="649"/>
              </a:spcBef>
              <a:spcAft>
                <a:spcPts val="663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6" marL="2093040" indent="-179280">
              <a:spcBef>
                <a:spcPts val="649"/>
              </a:spcBef>
              <a:spcAft>
                <a:spcPts val="663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 type="dt" idx="37"/>
          </p:nvPr>
        </p:nvSpPr>
        <p:spPr>
          <a:xfrm>
            <a:off x="8112240" y="6742080"/>
            <a:ext cx="94608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 type="ftr" idx="38"/>
          </p:nvPr>
        </p:nvSpPr>
        <p:spPr>
          <a:xfrm>
            <a:off x="2190600" y="6742080"/>
            <a:ext cx="585792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 type="sldNum" idx="39"/>
          </p:nvPr>
        </p:nvSpPr>
        <p:spPr>
          <a:xfrm>
            <a:off x="9120240" y="6742080"/>
            <a:ext cx="45720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F90EEAB-5D1B-4B09-A415-E5340500703B}" type="slidenum">
              <a:rPr b="0" lang="ru-RU" sz="11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3" name="Group 13"/>
          <p:cNvGrpSpPr/>
          <p:nvPr/>
        </p:nvGrpSpPr>
        <p:grpSpPr>
          <a:xfrm>
            <a:off x="0" y="0"/>
            <a:ext cx="2351160" cy="7559640"/>
            <a:chOff x="0" y="0"/>
            <a:chExt cx="2351160" cy="7559640"/>
          </a:xfrm>
        </p:grpSpPr>
        <p:sp>
          <p:nvSpPr>
            <p:cNvPr id="624" name="Freeform 6"/>
            <p:cNvSpPr/>
            <p:nvPr/>
          </p:nvSpPr>
          <p:spPr>
            <a:xfrm>
              <a:off x="0" y="0"/>
              <a:ext cx="1183320" cy="583272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Freeform 7"/>
            <p:cNvSpPr/>
            <p:nvPr/>
          </p:nvSpPr>
          <p:spPr>
            <a:xfrm>
              <a:off x="0" y="0"/>
              <a:ext cx="836640" cy="509760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Freeform 8"/>
            <p:cNvSpPr/>
            <p:nvPr/>
          </p:nvSpPr>
          <p:spPr>
            <a:xfrm>
              <a:off x="0" y="6242040"/>
              <a:ext cx="1000080" cy="13176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Freeform 9"/>
            <p:cNvSpPr/>
            <p:nvPr/>
          </p:nvSpPr>
          <p:spPr>
            <a:xfrm>
              <a:off x="0" y="5837400"/>
              <a:ext cx="1640160" cy="17222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Freeform 10"/>
            <p:cNvSpPr/>
            <p:nvPr/>
          </p:nvSpPr>
          <p:spPr>
            <a:xfrm>
              <a:off x="0" y="5796000"/>
              <a:ext cx="2351160" cy="176364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Freeform 11"/>
            <p:cNvSpPr/>
            <p:nvPr/>
          </p:nvSpPr>
          <p:spPr>
            <a:xfrm>
              <a:off x="0" y="5905440"/>
              <a:ext cx="1519200" cy="165420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1082160" y="2939760"/>
            <a:ext cx="849492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5000"/>
          </a:bodyPr>
          <a:p>
            <a:pPr marL="298440" indent="-298440">
              <a:spcBef>
                <a:spcPts val="649"/>
              </a:spcBef>
              <a:spcAft>
                <a:spcPts val="663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76520" indent="-298440">
              <a:spcBef>
                <a:spcPts val="649"/>
              </a:spcBef>
              <a:spcAft>
                <a:spcPts val="663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2" marL="1256040" indent="-298440">
              <a:spcBef>
                <a:spcPts val="649"/>
              </a:spcBef>
              <a:spcAft>
                <a:spcPts val="663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3" marL="1614960" indent="-179280">
              <a:spcBef>
                <a:spcPts val="649"/>
              </a:spcBef>
              <a:spcAft>
                <a:spcPts val="663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4" marL="2093040" indent="-179280">
              <a:spcBef>
                <a:spcPts val="649"/>
              </a:spcBef>
              <a:spcAft>
                <a:spcPts val="663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5" marL="2093040" indent="-179280">
              <a:spcBef>
                <a:spcPts val="649"/>
              </a:spcBef>
              <a:spcAft>
                <a:spcPts val="663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6" marL="2093040" indent="-179280">
              <a:spcBef>
                <a:spcPts val="649"/>
              </a:spcBef>
              <a:spcAft>
                <a:spcPts val="663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 type="dt" idx="40"/>
          </p:nvPr>
        </p:nvSpPr>
        <p:spPr>
          <a:xfrm>
            <a:off x="8112240" y="6742080"/>
            <a:ext cx="94608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 type="ftr" idx="41"/>
          </p:nvPr>
        </p:nvSpPr>
        <p:spPr>
          <a:xfrm>
            <a:off x="2190600" y="6742080"/>
            <a:ext cx="585792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 type="sldNum" idx="42"/>
          </p:nvPr>
        </p:nvSpPr>
        <p:spPr>
          <a:xfrm>
            <a:off x="9120240" y="6742080"/>
            <a:ext cx="45720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23E6577-8CF7-4572-98F8-D00584B27349}" type="slidenum">
              <a:rPr b="0" lang="en-US" sz="11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1" name="Group 13"/>
          <p:cNvGrpSpPr/>
          <p:nvPr/>
        </p:nvGrpSpPr>
        <p:grpSpPr>
          <a:xfrm>
            <a:off x="0" y="0"/>
            <a:ext cx="2351160" cy="7559640"/>
            <a:chOff x="0" y="0"/>
            <a:chExt cx="2351160" cy="7559640"/>
          </a:xfrm>
        </p:grpSpPr>
        <p:sp>
          <p:nvSpPr>
            <p:cNvPr id="672" name="Freeform 6"/>
            <p:cNvSpPr/>
            <p:nvPr/>
          </p:nvSpPr>
          <p:spPr>
            <a:xfrm>
              <a:off x="0" y="0"/>
              <a:ext cx="1183320" cy="583272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Freeform 7"/>
            <p:cNvSpPr/>
            <p:nvPr/>
          </p:nvSpPr>
          <p:spPr>
            <a:xfrm>
              <a:off x="0" y="0"/>
              <a:ext cx="836640" cy="509760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Freeform 8"/>
            <p:cNvSpPr/>
            <p:nvPr/>
          </p:nvSpPr>
          <p:spPr>
            <a:xfrm>
              <a:off x="0" y="6242040"/>
              <a:ext cx="1000080" cy="13176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Freeform 9"/>
            <p:cNvSpPr/>
            <p:nvPr/>
          </p:nvSpPr>
          <p:spPr>
            <a:xfrm>
              <a:off x="0" y="5837400"/>
              <a:ext cx="1640160" cy="17222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Freeform 10"/>
            <p:cNvSpPr/>
            <p:nvPr/>
          </p:nvSpPr>
          <p:spPr>
            <a:xfrm>
              <a:off x="0" y="5796000"/>
              <a:ext cx="2351160" cy="176364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Freeform 11"/>
            <p:cNvSpPr/>
            <p:nvPr/>
          </p:nvSpPr>
          <p:spPr>
            <a:xfrm>
              <a:off x="0" y="5905440"/>
              <a:ext cx="1519200" cy="165420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1082160" y="2939760"/>
            <a:ext cx="849492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5000"/>
          </a:bodyPr>
          <a:p>
            <a:pPr marL="298440" indent="-298440">
              <a:spcBef>
                <a:spcPts val="649"/>
              </a:spcBef>
              <a:spcAft>
                <a:spcPts val="663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76520" indent="-298440">
              <a:spcBef>
                <a:spcPts val="649"/>
              </a:spcBef>
              <a:spcAft>
                <a:spcPts val="663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2" marL="1256040" indent="-298440">
              <a:spcBef>
                <a:spcPts val="649"/>
              </a:spcBef>
              <a:spcAft>
                <a:spcPts val="663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3" marL="1614960" indent="-179280">
              <a:spcBef>
                <a:spcPts val="649"/>
              </a:spcBef>
              <a:spcAft>
                <a:spcPts val="663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4" marL="2093040" indent="-179280">
              <a:spcBef>
                <a:spcPts val="649"/>
              </a:spcBef>
              <a:spcAft>
                <a:spcPts val="663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5" marL="2093040" indent="-179280">
              <a:spcBef>
                <a:spcPts val="649"/>
              </a:spcBef>
              <a:spcAft>
                <a:spcPts val="663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6" marL="2093040" indent="-179280">
              <a:spcBef>
                <a:spcPts val="649"/>
              </a:spcBef>
              <a:spcAft>
                <a:spcPts val="663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 type="dt" idx="43"/>
          </p:nvPr>
        </p:nvSpPr>
        <p:spPr>
          <a:xfrm>
            <a:off x="8112240" y="6742080"/>
            <a:ext cx="94608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 type="ftr" idx="44"/>
          </p:nvPr>
        </p:nvSpPr>
        <p:spPr>
          <a:xfrm>
            <a:off x="2190600" y="6742080"/>
            <a:ext cx="585792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 type="sldNum" idx="45"/>
          </p:nvPr>
        </p:nvSpPr>
        <p:spPr>
          <a:xfrm>
            <a:off x="9120240" y="6742080"/>
            <a:ext cx="45720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A5FA571-BD38-4922-B410-579166E00A89}" type="slidenum">
              <a:rPr b="0" lang="en-US" sz="11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9" name="Group 13"/>
          <p:cNvGrpSpPr/>
          <p:nvPr/>
        </p:nvGrpSpPr>
        <p:grpSpPr>
          <a:xfrm>
            <a:off x="0" y="0"/>
            <a:ext cx="2351160" cy="7559640"/>
            <a:chOff x="0" y="0"/>
            <a:chExt cx="2351160" cy="7559640"/>
          </a:xfrm>
        </p:grpSpPr>
        <p:sp>
          <p:nvSpPr>
            <p:cNvPr id="720" name="Freeform 6"/>
            <p:cNvSpPr/>
            <p:nvPr/>
          </p:nvSpPr>
          <p:spPr>
            <a:xfrm>
              <a:off x="0" y="0"/>
              <a:ext cx="1183320" cy="583272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Freeform 7"/>
            <p:cNvSpPr/>
            <p:nvPr/>
          </p:nvSpPr>
          <p:spPr>
            <a:xfrm>
              <a:off x="0" y="0"/>
              <a:ext cx="836640" cy="509760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Freeform 8"/>
            <p:cNvSpPr/>
            <p:nvPr/>
          </p:nvSpPr>
          <p:spPr>
            <a:xfrm>
              <a:off x="0" y="6242040"/>
              <a:ext cx="1000080" cy="13176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Freeform 9"/>
            <p:cNvSpPr/>
            <p:nvPr/>
          </p:nvSpPr>
          <p:spPr>
            <a:xfrm>
              <a:off x="0" y="5837400"/>
              <a:ext cx="1640160" cy="17222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Freeform 10"/>
            <p:cNvSpPr/>
            <p:nvPr/>
          </p:nvSpPr>
          <p:spPr>
            <a:xfrm>
              <a:off x="0" y="5796000"/>
              <a:ext cx="2351160" cy="176364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Freeform 11"/>
            <p:cNvSpPr/>
            <p:nvPr/>
          </p:nvSpPr>
          <p:spPr>
            <a:xfrm>
              <a:off x="0" y="5905440"/>
              <a:ext cx="1519200" cy="165420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1082160" y="2939760"/>
            <a:ext cx="849492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5000"/>
          </a:bodyPr>
          <a:p>
            <a:pPr marL="298440" indent="-298440">
              <a:spcBef>
                <a:spcPts val="649"/>
              </a:spcBef>
              <a:spcAft>
                <a:spcPts val="663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76520" indent="-298440">
              <a:spcBef>
                <a:spcPts val="649"/>
              </a:spcBef>
              <a:spcAft>
                <a:spcPts val="663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2" marL="1256040" indent="-298440">
              <a:spcBef>
                <a:spcPts val="649"/>
              </a:spcBef>
              <a:spcAft>
                <a:spcPts val="663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3" marL="1614960" indent="-179280">
              <a:spcBef>
                <a:spcPts val="649"/>
              </a:spcBef>
              <a:spcAft>
                <a:spcPts val="663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4" marL="2093040" indent="-179280">
              <a:spcBef>
                <a:spcPts val="649"/>
              </a:spcBef>
              <a:spcAft>
                <a:spcPts val="663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5" marL="2093040" indent="-179280">
              <a:spcBef>
                <a:spcPts val="649"/>
              </a:spcBef>
              <a:spcAft>
                <a:spcPts val="663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6" marL="2093040" indent="-179280">
              <a:spcBef>
                <a:spcPts val="649"/>
              </a:spcBef>
              <a:spcAft>
                <a:spcPts val="663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4" name="Group 13"/>
          <p:cNvGrpSpPr/>
          <p:nvPr/>
        </p:nvGrpSpPr>
        <p:grpSpPr>
          <a:xfrm>
            <a:off x="0" y="0"/>
            <a:ext cx="2351160" cy="7559640"/>
            <a:chOff x="0" y="0"/>
            <a:chExt cx="2351160" cy="7559640"/>
          </a:xfrm>
        </p:grpSpPr>
        <p:sp>
          <p:nvSpPr>
            <p:cNvPr id="765" name="Freeform 6"/>
            <p:cNvSpPr/>
            <p:nvPr/>
          </p:nvSpPr>
          <p:spPr>
            <a:xfrm>
              <a:off x="0" y="0"/>
              <a:ext cx="1183320" cy="583272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Freeform 7"/>
            <p:cNvSpPr/>
            <p:nvPr/>
          </p:nvSpPr>
          <p:spPr>
            <a:xfrm>
              <a:off x="0" y="0"/>
              <a:ext cx="836640" cy="509760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Freeform 8"/>
            <p:cNvSpPr/>
            <p:nvPr/>
          </p:nvSpPr>
          <p:spPr>
            <a:xfrm>
              <a:off x="0" y="6242040"/>
              <a:ext cx="1000080" cy="13176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Freeform 9"/>
            <p:cNvSpPr/>
            <p:nvPr/>
          </p:nvSpPr>
          <p:spPr>
            <a:xfrm>
              <a:off x="0" y="5837400"/>
              <a:ext cx="1640160" cy="17222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Freeform 10"/>
            <p:cNvSpPr/>
            <p:nvPr/>
          </p:nvSpPr>
          <p:spPr>
            <a:xfrm>
              <a:off x="0" y="5796000"/>
              <a:ext cx="2351160" cy="176364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Freeform 11"/>
            <p:cNvSpPr/>
            <p:nvPr/>
          </p:nvSpPr>
          <p:spPr>
            <a:xfrm>
              <a:off x="0" y="5905440"/>
              <a:ext cx="1519200" cy="165420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1082160" y="2939760"/>
            <a:ext cx="849492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5000"/>
          </a:bodyPr>
          <a:p>
            <a:pPr marL="298440" indent="-298440">
              <a:spcBef>
                <a:spcPts val="649"/>
              </a:spcBef>
              <a:spcAft>
                <a:spcPts val="663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76520" indent="-298440">
              <a:spcBef>
                <a:spcPts val="649"/>
              </a:spcBef>
              <a:spcAft>
                <a:spcPts val="663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2" marL="1256040" indent="-298440">
              <a:spcBef>
                <a:spcPts val="649"/>
              </a:spcBef>
              <a:spcAft>
                <a:spcPts val="663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3" marL="1614960" indent="-179280">
              <a:spcBef>
                <a:spcPts val="649"/>
              </a:spcBef>
              <a:spcAft>
                <a:spcPts val="663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4" marL="2093040" indent="-179280">
              <a:spcBef>
                <a:spcPts val="649"/>
              </a:spcBef>
              <a:spcAft>
                <a:spcPts val="663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5" marL="2093040" indent="-179280">
              <a:spcBef>
                <a:spcPts val="649"/>
              </a:spcBef>
              <a:spcAft>
                <a:spcPts val="663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6" marL="2093040" indent="-179280">
              <a:spcBef>
                <a:spcPts val="649"/>
              </a:spcBef>
              <a:spcAft>
                <a:spcPts val="663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3"/>
          <p:cNvGrpSpPr/>
          <p:nvPr/>
        </p:nvGrpSpPr>
        <p:grpSpPr>
          <a:xfrm>
            <a:off x="0" y="0"/>
            <a:ext cx="2351160" cy="7559640"/>
            <a:chOff x="0" y="0"/>
            <a:chExt cx="2351160" cy="7559640"/>
          </a:xfrm>
        </p:grpSpPr>
        <p:sp>
          <p:nvSpPr>
            <p:cNvPr id="42" name="Freeform 6"/>
            <p:cNvSpPr/>
            <p:nvPr/>
          </p:nvSpPr>
          <p:spPr>
            <a:xfrm>
              <a:off x="0" y="0"/>
              <a:ext cx="1183320" cy="583272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Freeform 7"/>
            <p:cNvSpPr/>
            <p:nvPr/>
          </p:nvSpPr>
          <p:spPr>
            <a:xfrm>
              <a:off x="0" y="0"/>
              <a:ext cx="836640" cy="509760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Freeform 8"/>
            <p:cNvSpPr/>
            <p:nvPr/>
          </p:nvSpPr>
          <p:spPr>
            <a:xfrm>
              <a:off x="0" y="6242040"/>
              <a:ext cx="1000080" cy="13176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Freeform 9"/>
            <p:cNvSpPr/>
            <p:nvPr/>
          </p:nvSpPr>
          <p:spPr>
            <a:xfrm>
              <a:off x="0" y="5837400"/>
              <a:ext cx="1640160" cy="17222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10"/>
            <p:cNvSpPr/>
            <p:nvPr/>
          </p:nvSpPr>
          <p:spPr>
            <a:xfrm>
              <a:off x="0" y="5796000"/>
              <a:ext cx="2351160" cy="176364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Freeform 11"/>
            <p:cNvSpPr/>
            <p:nvPr/>
          </p:nvSpPr>
          <p:spPr>
            <a:xfrm>
              <a:off x="0" y="5905440"/>
              <a:ext cx="1519200" cy="165420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082160" y="2939760"/>
            <a:ext cx="849492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5000"/>
          </a:bodyPr>
          <a:p>
            <a:pPr marL="298440" indent="-298440">
              <a:spcBef>
                <a:spcPts val="649"/>
              </a:spcBef>
              <a:spcAft>
                <a:spcPts val="663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76520" indent="-298440">
              <a:spcBef>
                <a:spcPts val="649"/>
              </a:spcBef>
              <a:spcAft>
                <a:spcPts val="663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2" marL="1256040" indent="-298440">
              <a:spcBef>
                <a:spcPts val="649"/>
              </a:spcBef>
              <a:spcAft>
                <a:spcPts val="663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3" marL="1614960" indent="-179280">
              <a:spcBef>
                <a:spcPts val="649"/>
              </a:spcBef>
              <a:spcAft>
                <a:spcPts val="663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4" marL="2093040" indent="-179280">
              <a:spcBef>
                <a:spcPts val="649"/>
              </a:spcBef>
              <a:spcAft>
                <a:spcPts val="663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5" marL="2093040" indent="-179280">
              <a:spcBef>
                <a:spcPts val="649"/>
              </a:spcBef>
              <a:spcAft>
                <a:spcPts val="663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6" marL="2093040" indent="-179280">
              <a:spcBef>
                <a:spcPts val="649"/>
              </a:spcBef>
              <a:spcAft>
                <a:spcPts val="663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8112240" y="6742080"/>
            <a:ext cx="94608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190600" y="6742080"/>
            <a:ext cx="585792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9120240" y="6742080"/>
            <a:ext cx="45720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6F3D777-5D1E-4C2E-A865-0CCEE68BCB6C}" type="slidenum">
              <a:rPr b="0" lang="ru-RU" sz="11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4"/>
          <p:cNvGrpSpPr/>
          <p:nvPr/>
        </p:nvGrpSpPr>
        <p:grpSpPr>
          <a:xfrm>
            <a:off x="223920" y="0"/>
            <a:ext cx="4165560" cy="7559640"/>
            <a:chOff x="223920" y="0"/>
            <a:chExt cx="4165560" cy="7559640"/>
          </a:xfrm>
        </p:grpSpPr>
        <p:sp>
          <p:nvSpPr>
            <p:cNvPr id="90" name="Freeform 6"/>
            <p:cNvSpPr/>
            <p:nvPr/>
          </p:nvSpPr>
          <p:spPr>
            <a:xfrm>
              <a:off x="706680" y="0"/>
              <a:ext cx="1505160" cy="4378320"/>
            </a:xfrm>
            <a:custGeom>
              <a:avLst/>
              <a:gdLst/>
              <a:ahLst/>
              <a:rect l="l" t="t" r="r" b="b"/>
              <a:pathLst>
                <a:path w="860" h="2502">
                  <a:moveTo>
                    <a:pt x="0" y="2445"/>
                  </a:moveTo>
                  <a:lnTo>
                    <a:pt x="228" y="2502"/>
                  </a:lnTo>
                  <a:lnTo>
                    <a:pt x="860" y="0"/>
                  </a:lnTo>
                  <a:lnTo>
                    <a:pt x="620" y="0"/>
                  </a:lnTo>
                  <a:lnTo>
                    <a:pt x="0" y="2445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7"/>
            <p:cNvSpPr/>
            <p:nvPr/>
          </p:nvSpPr>
          <p:spPr>
            <a:xfrm>
              <a:off x="223920" y="0"/>
              <a:ext cx="1473120" cy="4257720"/>
            </a:xfrm>
            <a:custGeom>
              <a:avLst/>
              <a:gdLst/>
              <a:ahLst/>
              <a:rect l="l" t="t" r="r" b="b"/>
              <a:pathLst>
                <a:path w="842" h="2433">
                  <a:moveTo>
                    <a:pt x="842" y="0"/>
                  </a:moveTo>
                  <a:lnTo>
                    <a:pt x="602" y="0"/>
                  </a:lnTo>
                  <a:lnTo>
                    <a:pt x="0" y="2376"/>
                  </a:lnTo>
                  <a:lnTo>
                    <a:pt x="228" y="2433"/>
                  </a:lnTo>
                  <a:lnTo>
                    <a:pt x="842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8"/>
            <p:cNvSpPr/>
            <p:nvPr/>
          </p:nvSpPr>
          <p:spPr>
            <a:xfrm>
              <a:off x="228600" y="4162320"/>
              <a:ext cx="2135160" cy="3397320"/>
            </a:xfrm>
            <a:custGeom>
              <a:avLst/>
              <a:gdLst/>
              <a:ahLst/>
              <a:rect l="l" t="t" r="r" b="b"/>
              <a:pathLst>
                <a:path w="1220" h="1941">
                  <a:moveTo>
                    <a:pt x="0" y="0"/>
                  </a:moveTo>
                  <a:lnTo>
                    <a:pt x="1166" y="1941"/>
                  </a:lnTo>
                  <a:lnTo>
                    <a:pt x="1220" y="19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9"/>
            <p:cNvSpPr/>
            <p:nvPr/>
          </p:nvSpPr>
          <p:spPr>
            <a:xfrm>
              <a:off x="712800" y="4282920"/>
              <a:ext cx="2616120" cy="3276720"/>
            </a:xfrm>
            <a:custGeom>
              <a:avLst/>
              <a:gdLst/>
              <a:ahLst/>
              <a:rect l="l" t="t" r="r" b="b"/>
              <a:pathLst>
                <a:path w="1495" h="1872">
                  <a:moveTo>
                    <a:pt x="1495" y="1872"/>
                  </a:moveTo>
                  <a:lnTo>
                    <a:pt x="0" y="0"/>
                  </a:lnTo>
                  <a:lnTo>
                    <a:pt x="1442" y="1872"/>
                  </a:lnTo>
                  <a:lnTo>
                    <a:pt x="1495" y="1872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0"/>
            <p:cNvSpPr/>
            <p:nvPr/>
          </p:nvSpPr>
          <p:spPr>
            <a:xfrm>
              <a:off x="706320" y="4278240"/>
              <a:ext cx="3683160" cy="3281400"/>
            </a:xfrm>
            <a:custGeom>
              <a:avLst/>
              <a:gdLst/>
              <a:ahLst/>
              <a:rect l="l" t="t" r="r" b="b"/>
              <a:pathLst>
                <a:path w="2104" h="1875">
                  <a:moveTo>
                    <a:pt x="0" y="0"/>
                  </a:moveTo>
                  <a:lnTo>
                    <a:pt x="3" y="3"/>
                  </a:lnTo>
                  <a:lnTo>
                    <a:pt x="1498" y="1875"/>
                  </a:lnTo>
                  <a:lnTo>
                    <a:pt x="2104" y="1875"/>
                  </a:lnTo>
                  <a:lnTo>
                    <a:pt x="228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1"/>
            <p:cNvSpPr/>
            <p:nvPr/>
          </p:nvSpPr>
          <p:spPr>
            <a:xfrm>
              <a:off x="223920" y="4157640"/>
              <a:ext cx="2933640" cy="3402000"/>
            </a:xfrm>
            <a:custGeom>
              <a:avLst/>
              <a:gdLst/>
              <a:ahLst/>
              <a:rect l="l" t="t" r="r" b="b"/>
              <a:pathLst>
                <a:path w="1676" h="1944">
                  <a:moveTo>
                    <a:pt x="1676" y="1944"/>
                  </a:moveTo>
                  <a:lnTo>
                    <a:pt x="264" y="111"/>
                  </a:lnTo>
                  <a:lnTo>
                    <a:pt x="225" y="60"/>
                  </a:lnTo>
                  <a:lnTo>
                    <a:pt x="228" y="60"/>
                  </a:lnTo>
                  <a:lnTo>
                    <a:pt x="264" y="111"/>
                  </a:lnTo>
                  <a:lnTo>
                    <a:pt x="234" y="69"/>
                  </a:lnTo>
                  <a:lnTo>
                    <a:pt x="228" y="57"/>
                  </a:lnTo>
                  <a:lnTo>
                    <a:pt x="222" y="54"/>
                  </a:lnTo>
                  <a:lnTo>
                    <a:pt x="0" y="0"/>
                  </a:lnTo>
                  <a:lnTo>
                    <a:pt x="3" y="3"/>
                  </a:lnTo>
                  <a:lnTo>
                    <a:pt x="1223" y="1944"/>
                  </a:lnTo>
                  <a:lnTo>
                    <a:pt x="1676" y="1944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" name="Freeform 12"/>
          <p:cNvSpPr/>
          <p:nvPr/>
        </p:nvSpPr>
        <p:spPr>
          <a:xfrm>
            <a:off x="223920" y="4157640"/>
            <a:ext cx="398520" cy="100080"/>
          </a:xfrm>
          <a:custGeom>
            <a:avLst/>
            <a:gdLst/>
            <a:ahLst/>
            <a:rect l="l" t="t" r="r" b="b"/>
            <a:pathLst>
              <a:path w="228" h="57">
                <a:moveTo>
                  <a:pt x="228" y="57"/>
                </a:moveTo>
                <a:lnTo>
                  <a:pt x="0" y="0"/>
                </a:lnTo>
                <a:lnTo>
                  <a:pt x="222" y="54"/>
                </a:lnTo>
                <a:lnTo>
                  <a:pt x="228" y="57"/>
                </a:lnTo>
                <a:close/>
              </a:path>
            </a:pathLst>
          </a:custGeom>
          <a:solidFill>
            <a:srgbClr val="29ab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Freeform 13"/>
          <p:cNvSpPr/>
          <p:nvPr/>
        </p:nvSpPr>
        <p:spPr>
          <a:xfrm>
            <a:off x="617400" y="4262400"/>
            <a:ext cx="68400" cy="88920"/>
          </a:xfrm>
          <a:custGeom>
            <a:avLst/>
            <a:gdLst/>
            <a:ahLst/>
            <a:rect l="l" t="t" r="r" b="b"/>
            <a:pathLst>
              <a:path w="39" h="51">
                <a:moveTo>
                  <a:pt x="0" y="0"/>
                </a:moveTo>
                <a:lnTo>
                  <a:pt x="39" y="51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29ab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082160" y="2939760"/>
            <a:ext cx="849492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5000"/>
          </a:bodyPr>
          <a:p>
            <a:pPr marL="298440" indent="-298440">
              <a:spcBef>
                <a:spcPts val="649"/>
              </a:spcBef>
              <a:spcAft>
                <a:spcPts val="663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76520" indent="-298440">
              <a:spcBef>
                <a:spcPts val="649"/>
              </a:spcBef>
              <a:spcAft>
                <a:spcPts val="663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2" marL="1256040" indent="-298440">
              <a:spcBef>
                <a:spcPts val="649"/>
              </a:spcBef>
              <a:spcAft>
                <a:spcPts val="663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3" marL="1614960" indent="-179280">
              <a:spcBef>
                <a:spcPts val="649"/>
              </a:spcBef>
              <a:spcAft>
                <a:spcPts val="663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4" marL="2093040" indent="-179280">
              <a:spcBef>
                <a:spcPts val="649"/>
              </a:spcBef>
              <a:spcAft>
                <a:spcPts val="663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5" marL="2093040" indent="-179280">
              <a:spcBef>
                <a:spcPts val="649"/>
              </a:spcBef>
              <a:spcAft>
                <a:spcPts val="663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6" marL="2093040" indent="-179280">
              <a:spcBef>
                <a:spcPts val="649"/>
              </a:spcBef>
              <a:spcAft>
                <a:spcPts val="663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8075520" y="6743520"/>
            <a:ext cx="9460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993840" y="6743520"/>
            <a:ext cx="3979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9123120" y="6743520"/>
            <a:ext cx="4539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4C6EFE0-F63A-450A-9BE5-9AC4A3188F2E}" type="slidenum">
              <a:rPr b="0" lang="en-US" sz="11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13"/>
          <p:cNvGrpSpPr/>
          <p:nvPr/>
        </p:nvGrpSpPr>
        <p:grpSpPr>
          <a:xfrm>
            <a:off x="0" y="0"/>
            <a:ext cx="2351160" cy="7559640"/>
            <a:chOff x="0" y="0"/>
            <a:chExt cx="2351160" cy="7559640"/>
          </a:xfrm>
        </p:grpSpPr>
        <p:sp>
          <p:nvSpPr>
            <p:cNvPr id="140" name="Freeform 6"/>
            <p:cNvSpPr/>
            <p:nvPr/>
          </p:nvSpPr>
          <p:spPr>
            <a:xfrm>
              <a:off x="0" y="0"/>
              <a:ext cx="1183320" cy="583272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7"/>
            <p:cNvSpPr/>
            <p:nvPr/>
          </p:nvSpPr>
          <p:spPr>
            <a:xfrm>
              <a:off x="0" y="0"/>
              <a:ext cx="836640" cy="509760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8"/>
            <p:cNvSpPr/>
            <p:nvPr/>
          </p:nvSpPr>
          <p:spPr>
            <a:xfrm>
              <a:off x="0" y="6242040"/>
              <a:ext cx="1000080" cy="13176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9"/>
            <p:cNvSpPr/>
            <p:nvPr/>
          </p:nvSpPr>
          <p:spPr>
            <a:xfrm>
              <a:off x="0" y="5837400"/>
              <a:ext cx="1640160" cy="17222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10"/>
            <p:cNvSpPr/>
            <p:nvPr/>
          </p:nvSpPr>
          <p:spPr>
            <a:xfrm>
              <a:off x="0" y="5796000"/>
              <a:ext cx="2351160" cy="176364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11"/>
            <p:cNvSpPr/>
            <p:nvPr/>
          </p:nvSpPr>
          <p:spPr>
            <a:xfrm>
              <a:off x="0" y="5905440"/>
              <a:ext cx="1519200" cy="165420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1082160" y="2939760"/>
            <a:ext cx="849492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5000"/>
          </a:bodyPr>
          <a:p>
            <a:pPr marL="298440" indent="-298440">
              <a:spcBef>
                <a:spcPts val="649"/>
              </a:spcBef>
              <a:spcAft>
                <a:spcPts val="663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76520" indent="-298440">
              <a:spcBef>
                <a:spcPts val="649"/>
              </a:spcBef>
              <a:spcAft>
                <a:spcPts val="663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2" marL="1256040" indent="-298440">
              <a:spcBef>
                <a:spcPts val="649"/>
              </a:spcBef>
              <a:spcAft>
                <a:spcPts val="663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3" marL="1614960" indent="-179280">
              <a:spcBef>
                <a:spcPts val="649"/>
              </a:spcBef>
              <a:spcAft>
                <a:spcPts val="663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4" marL="2093040" indent="-179280">
              <a:spcBef>
                <a:spcPts val="649"/>
              </a:spcBef>
              <a:spcAft>
                <a:spcPts val="663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5" marL="2093040" indent="-179280">
              <a:spcBef>
                <a:spcPts val="649"/>
              </a:spcBef>
              <a:spcAft>
                <a:spcPts val="663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6" marL="2093040" indent="-179280">
              <a:spcBef>
                <a:spcPts val="649"/>
              </a:spcBef>
              <a:spcAft>
                <a:spcPts val="663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8096400" y="6732720"/>
            <a:ext cx="94608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2174400" y="6732720"/>
            <a:ext cx="58597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9104400" y="6732720"/>
            <a:ext cx="47304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90233F2-7C82-4A8B-B8A5-51EFBD80A978}" type="slidenum">
              <a:rPr b="0" lang="en-US" sz="11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13"/>
          <p:cNvGrpSpPr/>
          <p:nvPr/>
        </p:nvGrpSpPr>
        <p:grpSpPr>
          <a:xfrm>
            <a:off x="0" y="0"/>
            <a:ext cx="2351160" cy="7559640"/>
            <a:chOff x="0" y="0"/>
            <a:chExt cx="2351160" cy="7559640"/>
          </a:xfrm>
        </p:grpSpPr>
        <p:sp>
          <p:nvSpPr>
            <p:cNvPr id="188" name="Freeform 6"/>
            <p:cNvSpPr/>
            <p:nvPr/>
          </p:nvSpPr>
          <p:spPr>
            <a:xfrm>
              <a:off x="0" y="0"/>
              <a:ext cx="1183320" cy="583272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7"/>
            <p:cNvSpPr/>
            <p:nvPr/>
          </p:nvSpPr>
          <p:spPr>
            <a:xfrm>
              <a:off x="0" y="0"/>
              <a:ext cx="836640" cy="509760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8"/>
            <p:cNvSpPr/>
            <p:nvPr/>
          </p:nvSpPr>
          <p:spPr>
            <a:xfrm>
              <a:off x="0" y="6242040"/>
              <a:ext cx="1000080" cy="13176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9"/>
            <p:cNvSpPr/>
            <p:nvPr/>
          </p:nvSpPr>
          <p:spPr>
            <a:xfrm>
              <a:off x="0" y="5837400"/>
              <a:ext cx="1640160" cy="17222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10"/>
            <p:cNvSpPr/>
            <p:nvPr/>
          </p:nvSpPr>
          <p:spPr>
            <a:xfrm>
              <a:off x="0" y="5796000"/>
              <a:ext cx="2351160" cy="176364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11"/>
            <p:cNvSpPr/>
            <p:nvPr/>
          </p:nvSpPr>
          <p:spPr>
            <a:xfrm>
              <a:off x="0" y="5905440"/>
              <a:ext cx="1519200" cy="165420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1082160" y="2939760"/>
            <a:ext cx="849492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5000"/>
          </a:bodyPr>
          <a:p>
            <a:pPr marL="298440" indent="-298440">
              <a:spcBef>
                <a:spcPts val="649"/>
              </a:spcBef>
              <a:spcAft>
                <a:spcPts val="663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76520" indent="-298440">
              <a:spcBef>
                <a:spcPts val="649"/>
              </a:spcBef>
              <a:spcAft>
                <a:spcPts val="663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2" marL="1256040" indent="-298440">
              <a:spcBef>
                <a:spcPts val="649"/>
              </a:spcBef>
              <a:spcAft>
                <a:spcPts val="663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3" marL="1614960" indent="-179280">
              <a:spcBef>
                <a:spcPts val="649"/>
              </a:spcBef>
              <a:spcAft>
                <a:spcPts val="663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4" marL="2093040" indent="-179280">
              <a:spcBef>
                <a:spcPts val="649"/>
              </a:spcBef>
              <a:spcAft>
                <a:spcPts val="663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5" marL="2093040" indent="-179280">
              <a:spcBef>
                <a:spcPts val="649"/>
              </a:spcBef>
              <a:spcAft>
                <a:spcPts val="663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6" marL="2093040" indent="-179280">
              <a:spcBef>
                <a:spcPts val="649"/>
              </a:spcBef>
              <a:spcAft>
                <a:spcPts val="663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8112240" y="6742080"/>
            <a:ext cx="94608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2190600" y="6742080"/>
            <a:ext cx="585792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9120240" y="6742080"/>
            <a:ext cx="45720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3C76ACA-BDF2-4D82-BFF4-FE74AD224747}" type="slidenum">
              <a:rPr b="0" lang="en-US" sz="11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Group 13"/>
          <p:cNvGrpSpPr/>
          <p:nvPr/>
        </p:nvGrpSpPr>
        <p:grpSpPr>
          <a:xfrm>
            <a:off x="0" y="0"/>
            <a:ext cx="2351160" cy="7559640"/>
            <a:chOff x="0" y="0"/>
            <a:chExt cx="2351160" cy="7559640"/>
          </a:xfrm>
        </p:grpSpPr>
        <p:sp>
          <p:nvSpPr>
            <p:cNvPr id="236" name="Freeform 6"/>
            <p:cNvSpPr/>
            <p:nvPr/>
          </p:nvSpPr>
          <p:spPr>
            <a:xfrm>
              <a:off x="0" y="0"/>
              <a:ext cx="1183320" cy="583272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Freeform 7"/>
            <p:cNvSpPr/>
            <p:nvPr/>
          </p:nvSpPr>
          <p:spPr>
            <a:xfrm>
              <a:off x="0" y="0"/>
              <a:ext cx="836640" cy="509760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Freeform 8"/>
            <p:cNvSpPr/>
            <p:nvPr/>
          </p:nvSpPr>
          <p:spPr>
            <a:xfrm>
              <a:off x="0" y="6242040"/>
              <a:ext cx="1000080" cy="13176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Freeform 9"/>
            <p:cNvSpPr/>
            <p:nvPr/>
          </p:nvSpPr>
          <p:spPr>
            <a:xfrm>
              <a:off x="0" y="5837400"/>
              <a:ext cx="1640160" cy="17222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Freeform 10"/>
            <p:cNvSpPr/>
            <p:nvPr/>
          </p:nvSpPr>
          <p:spPr>
            <a:xfrm>
              <a:off x="0" y="5796000"/>
              <a:ext cx="2351160" cy="176364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Freeform 11"/>
            <p:cNvSpPr/>
            <p:nvPr/>
          </p:nvSpPr>
          <p:spPr>
            <a:xfrm>
              <a:off x="0" y="5905440"/>
              <a:ext cx="1519200" cy="165420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1082160" y="2939760"/>
            <a:ext cx="849492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5000"/>
          </a:bodyPr>
          <a:p>
            <a:pPr marL="298440" indent="-298440">
              <a:spcBef>
                <a:spcPts val="649"/>
              </a:spcBef>
              <a:spcAft>
                <a:spcPts val="663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76520" indent="-298440">
              <a:spcBef>
                <a:spcPts val="649"/>
              </a:spcBef>
              <a:spcAft>
                <a:spcPts val="663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2" marL="1256040" indent="-298440">
              <a:spcBef>
                <a:spcPts val="649"/>
              </a:spcBef>
              <a:spcAft>
                <a:spcPts val="663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3" marL="1614960" indent="-179280">
              <a:spcBef>
                <a:spcPts val="649"/>
              </a:spcBef>
              <a:spcAft>
                <a:spcPts val="663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4" marL="2093040" indent="-179280">
              <a:spcBef>
                <a:spcPts val="649"/>
              </a:spcBef>
              <a:spcAft>
                <a:spcPts val="663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5" marL="2093040" indent="-179280">
              <a:spcBef>
                <a:spcPts val="649"/>
              </a:spcBef>
              <a:spcAft>
                <a:spcPts val="663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6" marL="2093040" indent="-179280">
              <a:spcBef>
                <a:spcPts val="649"/>
              </a:spcBef>
              <a:spcAft>
                <a:spcPts val="663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8112240" y="6742080"/>
            <a:ext cx="94608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2190600" y="6742080"/>
            <a:ext cx="585792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9120240" y="6742080"/>
            <a:ext cx="45720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BC9EF40-C18C-4189-8532-B889EB39A8E2}" type="slidenum">
              <a:rPr b="0" lang="en-US" sz="11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Group 13"/>
          <p:cNvGrpSpPr/>
          <p:nvPr/>
        </p:nvGrpSpPr>
        <p:grpSpPr>
          <a:xfrm>
            <a:off x="0" y="0"/>
            <a:ext cx="2351160" cy="7559640"/>
            <a:chOff x="0" y="0"/>
            <a:chExt cx="2351160" cy="7559640"/>
          </a:xfrm>
        </p:grpSpPr>
        <p:sp>
          <p:nvSpPr>
            <p:cNvPr id="284" name="Freeform 6"/>
            <p:cNvSpPr/>
            <p:nvPr/>
          </p:nvSpPr>
          <p:spPr>
            <a:xfrm>
              <a:off x="0" y="0"/>
              <a:ext cx="1183320" cy="583272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Freeform 7"/>
            <p:cNvSpPr/>
            <p:nvPr/>
          </p:nvSpPr>
          <p:spPr>
            <a:xfrm>
              <a:off x="0" y="0"/>
              <a:ext cx="836640" cy="509760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Freeform 8"/>
            <p:cNvSpPr/>
            <p:nvPr/>
          </p:nvSpPr>
          <p:spPr>
            <a:xfrm>
              <a:off x="0" y="6242040"/>
              <a:ext cx="1000080" cy="13176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Freeform 9"/>
            <p:cNvSpPr/>
            <p:nvPr/>
          </p:nvSpPr>
          <p:spPr>
            <a:xfrm>
              <a:off x="0" y="5837400"/>
              <a:ext cx="1640160" cy="17222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Freeform 10"/>
            <p:cNvSpPr/>
            <p:nvPr/>
          </p:nvSpPr>
          <p:spPr>
            <a:xfrm>
              <a:off x="0" y="5796000"/>
              <a:ext cx="2351160" cy="176364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Freeform 11"/>
            <p:cNvSpPr/>
            <p:nvPr/>
          </p:nvSpPr>
          <p:spPr>
            <a:xfrm>
              <a:off x="0" y="5905440"/>
              <a:ext cx="1519200" cy="165420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1082160" y="2939760"/>
            <a:ext cx="849492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5000"/>
          </a:bodyPr>
          <a:p>
            <a:pPr marL="298440" indent="-298440">
              <a:spcBef>
                <a:spcPts val="649"/>
              </a:spcBef>
              <a:spcAft>
                <a:spcPts val="663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76520" indent="-298440">
              <a:spcBef>
                <a:spcPts val="649"/>
              </a:spcBef>
              <a:spcAft>
                <a:spcPts val="663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2" marL="1256040" indent="-298440">
              <a:spcBef>
                <a:spcPts val="649"/>
              </a:spcBef>
              <a:spcAft>
                <a:spcPts val="663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3" marL="1614960" indent="-179280">
              <a:spcBef>
                <a:spcPts val="649"/>
              </a:spcBef>
              <a:spcAft>
                <a:spcPts val="663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4" marL="2093040" indent="-179280">
              <a:spcBef>
                <a:spcPts val="649"/>
              </a:spcBef>
              <a:spcAft>
                <a:spcPts val="663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5" marL="2093040" indent="-179280">
              <a:spcBef>
                <a:spcPts val="649"/>
              </a:spcBef>
              <a:spcAft>
                <a:spcPts val="663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6" marL="2093040" indent="-179280">
              <a:spcBef>
                <a:spcPts val="649"/>
              </a:spcBef>
              <a:spcAft>
                <a:spcPts val="663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8112240" y="6742080"/>
            <a:ext cx="94608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2190600" y="6742080"/>
            <a:ext cx="585792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9120240" y="6742080"/>
            <a:ext cx="45720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EC811D0-95E1-42B4-830E-5BC3706CAEBC}" type="slidenum">
              <a:rPr b="0" lang="en-US" sz="11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Group 13"/>
          <p:cNvGrpSpPr/>
          <p:nvPr/>
        </p:nvGrpSpPr>
        <p:grpSpPr>
          <a:xfrm>
            <a:off x="0" y="0"/>
            <a:ext cx="2351160" cy="7559640"/>
            <a:chOff x="0" y="0"/>
            <a:chExt cx="2351160" cy="7559640"/>
          </a:xfrm>
        </p:grpSpPr>
        <p:sp>
          <p:nvSpPr>
            <p:cNvPr id="332" name="Freeform 6"/>
            <p:cNvSpPr/>
            <p:nvPr/>
          </p:nvSpPr>
          <p:spPr>
            <a:xfrm>
              <a:off x="0" y="0"/>
              <a:ext cx="1183320" cy="583272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Freeform 7"/>
            <p:cNvSpPr/>
            <p:nvPr/>
          </p:nvSpPr>
          <p:spPr>
            <a:xfrm>
              <a:off x="0" y="0"/>
              <a:ext cx="836640" cy="509760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Freeform 8"/>
            <p:cNvSpPr/>
            <p:nvPr/>
          </p:nvSpPr>
          <p:spPr>
            <a:xfrm>
              <a:off x="0" y="6242040"/>
              <a:ext cx="1000080" cy="13176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Freeform 9"/>
            <p:cNvSpPr/>
            <p:nvPr/>
          </p:nvSpPr>
          <p:spPr>
            <a:xfrm>
              <a:off x="0" y="5837400"/>
              <a:ext cx="1640160" cy="17222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Freeform 10"/>
            <p:cNvSpPr/>
            <p:nvPr/>
          </p:nvSpPr>
          <p:spPr>
            <a:xfrm>
              <a:off x="0" y="5796000"/>
              <a:ext cx="2351160" cy="176364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Freeform 11"/>
            <p:cNvSpPr/>
            <p:nvPr/>
          </p:nvSpPr>
          <p:spPr>
            <a:xfrm>
              <a:off x="0" y="5905440"/>
              <a:ext cx="1519200" cy="165420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1082160" y="2939760"/>
            <a:ext cx="849492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5000"/>
          </a:bodyPr>
          <a:p>
            <a:pPr marL="298440" indent="-298440">
              <a:spcBef>
                <a:spcPts val="649"/>
              </a:spcBef>
              <a:spcAft>
                <a:spcPts val="663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76520" indent="-298440">
              <a:spcBef>
                <a:spcPts val="649"/>
              </a:spcBef>
              <a:spcAft>
                <a:spcPts val="663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2" marL="1256040" indent="-298440">
              <a:spcBef>
                <a:spcPts val="649"/>
              </a:spcBef>
              <a:spcAft>
                <a:spcPts val="663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3" marL="1614960" indent="-179280">
              <a:spcBef>
                <a:spcPts val="649"/>
              </a:spcBef>
              <a:spcAft>
                <a:spcPts val="663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4" marL="2093040" indent="-179280">
              <a:spcBef>
                <a:spcPts val="649"/>
              </a:spcBef>
              <a:spcAft>
                <a:spcPts val="663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5" marL="2093040" indent="-179280">
              <a:spcBef>
                <a:spcPts val="649"/>
              </a:spcBef>
              <a:spcAft>
                <a:spcPts val="663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6" marL="2093040" indent="-179280">
              <a:spcBef>
                <a:spcPts val="649"/>
              </a:spcBef>
              <a:spcAft>
                <a:spcPts val="663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2"/>
          </p:nvPr>
        </p:nvSpPr>
        <p:spPr>
          <a:xfrm>
            <a:off x="8112240" y="6742080"/>
            <a:ext cx="94608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3"/>
          </p:nvPr>
        </p:nvSpPr>
        <p:spPr>
          <a:xfrm>
            <a:off x="2190600" y="6742080"/>
            <a:ext cx="585792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4"/>
          </p:nvPr>
        </p:nvSpPr>
        <p:spPr>
          <a:xfrm>
            <a:off x="9120240" y="6742080"/>
            <a:ext cx="45720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7F9DF28-9C8D-467C-B462-87094DB5531B}" type="slidenum">
              <a:rPr b="0" lang="en-US" sz="11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Group 13"/>
          <p:cNvGrpSpPr/>
          <p:nvPr/>
        </p:nvGrpSpPr>
        <p:grpSpPr>
          <a:xfrm>
            <a:off x="0" y="0"/>
            <a:ext cx="2351160" cy="7559640"/>
            <a:chOff x="0" y="0"/>
            <a:chExt cx="2351160" cy="7559640"/>
          </a:xfrm>
        </p:grpSpPr>
        <p:sp>
          <p:nvSpPr>
            <p:cNvPr id="380" name="Freeform 6"/>
            <p:cNvSpPr/>
            <p:nvPr/>
          </p:nvSpPr>
          <p:spPr>
            <a:xfrm>
              <a:off x="0" y="0"/>
              <a:ext cx="1183320" cy="583272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Freeform 7"/>
            <p:cNvSpPr/>
            <p:nvPr/>
          </p:nvSpPr>
          <p:spPr>
            <a:xfrm>
              <a:off x="0" y="0"/>
              <a:ext cx="836640" cy="509760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Freeform 8"/>
            <p:cNvSpPr/>
            <p:nvPr/>
          </p:nvSpPr>
          <p:spPr>
            <a:xfrm>
              <a:off x="0" y="6242040"/>
              <a:ext cx="1000080" cy="13176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Freeform 9"/>
            <p:cNvSpPr/>
            <p:nvPr/>
          </p:nvSpPr>
          <p:spPr>
            <a:xfrm>
              <a:off x="0" y="5837400"/>
              <a:ext cx="1640160" cy="17222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Freeform 10"/>
            <p:cNvSpPr/>
            <p:nvPr/>
          </p:nvSpPr>
          <p:spPr>
            <a:xfrm>
              <a:off x="0" y="5796000"/>
              <a:ext cx="2351160" cy="176364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Freeform 11"/>
            <p:cNvSpPr/>
            <p:nvPr/>
          </p:nvSpPr>
          <p:spPr>
            <a:xfrm>
              <a:off x="0" y="5905440"/>
              <a:ext cx="1519200" cy="165420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82160" y="503280"/>
            <a:ext cx="84949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1082160" y="2939760"/>
            <a:ext cx="849492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5000"/>
          </a:bodyPr>
          <a:p>
            <a:pPr marL="298440" indent="-298440">
              <a:spcBef>
                <a:spcPts val="649"/>
              </a:spcBef>
              <a:spcAft>
                <a:spcPts val="663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76520" indent="-298440">
              <a:spcBef>
                <a:spcPts val="649"/>
              </a:spcBef>
              <a:spcAft>
                <a:spcPts val="663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2" marL="1256040" indent="-298440">
              <a:spcBef>
                <a:spcPts val="649"/>
              </a:spcBef>
              <a:spcAft>
                <a:spcPts val="663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3" marL="1614960" indent="-179280">
              <a:spcBef>
                <a:spcPts val="649"/>
              </a:spcBef>
              <a:spcAft>
                <a:spcPts val="663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4" marL="2093040" indent="-179280">
              <a:spcBef>
                <a:spcPts val="649"/>
              </a:spcBef>
              <a:spcAft>
                <a:spcPts val="663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5" marL="2093040" indent="-179280">
              <a:spcBef>
                <a:spcPts val="649"/>
              </a:spcBef>
              <a:spcAft>
                <a:spcPts val="663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6" marL="2093040" indent="-179280">
              <a:spcBef>
                <a:spcPts val="649"/>
              </a:spcBef>
              <a:spcAft>
                <a:spcPts val="663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25"/>
          </p:nvPr>
        </p:nvSpPr>
        <p:spPr>
          <a:xfrm>
            <a:off x="8112240" y="6742080"/>
            <a:ext cx="94608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26"/>
          </p:nvPr>
        </p:nvSpPr>
        <p:spPr>
          <a:xfrm>
            <a:off x="2190600" y="6742080"/>
            <a:ext cx="585792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sldNum" idx="27"/>
          </p:nvPr>
        </p:nvSpPr>
        <p:spPr>
          <a:xfrm>
            <a:off x="9120240" y="6742080"/>
            <a:ext cx="45720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5C80D68-A250-49B8-998A-7CBCE4CAB088}" type="slidenum">
              <a:rPr b="0" lang="en-US" sz="11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tIns="2124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Проект «Моя любимая игрушка.»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МАДОУ ДС № 50 г.Челябинск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810" name="Рисунок 1" descr=""/>
          <p:cNvPicPr/>
          <p:nvPr/>
        </p:nvPicPr>
        <p:blipFill>
          <a:blip r:embed="rId1"/>
          <a:stretch/>
        </p:blipFill>
        <p:spPr>
          <a:xfrm>
            <a:off x="2303640" y="2266920"/>
            <a:ext cx="5616360" cy="4392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tIns="2124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НОД: Рисование  и лепка на тему « Моя любимая игрушка»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832" name="Picture 3" descr=""/>
          <p:cNvPicPr/>
          <p:nvPr/>
        </p:nvPicPr>
        <p:blipFill>
          <a:blip r:embed="rId1"/>
          <a:stretch/>
        </p:blipFill>
        <p:spPr>
          <a:xfrm>
            <a:off x="5151600" y="2879640"/>
            <a:ext cx="4424040" cy="3527640"/>
          </a:xfrm>
          <a:prstGeom prst="rect">
            <a:avLst/>
          </a:prstGeom>
          <a:ln w="0">
            <a:noFill/>
          </a:ln>
        </p:spPr>
      </p:pic>
      <p:pic>
        <p:nvPicPr>
          <p:cNvPr id="833" name="Рисунок 1" descr=""/>
          <p:cNvPicPr/>
          <p:nvPr/>
        </p:nvPicPr>
        <p:blipFill>
          <a:blip r:embed="rId2"/>
          <a:stretch/>
        </p:blipFill>
        <p:spPr>
          <a:xfrm>
            <a:off x="590400" y="2884320"/>
            <a:ext cx="4561200" cy="35229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tIns="2124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«Моя любимая игрушка»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tIns="14040" anchor="ctr">
            <a:normAutofit/>
          </a:bodyPr>
          <a:p>
            <a:pPr marL="104760" algn="ctr">
              <a:lnSpc>
                <a:spcPct val="100000"/>
              </a:lnSpc>
              <a:spcBef>
                <a:spcPts val="601"/>
              </a:spcBef>
              <a:spcAft>
                <a:spcPts val="663"/>
              </a:spcAft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561600"/>
                <a:tab algn="l" pos="10064880"/>
                <a:tab algn="l" pos="105681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оги проект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104760">
              <a:lnSpc>
                <a:spcPct val="100000"/>
              </a:lnSpc>
              <a:spcBef>
                <a:spcPts val="601"/>
              </a:spcBef>
              <a:spcAft>
                <a:spcPts val="663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561600"/>
                <a:tab algn="l" pos="10064880"/>
                <a:tab algn="l" pos="105681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лаж «Любимые игрушки»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104760">
              <a:lnSpc>
                <a:spcPct val="100000"/>
              </a:lnSpc>
              <a:spcBef>
                <a:spcPts val="601"/>
              </a:spcBef>
              <a:spcAft>
                <a:spcPts val="663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561600"/>
                <a:tab algn="l" pos="10064880"/>
                <a:tab algn="l" pos="105681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авка поделок из пластилин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104760">
              <a:lnSpc>
                <a:spcPct val="100000"/>
              </a:lnSpc>
              <a:spcBef>
                <a:spcPts val="601"/>
              </a:spcBef>
              <a:spcAft>
                <a:spcPts val="663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561600"/>
                <a:tab algn="l" pos="10064880"/>
                <a:tab algn="l" pos="105681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авка игрушек из бумаги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104760">
              <a:lnSpc>
                <a:spcPct val="100000"/>
              </a:lnSpc>
              <a:spcBef>
                <a:spcPts val="601"/>
              </a:spcBef>
              <a:spcAft>
                <a:spcPts val="663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561600"/>
                <a:tab algn="l" pos="10064880"/>
                <a:tab algn="l" pos="105681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авка книжек малышек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104760">
              <a:lnSpc>
                <a:spcPct val="100000"/>
              </a:lnSpc>
              <a:spcBef>
                <a:spcPts val="601"/>
              </a:spcBef>
              <a:spcAft>
                <a:spcPts val="663"/>
              </a:spcAft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561600"/>
                <a:tab algn="l" pos="10064880"/>
                <a:tab algn="l" pos="1056816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Text Box 1"/>
          <p:cNvSpPr/>
          <p:nvPr/>
        </p:nvSpPr>
        <p:spPr>
          <a:xfrm>
            <a:off x="741240" y="555480"/>
            <a:ext cx="8605800" cy="63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1640" algn="ctr"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вод и итоги проект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был первый проект который использовался в групп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целом он оправдал все поставленные цели. Особенно цели совместной деятельности ребенка и родителей. Родители после консультация « Какие игрушки полезны ребенку» пересмотрели  свои взгляды на покупку игрушек . Некоторые родители не стали принимать участие нам не удалось включить их в работ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ти продолжали улучшать свои навыки пересказа и выступления публично. Они стали более бережно относиться к игрушка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tIns="2124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«Моя любимая игрушка»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1079640" y="1399680"/>
            <a:ext cx="4200480" cy="2271960"/>
          </a:xfrm>
          <a:prstGeom prst="rect">
            <a:avLst/>
          </a:prstGeom>
          <a:noFill/>
          <a:ln w="0">
            <a:noFill/>
          </a:ln>
        </p:spPr>
        <p:txBody>
          <a:bodyPr tIns="13320" anchor="ctr">
            <a:normAutofit/>
          </a:bodyPr>
          <a:p>
            <a:pPr marL="428760" indent="-324000">
              <a:lnSpc>
                <a:spcPct val="100000"/>
              </a:lnSpc>
              <a:spcBef>
                <a:spcPts val="451"/>
              </a:spcBef>
              <a:spcAft>
                <a:spcPts val="663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561600"/>
                <a:tab algn="l" pos="10064880"/>
                <a:tab algn="l" pos="105681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и проекта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28760" indent="-324000">
              <a:lnSpc>
                <a:spcPct val="100000"/>
              </a:lnSpc>
              <a:spcBef>
                <a:spcPts val="451"/>
              </a:spcBef>
              <a:spcAft>
                <a:spcPts val="663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561600"/>
                <a:tab algn="l" pos="10064880"/>
                <a:tab algn="l" pos="105681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28760" indent="-324000">
              <a:lnSpc>
                <a:spcPct val="100000"/>
              </a:lnSpc>
              <a:spcBef>
                <a:spcPts val="451"/>
              </a:spcBef>
              <a:spcAft>
                <a:spcPts val="663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561600"/>
                <a:tab algn="l" pos="10064880"/>
                <a:tab algn="l" pos="105681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28760" indent="-324000">
              <a:lnSpc>
                <a:spcPct val="100000"/>
              </a:lnSpc>
              <a:spcBef>
                <a:spcPts val="451"/>
              </a:spcBef>
              <a:spcAft>
                <a:spcPts val="663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561600"/>
                <a:tab algn="l" pos="10064880"/>
                <a:tab algn="l" pos="105681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3" name="Text Box 3"/>
          <p:cNvSpPr/>
          <p:nvPr/>
        </p:nvSpPr>
        <p:spPr>
          <a:xfrm>
            <a:off x="5165640" y="2004840"/>
            <a:ext cx="420048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4040" bIns="0" anchor="t">
            <a:noAutofit/>
          </a:bodyPr>
          <a:p>
            <a:pPr marL="428760" indent="-3240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или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отина О.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Text Box 4"/>
          <p:cNvSpPr/>
          <p:nvPr/>
        </p:nvSpPr>
        <p:spPr>
          <a:xfrm>
            <a:off x="792000" y="3743280"/>
            <a:ext cx="8556840" cy="31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тановка проблемы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се дошкольники очень любят играть в игрушки, но не все знают как с ними играть, из чего они сделаны и не умеют бережно относиться к ним. Данный проект поможет детям научиться бережно обращаться с игрушками, узнать из чего они изготовлен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дивидуальный, краткосрочный, информационно–практико-ориентированный проект: ребенок-родители собирают информацию и реализуют ее, ориентируясь на собственные социальные интерес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tIns="2124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«Моя любимая игрушка.»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6" name=""/>
          <p:cNvSpPr txBox="1"/>
          <p:nvPr/>
        </p:nvSpPr>
        <p:spPr>
          <a:xfrm>
            <a:off x="741240" y="1830240"/>
            <a:ext cx="4200480" cy="476280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rmAutofit/>
          </a:bodyPr>
          <a:p>
            <a:pPr marL="431640" indent="-320400">
              <a:lnSpc>
                <a:spcPct val="90000"/>
              </a:lnSpc>
              <a:spcBef>
                <a:spcPts val="400"/>
              </a:spcBef>
              <a:spcAft>
                <a:spcPts val="663"/>
              </a:spcAft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561600"/>
                <a:tab algn="l" pos="10064880"/>
                <a:tab algn="l" pos="105681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Цель проекта: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31640" indent="-320400">
              <a:lnSpc>
                <a:spcPct val="139000"/>
              </a:lnSpc>
              <a:spcBef>
                <a:spcPts val="499"/>
              </a:spcBef>
              <a:spcAft>
                <a:spcPts val="663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561600"/>
                <a:tab algn="l" pos="10064880"/>
                <a:tab algn="l" pos="105681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ь детей рассказывать по памяти о своей любимой игрушке, описывая ее подробно и интересно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1640" indent="-320400">
              <a:lnSpc>
                <a:spcPct val="139000"/>
              </a:lnSpc>
              <a:spcBef>
                <a:spcPts val="499"/>
              </a:spcBef>
              <a:spcAft>
                <a:spcPts val="663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561600"/>
                <a:tab algn="l" pos="10064880"/>
                <a:tab algn="l" pos="105681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звать желание бережно относиться к игрушкам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1640" indent="-320400">
              <a:lnSpc>
                <a:spcPct val="139000"/>
              </a:lnSpc>
              <a:spcBef>
                <a:spcPts val="499"/>
              </a:spcBef>
              <a:spcAft>
                <a:spcPts val="663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561600"/>
                <a:tab algn="l" pos="10064880"/>
                <a:tab algn="l" pos="105681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ять представления детей об окружающем мире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7" name=""/>
          <p:cNvSpPr txBox="1"/>
          <p:nvPr/>
        </p:nvSpPr>
        <p:spPr>
          <a:xfrm>
            <a:off x="5149800" y="1817280"/>
            <a:ext cx="4200480" cy="476244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rmAutofit/>
          </a:bodyPr>
          <a:p>
            <a:pPr marL="431640" indent="-320400">
              <a:lnSpc>
                <a:spcPct val="90000"/>
              </a:lnSpc>
              <a:spcBef>
                <a:spcPts val="400"/>
              </a:spcBef>
              <a:spcAft>
                <a:spcPts val="663"/>
              </a:spcAft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561600"/>
                <a:tab algn="l" pos="10064880"/>
                <a:tab algn="l" pos="105681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Задачи: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31640" indent="-320400">
              <a:lnSpc>
                <a:spcPct val="139000"/>
              </a:lnSpc>
              <a:spcBef>
                <a:spcPts val="451"/>
              </a:spcBef>
              <a:spcAft>
                <a:spcPts val="663"/>
              </a:spcAft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561600"/>
                <a:tab algn="l" pos="10064880"/>
                <a:tab algn="l" pos="105681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ть навыкам составления рассказа на основе личного опыта на тему "Моя любимая игрушка"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1640" indent="-320400">
              <a:lnSpc>
                <a:spcPct val="139000"/>
              </a:lnSpc>
              <a:spcBef>
                <a:spcPts val="451"/>
              </a:spcBef>
              <a:spcAft>
                <a:spcPts val="663"/>
              </a:spcAft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561600"/>
                <a:tab algn="l" pos="10064880"/>
                <a:tab algn="l" pos="105681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ь рассказывать последовательно, выразительно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1640" indent="-320400">
              <a:lnSpc>
                <a:spcPct val="139000"/>
              </a:lnSpc>
              <a:spcBef>
                <a:spcPts val="451"/>
              </a:spcBef>
              <a:spcAft>
                <a:spcPts val="663"/>
              </a:spcAft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561600"/>
                <a:tab algn="l" pos="10064880"/>
                <a:tab algn="l" pos="105681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ь детей внимательно слушать своих товарищей, не перебивать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1640" indent="-320400">
              <a:lnSpc>
                <a:spcPct val="139000"/>
              </a:lnSpc>
              <a:spcBef>
                <a:spcPts val="400"/>
              </a:spcBef>
              <a:spcAft>
                <a:spcPts val="663"/>
              </a:spcAft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561600"/>
                <a:tab algn="l" pos="10064880"/>
                <a:tab algn="l" pos="105681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ивать любовь, бережное отношение к игрушкам, желание убирать их на место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tIns="2124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«Моя  любимая игрушка»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152000" y="2101680"/>
            <a:ext cx="4200840" cy="4199040"/>
          </a:xfrm>
          <a:prstGeom prst="rect">
            <a:avLst/>
          </a:prstGeom>
          <a:noFill/>
          <a:ln w="0">
            <a:noFill/>
          </a:ln>
        </p:spPr>
        <p:txBody>
          <a:bodyPr tIns="14040" anchor="ctr">
            <a:normAutofit/>
          </a:bodyPr>
          <a:p>
            <a:pPr marL="104760" indent="0">
              <a:lnSpc>
                <a:spcPct val="80000"/>
              </a:lnSpc>
              <a:spcBef>
                <a:spcPts val="601"/>
              </a:spcBef>
              <a:spcAft>
                <a:spcPts val="663"/>
              </a:spcAft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561600"/>
                <a:tab algn="l" pos="10064880"/>
                <a:tab algn="l" pos="105681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ая деятельность  педагога с детьм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104760">
              <a:lnSpc>
                <a:spcPct val="80000"/>
              </a:lnSpc>
              <a:spcBef>
                <a:spcPts val="601"/>
              </a:spcBef>
              <a:spcAft>
                <a:spcPts val="663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561600"/>
                <a:tab algn="l" pos="10064880"/>
                <a:tab algn="l" pos="105681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еда об игрушках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104760">
              <a:lnSpc>
                <a:spcPct val="80000"/>
              </a:lnSpc>
              <a:spcBef>
                <a:spcPts val="601"/>
              </a:spcBef>
              <a:spcAft>
                <a:spcPts val="663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561600"/>
                <a:tab algn="l" pos="10064880"/>
                <a:tab algn="l" pos="105681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ение художественной литературы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104760">
              <a:lnSpc>
                <a:spcPct val="80000"/>
              </a:lnSpc>
              <a:spcBef>
                <a:spcPts val="601"/>
              </a:spcBef>
              <a:spcAft>
                <a:spcPts val="663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561600"/>
                <a:tab algn="l" pos="10064880"/>
                <a:tab algn="l" pos="105681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пка: «Герои любимых сказок»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104760">
              <a:lnSpc>
                <a:spcPct val="80000"/>
              </a:lnSpc>
              <a:spcBef>
                <a:spcPts val="601"/>
              </a:spcBef>
              <a:spcAft>
                <a:spcPts val="663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561600"/>
                <a:tab algn="l" pos="10064880"/>
                <a:tab algn="l" pos="105681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отовление игрушек из бумаги (техника оригами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104760">
              <a:lnSpc>
                <a:spcPct val="80000"/>
              </a:lnSpc>
              <a:spcBef>
                <a:spcPts val="201"/>
              </a:spcBef>
              <a:spcAft>
                <a:spcPts val="663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561600"/>
                <a:tab algn="l" pos="10064880"/>
                <a:tab algn="l" pos="105681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каз о любимой игрушки</a:t>
            </a:r>
            <a:r>
              <a:rPr b="0" lang="ru-RU" sz="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0" name="Рисунок 2" descr=""/>
          <p:cNvPicPr/>
          <p:nvPr/>
        </p:nvPicPr>
        <p:blipFill>
          <a:blip r:embed="rId1"/>
          <a:stretch/>
        </p:blipFill>
        <p:spPr>
          <a:xfrm>
            <a:off x="2016000" y="611280"/>
            <a:ext cx="4200480" cy="2334960"/>
          </a:xfrm>
          <a:prstGeom prst="rect">
            <a:avLst/>
          </a:prstGeom>
          <a:ln w="0">
            <a:noFill/>
          </a:ln>
        </p:spPr>
      </p:pic>
      <p:sp>
        <p:nvSpPr>
          <p:cNvPr id="821" name="Text Box 4"/>
          <p:cNvSpPr/>
          <p:nvPr/>
        </p:nvSpPr>
        <p:spPr>
          <a:xfrm>
            <a:off x="5111640" y="2556000"/>
            <a:ext cx="4200480" cy="47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4040" bIns="0" anchor="t">
            <a:noAutofit/>
          </a:bodyPr>
          <a:p>
            <a:pPr marL="428760" indent="-3240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действия с родителям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ка наглядной информации игрушка в жизни ребенк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"/>
          <p:cNvSpPr/>
          <p:nvPr/>
        </p:nvSpPr>
        <p:spPr>
          <a:xfrm>
            <a:off x="741240" y="555480"/>
            <a:ext cx="8609040" cy="63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1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вместная деятельность родителей с деть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tIns="2124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Выставка книжек-малышек: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824" name="Picture 2" descr=""/>
          <p:cNvPicPr/>
          <p:nvPr/>
        </p:nvPicPr>
        <p:blipFill>
          <a:blip r:embed="rId1"/>
          <a:stretch/>
        </p:blipFill>
        <p:spPr>
          <a:xfrm>
            <a:off x="1841400" y="2101680"/>
            <a:ext cx="6408720" cy="47847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1082160" y="502920"/>
            <a:ext cx="8494920" cy="15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Выставка поделок: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826" name="Рисунок 3" descr=""/>
          <p:cNvPicPr/>
          <p:nvPr/>
        </p:nvPicPr>
        <p:blipFill>
          <a:blip r:embed="rId1"/>
          <a:stretch/>
        </p:blipFill>
        <p:spPr>
          <a:xfrm>
            <a:off x="852480" y="1889280"/>
            <a:ext cx="3684600" cy="1744560"/>
          </a:xfrm>
          <a:prstGeom prst="rect">
            <a:avLst/>
          </a:prstGeom>
          <a:ln w="0">
            <a:noFill/>
          </a:ln>
        </p:spPr>
      </p:pic>
      <p:pic>
        <p:nvPicPr>
          <p:cNvPr id="827" name="Рисунок 4" descr=""/>
          <p:cNvPicPr/>
          <p:nvPr/>
        </p:nvPicPr>
        <p:blipFill>
          <a:blip r:embed="rId2"/>
          <a:stretch/>
        </p:blipFill>
        <p:spPr>
          <a:xfrm>
            <a:off x="6867360" y="2395440"/>
            <a:ext cx="2243160" cy="3989520"/>
          </a:xfrm>
          <a:prstGeom prst="rect">
            <a:avLst/>
          </a:prstGeom>
          <a:ln w="0">
            <a:noFill/>
          </a:ln>
        </p:spPr>
      </p:pic>
      <p:pic>
        <p:nvPicPr>
          <p:cNvPr id="828" name="Рисунок 5" descr=""/>
          <p:cNvPicPr/>
          <p:nvPr/>
        </p:nvPicPr>
        <p:blipFill>
          <a:blip r:embed="rId3"/>
          <a:stretch/>
        </p:blipFill>
        <p:spPr>
          <a:xfrm>
            <a:off x="4870440" y="2627280"/>
            <a:ext cx="1982880" cy="3524400"/>
          </a:xfrm>
          <a:prstGeom prst="rect">
            <a:avLst/>
          </a:prstGeom>
          <a:ln w="0">
            <a:noFill/>
          </a:ln>
        </p:spPr>
      </p:pic>
      <p:pic>
        <p:nvPicPr>
          <p:cNvPr id="829" name="Рисунок 6" descr=""/>
          <p:cNvPicPr/>
          <p:nvPr/>
        </p:nvPicPr>
        <p:blipFill>
          <a:blip r:embed="rId4"/>
          <a:stretch/>
        </p:blipFill>
        <p:spPr>
          <a:xfrm>
            <a:off x="530280" y="3710160"/>
            <a:ext cx="4340160" cy="24415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1"/>
          <p:cNvSpPr/>
          <p:nvPr/>
        </p:nvSpPr>
        <p:spPr>
          <a:xfrm>
            <a:off x="741240" y="555480"/>
            <a:ext cx="8609040" cy="63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1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вместная деятельность педагога с деть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5T09:23:14Z</dcterms:created>
  <dc:creator>Марина Лобышева</dc:creator>
  <dc:description/>
  <dc:language>en-US</dc:language>
  <cp:lastModifiedBy>Dasha</cp:lastModifiedBy>
  <cp:lastPrinted>2015-11-15T15:20:01Z</cp:lastPrinted>
  <dcterms:modified xsi:type="dcterms:W3CDTF">2017-04-18T08:12:03Z</dcterms:modified>
  <cp:revision>8</cp:revision>
  <dc:subject/>
  <dc:title>Проект «Моя любимая игрушка.» МАДОУ ДС № 50 г.Челябинска</dc:title>
</cp:coreProperties>
</file>