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914-145D-449A-9C15-C6B00D10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8E23-7751-4B75-8643-18813B44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DAF6-5E29-4D3D-8230-5A3D4571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212-75D0-4FCA-9C8D-26D9BFB0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6961-25CE-411C-A699-B7F8A069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12A2-A443-4647-B45A-D371029F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CC86-9D5E-4878-8B27-0630BC82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2AA8-E00B-413D-9F67-7B9473E6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BDDA-5CC9-4F61-9EAF-569F151F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2F95-9AE3-496D-AA98-37C2A982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6E85-4543-4EC5-B5F8-27A68FDB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65A1-3323-4318-B421-E58C3378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40D2-0D98-43E2-90FE-C5040167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6405-98DC-4137-BED5-3AB4EEE1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B51F-C51D-4DC5-97E3-A3DEF8E2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F798-3D6B-49C2-B9BE-EEB6B5DC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A28C-7C41-42F5-847F-31D9BBF8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A2D1-5B55-4564-98E3-573BA494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88386-6DF7-4D4D-A32E-21D902B0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F53CD-E38F-4D6A-8F81-6746C6F1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B3BC9-225D-4F59-81F7-C7CAE2C8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72047-DA53-40E0-9E07-4A02AAA6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9AE-0BB9-4A7D-924B-70F2E0B6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33DA4-09A0-44D9-AB6A-C9393959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4ADBC-5B4D-4937-B92A-96D2774A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25C43-B7F6-4E2B-9435-690902E2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1D29-E347-4A9D-BF21-44599FBF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7ECA9-5B81-4F8E-9576-52BA106C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A5042-A878-4CC0-B5FE-D787FE27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CDA45-30BF-4017-975D-FEEBFEDE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773-E16F-4A24-9BFC-170B62CD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462-8086-49F4-A8AE-05FB3FEF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920-3A7E-4DA2-9733-AB7AD03B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5FD-1D51-448D-8A4F-23DCD3A5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33A-C6D2-49DE-B83A-5B423A89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74D-5D6D-4D11-8935-F8A21E85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8EA2-CF8E-48AD-99F4-C16BEED28F4C}" type="slidenum">
              <a:rPr b="1" lang="ru-RU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4839-2DB1-4080-9200-2B112568E025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7EA9-E83B-42B6-9CF5-6FC9C3F0F6A1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3280" y="529920"/>
            <a:ext cx="81835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Васильев «Дома» (отрывок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Когда Степа, наконец, оказался дома, он забрался на колени к папе и прижался к его колючей щеке; своим взглядом он позвал маму и обнял ее за шею правой рукой. Счастливо, глубоко вздохнул и подумал: счастье – это когда…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://www.tatmitropolia.ru/www/news2015/6/tV89_KqteIQ.jpg"/>
          <p:cNvPicPr/>
          <p:nvPr/>
        </p:nvPicPr>
        <p:blipFill>
          <a:blip r:embed="rId1"/>
          <a:stretch/>
        </p:blipFill>
        <p:spPr>
          <a:xfrm>
            <a:off x="30240" y="333360"/>
            <a:ext cx="89996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24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ПЕСНЯ «РАДОСТЬ МОЯ»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28280"/>
            <a:ext cx="288108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стучится в стекл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ёзды дрожат за окн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ме тепло и светл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семья за стол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семья за стол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ы улыбка мо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всех дороже награ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че горячих свече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ин ласковый взгля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ин ласковый взгля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76720" y="1341000"/>
            <a:ext cx="27352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пев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шутить, будем игра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оворить и вспомина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ш дом, наша семь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ье моё, радость мо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Evgeniya_Zarickaya_-_Radost_moya_minus.mp3" descr=""/>
          <p:cNvPicPr/>
          <p:nvPr/>
        </p:nvPicPr>
        <p:blipFill>
          <a:blip r:embed="rId1"/>
          <a:stretch/>
        </p:blipFill>
        <p:spPr>
          <a:xfrm>
            <a:off x="7956720" y="5950080"/>
            <a:ext cx="487080" cy="4870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5940360" y="1628640"/>
            <a:ext cx="295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разных заботах у нас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беспокойный прошё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чером дома сейчас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нам хорош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нам хорош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торопит свой ве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 и дорога сво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моём сердце на ве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 мама и 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 мама и 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 repeatCount="1000">
                                  <p:stCondLst>
                                    <p:cond delay="25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570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ПОДВЕДЁМ ИТОГ: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 ценности являются общими для всех семей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называется праздник, утверждённый президентом России в 2008 году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он празднуется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стало символом этого праздника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-8391600"/>
            <a:ext cx="22716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9280" y="115920"/>
            <a:ext cx="878544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мья — это бесценный дар. Его нужно беречь, а не разрушать.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(Сьюзан Кинг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юбовь не цель, а средство для создания семейного о  чага.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(О.Бальзак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мья — это самое важное, что есть в мире. Если у вас нет семьи, считайте, что у вас нет ничего. Семья — это самые прочные узы всей вашей жизни.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(Джонни Депп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ля создания семьи достаточно полюбить. А для сохранения — нужно научиться терпеть и прощать.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 (Мать Тереза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емейной жизни надо считаться с мыслями, убеждениями, чувствами, стремлениями любимого человека. Храня свое достоинство, надо уметь уступать друг другу.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(В. А. Сухомлинский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емейной жизни самый важный винт — это любовь.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(А. П. Чехов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мья является самой важной вещью в мире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(принцесса Диана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мья - не главное, семья - это все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(Майкл Дж. Фокс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https://ds03.infourok.ru/uploads/ex/05f5/0005becc-49206564/img22.jpg"/>
          <p:cNvPicPr/>
          <p:nvPr/>
        </p:nvPicPr>
        <p:blipFill>
          <a:blip r:embed="rId1"/>
          <a:stretch/>
        </p:blipFill>
        <p:spPr>
          <a:xfrm>
            <a:off x="14400" y="-31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067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1282e"/>
                </a:solidFill>
                <a:latin typeface="Arial Black"/>
              </a:rPr>
              <a:t>СЕМЬЯ</a:t>
            </a:r>
            <a:endParaRPr b="0" lang="en-US" sz="6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живущих вместе близких родственников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3554280"/>
            <a:ext cx="37990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765000"/>
            <a:ext cx="81835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1282e"/>
                </a:solidFill>
                <a:latin typeface="Arial Black"/>
              </a:rPr>
              <a:t>ЦЕННОСТЬ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020000" y="529920"/>
            <a:ext cx="166680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1187280" y="1846440"/>
            <a:ext cx="7201080" cy="14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ый пред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сть, зна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700360" y="3432240"/>
            <a:ext cx="39114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 Black"/>
              </a:rPr>
              <a:t>СЕМЬЯ. СЕМЕЙНЫЕ ЦЕННОСТИ</a:t>
            </a:r>
            <a:endParaRPr b="0" lang="en-US" sz="5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ЛЮБОВЬ – ГЛАВНАЯ СЕМЕЙНАЯ ЦЕННОСТ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08000" y="81000"/>
            <a:ext cx="888048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79280" y="128520"/>
          <a:ext cx="8640720" cy="646920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478160"/>
                <a:gridCol w="1977840"/>
                <a:gridCol w="1728720"/>
              </a:tblGrid>
              <a:tr h="946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ценности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уда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дд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осла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л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</a:tr>
              <a:tr h="12304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вь мужа и жены друг к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4204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ж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9464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вь родителей к дет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6620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итание род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4204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ат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4190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4190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4208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584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9280" y="189000"/>
          <a:ext cx="8640720" cy="630720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478160"/>
                <a:gridCol w="1977840"/>
                <a:gridCol w="1728720"/>
              </a:tblGrid>
              <a:tr h="946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ценности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уда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дд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осла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л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</a:tr>
              <a:tr h="1069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вь мужа и жены друг к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ож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вь родителей к дет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663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итание род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огат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420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58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с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54800" cy="40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В КАЖДОЙ РЕЛИГИИ СЕМЕЙНЫЕ ЦЕННОСТИ ОДИНАКОВЫ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0" name="Молитва о семье.mp4" descr=""/>
          <p:cNvPicPr/>
          <p:nvPr/>
        </p:nvPicPr>
        <p:blipFill>
          <a:blip r:embed="rId1"/>
          <a:stretch/>
        </p:blipFill>
        <p:spPr>
          <a:xfrm>
            <a:off x="324000" y="230040"/>
            <a:ext cx="839304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7T09:09:45Z</dcterms:created>
  <dc:creator>Fizik</dc:creator>
  <dc:description/>
  <dc:language>en-US</dc:language>
  <cp:lastModifiedBy>HP</cp:lastModifiedBy>
  <cp:lastPrinted>2018-02-28T08:19:42Z</cp:lastPrinted>
  <dcterms:modified xsi:type="dcterms:W3CDTF">2018-02-28T09:47:51Z</dcterms:modified>
  <cp:revision>12</cp:revision>
  <dc:subject/>
  <dc:title>Презентация PowerPoint</dc:title>
</cp:coreProperties>
</file>