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27A-4BB4-4927-A876-2E36ED30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279-F29D-480C-949D-22D67B5C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E71-6022-4E03-8A8E-B7FA747E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AE6-E66F-46CF-9B98-2DD7967C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BE5-6E1B-4708-A46E-F772D7C0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627-C811-497E-A16F-9655872A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675-D226-442F-A0AC-3190F163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832-7DCA-45FC-84D7-8E1855F7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98E-EEC7-4438-936F-BBAD4EA7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151-48AF-42EE-91BF-B543FC1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6AD-4F93-4384-B4E7-12E52C7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E75-7C73-43B0-97CD-3B97817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D2F2-2F0D-40A1-847B-3CB44D259A37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БОУ «Красноануйская ООШ» филиал Тележихинская ООШ учитель математики: Колесникова Галина Григорьевн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6" name="Picture 20" descr="j0417332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9" name="Picture 14" descr="j0217698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10" descr="j0424168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j0426054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6" name="Picture 5" descr="j0195384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0205466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99" name="Picture 4" descr="pe03254_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2" name="Picture 4" descr="j0415452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557360"/>
          <a:ext cx="8507520" cy="506880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6" descr="j0301480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j0205466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j0300840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20720" y="363600"/>
            <a:ext cx="69357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AutoShape 27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AutoShape 30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 Григорьевна</cp:lastModifiedBy>
  <dcterms:modified xsi:type="dcterms:W3CDTF">2021-10-27T06:33:54Z</dcterms:modified>
  <cp:revision>23</cp:revision>
  <dc:subject/>
  <dc:title>PowerPoint Presentation</dc:title>
</cp:coreProperties>
</file>