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D85-15FB-43BB-B338-188EF63D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1C9-8759-4EB7-9775-46A6026A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ACF-F9A8-47EC-9EB4-FB175273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243-4790-46CB-80F9-F3B4D04F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FB97-0ABF-4A09-A094-F504C0FA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5DE8-D127-4BB9-AE6E-17E4408C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435C-482D-4B96-B46F-654560F9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E358-7466-45C0-A05E-088672BA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9BFC-2209-4F45-97D0-620A43C3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B4A1-7EB3-407B-B16D-82C8BD40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22AE-13DA-494B-BE1B-834712E6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867-851E-43E7-9E58-8458CF9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6769-CD3B-429F-8722-13596B6F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3CCF-8A47-4588-B961-1B3FA727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64F8-EDB1-494D-B4FF-0E8FBECB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B23A-30DE-4D05-A5EC-23A9685F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A696-7EF4-47A5-B06A-080FA8ED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1FB-4A30-4C5D-86F0-CB0AB521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64C-F202-4BFE-95FE-2AB4ECAA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8C5-F740-46A6-A828-1068D082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B60-0226-414B-95CE-4E57942A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8EF-9B3D-4E0A-A84A-44F74E6B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CA3-AF56-4E74-BEE9-B7C36851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49F-1295-475F-946B-BDE59A1A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33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92CB-0631-4657-B805-33EEF80DCD8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33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30A9-683B-4FCD-9B8C-F3EE0609B30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8229600" cy="2505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етодические рекомендации для учител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вание, автор и год издания конкретной программы (примерной, авторской), на основе которой разработана Рабочая програм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и и задачи данной программы обучения в области формирования системы знаний, умений (задачи формулируются в соответствии со стандартом и с учетом данного образовательного учреждения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ения, внесенные в примерную и авторскую программу, и их обоснова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обенности, предпочтительные формы организации учебного процесса и их сочетание, а также преобладающие формы текущего контроля знаний, умений, навыков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яснительная записка должна быть лаконич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Стрелка вправо 4"/>
          <p:cNvSpPr/>
          <p:nvPr/>
        </p:nvSpPr>
        <p:spPr>
          <a:xfrm>
            <a:off x="8496360" y="0"/>
            <a:ext cx="647640" cy="720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дставляют собой описание целей-результатов обучения, выраженных в действиях учащихся и реально опознаваемых с помощью какого-либо инструмент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анный перечень целей-результатов обучения включает специальные предметные и общие учебные умения и способы деятельнос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снованием для выделения требований к уровню подготовки учащихся выступает государственный образовательный стандарт общего образования и учебная программа (примерная или авторская), на базе которой разрабатывается Рабочая программ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этому требования к уровню подготовки учащихся, прописанные в Рабочей программе, должны быть не ниже требований, сформулированных в федеральном компоненте государственного стандарта общего образования и учебной программе, принятой за основ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Стрелка вправо 5"/>
          <p:cNvSpPr/>
          <p:nvPr/>
        </p:nvSpPr>
        <p:spPr>
          <a:xfrm>
            <a:off x="8496360" y="0"/>
            <a:ext cx="647640" cy="720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-360" y="1267920"/>
            <a:ext cx="8929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ражает последовательность изучения разделов и тем программы, показывает распределение учебных часов по разделам и темам, определяет проведение зачетов, контрольных, практических и других видов работ за счет времени, предусмотренного максимальной учебной нагру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ляется учебно-тематический план на весь срок обучения (обычно на учебный год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бно-тематический план оформляется в виде табл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Стрелка вправо 5"/>
          <p:cNvSpPr/>
          <p:nvPr/>
        </p:nvSpPr>
        <p:spPr>
          <a:xfrm>
            <a:off x="8496360" y="0"/>
            <a:ext cx="647640" cy="720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-360" y="1267920"/>
            <a:ext cx="8929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ключает реферативное опис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ложение учебного материала в заданной последовательности предусматривает конкретизацию всех дидактических единиц содерж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Стрелка вправо 5"/>
          <p:cNvSpPr/>
          <p:nvPr/>
        </p:nvSpPr>
        <p:spPr>
          <a:xfrm>
            <a:off x="8496360" y="0"/>
            <a:ext cx="647640" cy="720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одерж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ема 1.  Введение. Физика и физические методы изучения природы.(4 ч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то изучает физика. Физические явления. Наблюдения, опыты, измерения. Погрешности измерений. Физика и техн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монстр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. Примеры физических явл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Наборы тел, имеющих одинаковую форму, но разные размеры, одинаковый объём, но разную форм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Измерительные прибор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. Современные электронные устрой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Лабораторные работ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. Определение цены деления измерительного прибора и измерение объёма жидкости с учетом абсолютной погреш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ема 2. Первоначальные сведения о строении вещества(6 ч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лекулы. Диффузия. Движение молекул. Броуновское движение. Притяжение и отталкивание молекул. Различные состояния вещества и их объяснение на основе молекулярно-кинетических представл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монстр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Опыты по рисункам 16,17,18,19 в учебни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Модели молекул воды, кислорода, водород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984240"/>
            <a:ext cx="93963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-360" y="1196640"/>
            <a:ext cx="85726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ключают систему контролирующих материалов (тестовых материалов, контрольных работ, вопросов для зачета и др.) для оценки освоения школьниками планируемого содержания, представленного в виде перечня действий учащихся как целей-результатов обуч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личество контролирующих материалов определяется учебно-тематическим планом. Так, если учебно-тематический план предусматривает проведение 5 контрольных работ, то и к Рабочей программе прилагается 5 пакетов контрольных рабо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исьменные контролирующие материалы могут включать кодификатор (спектр проверяемых умений), варианты работ, схему анализа работы. Устные – перечень вопросов и задан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Стрелка вправо 5"/>
          <p:cNvSpPr/>
          <p:nvPr/>
        </p:nvSpPr>
        <p:spPr>
          <a:xfrm>
            <a:off x="8496360" y="0"/>
            <a:ext cx="647640" cy="720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абораторных работ- 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роль и оценка результатов освоения учебной дисциплины осуществляется преподавателем в процессе проведения лабораторных работ, тестирования, контрольных работ, диагностических работ, а также выполнения обучающимися индивидуальных заданий, проектов, исследова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бочая дос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глядные пособия (учебники, опорные конспекты-плакаты, стенды, карточки, раздаточный материал, комплекты лабораторных работ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хнические средства обуч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К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идеопроектор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ционный эк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ой образовательной деятельности в образовательном учреждении является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чебная программ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нормативный документ, в котором представлены основные знания, умения и навыки, подлежащие усвоению по учебным предметам и дисциплинам. Она включает перечень тем и их содержание, рекомендации по количеству времени на каждую тему, распределение их по годам об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d1f1f"/>
                </a:solidFill>
                <a:uFillTx/>
                <a:latin typeface="Times New Roman"/>
                <a:hlinkClick r:id="rId2" action="ppaction://hlinksldjump"/>
              </a:rPr>
              <a:t>Примерная (типовая) учебная програм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d1f1f"/>
                </a:solidFill>
                <a:uFillTx/>
                <a:latin typeface="Times New Roman"/>
                <a:hlinkClick r:id="rId3" action="ppaction://hlinksldjump"/>
              </a:rPr>
              <a:t> Авторская программ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d1f1f"/>
                </a:solidFill>
                <a:uFillTx/>
                <a:latin typeface="Times New Roman"/>
                <a:hlinkClick r:id="rId4" action="ppaction://hlinksldjump"/>
              </a:rPr>
              <a:t>Рабочая програм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Овал 4"/>
          <p:cNvSpPr/>
          <p:nvPr/>
        </p:nvSpPr>
        <p:spPr>
          <a:xfrm>
            <a:off x="7991640" y="5634000"/>
            <a:ext cx="1152360" cy="12240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6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ная программа является ориентиром для составления авторских учебных программ и учебников, может использоваться при тематическом планировании учебного кур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имерная программа определяет инвариантную (обязательную) часть учебного курса, за пределами которого остается возможность авторского выбора вариативной составляющей содержания образ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Овал 4"/>
          <p:cNvSpPr/>
          <p:nvPr/>
        </p:nvSpPr>
        <p:spPr>
          <a:xfrm>
            <a:off x="8388360" y="6021360"/>
            <a:ext cx="755640" cy="836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, созданный на основе государственного образовательного стандарта и Примерной программы и имеющий авторскую концепцию построения содержания учебного кур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ская программа разрабатывается одним или группой авто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Авторской программы характерны оригинальная концепция и построение содерж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дрению в практику работы общеобразовательных учреждений Авторской программы предшествует ее экспертиза и апроб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бная программа, разработанная педагогом на основе Примерной для конкретного образовательного учреждения и определенного класса (группы), имеющая изменения и дополнения в содержании, последовательности изучения тем, количестве часов, использовании организационных форм обучения и т.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Овал 4"/>
          <p:cNvSpPr/>
          <p:nvPr/>
        </p:nvSpPr>
        <p:spPr>
          <a:xfrm>
            <a:off x="8388360" y="6021360"/>
            <a:ext cx="755640" cy="836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итульный лис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яснительная запис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ребования к уровню подготовки уча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ебно-тематический план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одержание программы учебного курс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редства контро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ебно-методические средства об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-360" y="1267920"/>
            <a:ext cx="5148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ное наименование образовательного учрежд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иф утверждения программ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звание учебного курс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.И.О. педагога, разработавшего и реализующего учебный курс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 (параллель), которым изучается учебный курс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 составления програм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Стрелка вправо 5"/>
          <p:cNvSpPr/>
          <p:nvPr/>
        </p:nvSpPr>
        <p:spPr>
          <a:xfrm>
            <a:off x="8496360" y="0"/>
            <a:ext cx="647640" cy="720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kuznecov</cp:lastModifiedBy>
  <dcterms:modified xsi:type="dcterms:W3CDTF">2021-10-28T16:51:34Z</dcterms:modified>
  <cp:revision>23</cp:revision>
  <dc:subject/>
  <dc:title>КАК СОСТАВИТЬ РАБОЧУЮ ПРОГРАММУ УЧЕБНОГО КУРСА?</dc:title>
</cp:coreProperties>
</file>