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10.png" ContentType="image/png"/>
  <Override PartName="/ppt/media/image2.png" ContentType="image/png"/>
  <Override PartName="/ppt/media/image5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laser.wav" ContentType="audio/x-wav"/>
  <Override PartName="/ppt/media/drumroll.wav" ContentType="audio/x-wav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8BD-DB08-4402-AABC-0248017E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562-DC46-4AE3-AFAA-723AE3F1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B59-D1D5-43A0-A596-A416AB2F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480-BD58-4334-9458-1F28F3AA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0FF0-C389-45DF-B03A-BCC381E5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598-1881-4EEC-9549-CAEA2B5E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9693-BFFA-40E8-9BA6-342E6A2C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68B9-E8A9-4CB0-96CD-FA03C271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7BBF-9DD1-4016-B7A6-37ACB7C8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C202-BA0E-40F3-944B-6F649B65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88FD-FA02-4260-AC47-7DEF913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E36-1627-45D7-AD63-200DA7CD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385-7120-4AE4-B099-DA72C833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4CD7-57D2-411C-BCF8-0512767D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C07C-B77C-4DE3-9E92-5DF87D25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CA82-AC66-4916-9270-AD3EE20F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4CA9-A86B-4FF8-BD7F-13626E18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7BA6A-D7D5-4DF2-85DA-6BD05DD5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CB45D-3A55-4141-A263-DB0BD3F0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4281B-F46E-4114-8476-46220DF1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D6156-9A64-4B17-A33E-9122ED6B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641B4-A436-48EA-9239-7ED2C9C4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A4D-59A1-4C61-A842-6AA992EC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07F12-E4A8-4DE2-8365-9B042FA5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0B7F7-67FC-4F72-A461-263E8D81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0E5C2-49C5-4EC0-B5CD-A0DD9CA3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CA344-1719-4F56-8C22-127F9EE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7FEC1-5FC1-4E6E-BB97-6059F86A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86A0D-5F59-4AFB-A206-672DBD51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B4AE2-BEA0-49E3-A633-3663631E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8A66-AF49-4190-BD2B-907FA39F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5016-6BA7-4DFD-BF5F-7719CD7F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883A1-DCF6-4980-B5D3-A497C6C8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E47-9BEF-44A9-AC7B-3277C95C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C12B-F0A6-4727-8337-95E93E9A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8572-7DA6-424E-AE76-675A61BD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DA22-128C-46C5-9A77-864768CD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756F-7542-4036-966C-ADABDA1D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7D74F-67AE-47B9-B47D-1247053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5FA4-C741-4DB0-84E2-B3E58071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21D6-5529-4181-AEDB-63EFF70B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0241B-47DA-4585-B91E-E5B43FDE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B9ED-85A9-4332-B544-D958B0F4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D3D-6DFC-43CB-BB87-3312EC7B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198-23B9-4A23-AF3C-E059189E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9C6-9CB4-45BF-BA49-0B0566DE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3AA-A94E-4BA0-B631-B1B9C3B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9CF-57A7-4836-A084-E1F65ED4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C1D4-2EAF-4B5E-97E5-2DCA6CE16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389B-A2E8-4C59-B7B5-8DBB2DB7E9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261A-06D0-49D6-B7C4-03CBD2F22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8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8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4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4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C30B-4134-4A85-B042-BFF72C09F719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5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6.xml"/><Relationship Id="rId7" Type="http://schemas.openxmlformats.org/officeDocument/2006/relationships/slide" Target="slide5.xml"/><Relationship Id="rId8" Type="http://schemas.openxmlformats.org/officeDocument/2006/relationships/slide" Target="slide9.xml"/><Relationship Id="rId9" Type="http://schemas.openxmlformats.org/officeDocument/2006/relationships/slide" Target="slide17.xml"/><Relationship Id="rId10" Type="http://schemas.openxmlformats.org/officeDocument/2006/relationships/slide" Target="slide6.xml"/><Relationship Id="rId11" Type="http://schemas.openxmlformats.org/officeDocument/2006/relationships/slide" Target="slide10.xml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1212121 копия"/>
          <p:cNvPicPr/>
          <p:nvPr/>
        </p:nvPicPr>
        <p:blipFill>
          <a:blip r:embed="rId1"/>
          <a:stretch/>
        </p:blipFill>
        <p:spPr>
          <a:xfrm>
            <a:off x="4572000" y="2852640"/>
            <a:ext cx="4154400" cy="35305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611280" y="620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атематический Турни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187280" y="213372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539640" y="1484280"/>
            <a:ext cx="777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parajita"/>
              </a:rPr>
              <a:t>Своя 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parajita"/>
              <a:ea typeface="Aparajit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parajita"/>
              </a:rPr>
              <a:t>игра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parajita"/>
              <a:ea typeface="Aparajit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3280" y="907920"/>
            <a:ext cx="655344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ahoma"/>
              </a:rPr>
              <a:t>Зидевопрение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2102760" y="2637000"/>
            <a:ext cx="487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Анаграмм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68360" y="5445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Произвед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4500720" y="1989000"/>
            <a:ext cx="446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Переложи спичку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9128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Переложите 3 спички, чтобы стрела поменяла своё направление на противоположное.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4" name="Picture 21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3240000" cy="2850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2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3240000" cy="2850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3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43728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5345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Из спичек сложена золотая рыбка, переложите 3 (три) спички так, чтобы рыбка поплыла в другую сторону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4859280" y="119700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Переложи спичку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671640" cy="367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403380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853452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Из спичек построен дом.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Переложите всего 2 (две) спички таким образом, чтобы дом повернулся другой стороной.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932360" y="2205000"/>
            <a:ext cx="3909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Переложи спичку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ереложите 6 (шесть) спичек так, чтобы из двух бокалов получился домик.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5076720" y="1844640"/>
            <a:ext cx="35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Переложи спичку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5345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У Буратино меньше 20 золотых монет. Эти монеты он может разложить в стопки по две, по три и по четыре монеты. Сколько монет у Буратино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553480" y="227664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Задач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2411280" y="4869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12 мон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404640"/>
            <a:ext cx="8534520" cy="18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В семье трое братьев. Каждый следующий младше предыдущего на 3 года. А сумма их возрастов равна 15 годам. Сколько лет каждому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2623320" y="2349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Задач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340000" y="5084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2, 5, 8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53272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Три девочки на вопрос, по сколько им лет ответили так: Маша: "Мне вместе с Наташей 21 год”, Наташа: "Я моложе Тамары на 4 года”, Тамара: "Нам троим вместе 34 года”. Сколько лет каждой из девочек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551680" y="2349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Задач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95280" y="494172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Тамаре -13, Наташе – 9, Маше – 12.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5341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Аня, Женя и Нина за контрольную работу получили разные оценки, но двоек у них не было. Отгадайте , какую оценку получила каждая из девочек, если у Ани не "3”, у Нины не "3” и не "5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2481840" y="321300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Задач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250920" y="573408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Нина – 4, Аня – 5, Женя – 3.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>
            <a:hlinkClick r:id="" action="ppaction://hlinkshowjump?jump=nextslide"/>
          </p:cNvPr>
          <p:cNvSpPr/>
          <p:nvPr/>
        </p:nvSpPr>
        <p:spPr>
          <a:xfrm>
            <a:off x="39528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Ребу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5">
            <a:hlinkClick r:id="" action="ppaction://hlinkshowjump?jump=nextslide"/>
          </p:cNvPr>
          <p:cNvSpPr/>
          <p:nvPr/>
        </p:nvSpPr>
        <p:spPr>
          <a:xfrm>
            <a:off x="2556000" y="58248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награм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7">
            <a:hlinkClick r:id="" action="ppaction://hlinkshowjump?jump=nextslide"/>
          </p:cNvPr>
          <p:cNvSpPr/>
          <p:nvPr/>
        </p:nvSpPr>
        <p:spPr>
          <a:xfrm>
            <a:off x="723600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шу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395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2556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7236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95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556000" y="256716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723600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39528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2556000" y="370692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7236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39528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2562120" y="487368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7236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25">
            <a:hlinkClick r:id="" action="ppaction://hlinkshowjump?jump=nextslide"/>
          </p:cNvPr>
          <p:cNvSpPr/>
          <p:nvPr/>
        </p:nvSpPr>
        <p:spPr>
          <a:xfrm>
            <a:off x="4859280" y="582480"/>
            <a:ext cx="1616040" cy="747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ерелож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пичку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4859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4859280" y="259380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Rectangle 29"/>
          <p:cNvSpPr/>
          <p:nvPr/>
        </p:nvSpPr>
        <p:spPr>
          <a:xfrm>
            <a:off x="4859280" y="374004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4896000" y="487368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626560" y="249228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124000" y="508464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Мину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67344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2626560" y="227664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195640" y="5229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Разн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47516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554920" y="270828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763640" y="508464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Picture 9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76244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2699280" y="249228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771640" y="5013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чет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Picture 10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635280" cy="23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ahoma"/>
              </a:rPr>
              <a:t>Коньре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025000" y="1773360"/>
            <a:ext cx="487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Анаграмм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250920" y="458136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Кор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ahoma"/>
              </a:rPr>
              <a:t>Виунеране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2102760" y="2276640"/>
            <a:ext cx="487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Анаграмм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2484360" y="5300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Уравн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8120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ahoma"/>
              </a:rPr>
              <a:t>Марипида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2101320" y="3068640"/>
            <a:ext cx="487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Анаграмм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547640" y="5661000"/>
            <a:ext cx="56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Пирами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Учитель</cp:lastModifiedBy>
  <dcterms:modified xsi:type="dcterms:W3CDTF">2020-12-13T08:54:36Z</dcterms:modified>
  <cp:revision>59</cp:revision>
  <dc:subject/>
  <dc:title>Презентация PowerPoint</dc:title>
</cp:coreProperties>
</file>