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F77-8C31-479B-961D-6B6D6FE7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686-6F65-4661-BE23-7380AAAE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85C-5F0C-4046-8294-1C48363E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F44-A8F0-4490-B747-4110ABB0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CA0-B0D2-494E-A39C-3818A7E5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B3F-1DB5-4E45-8803-2F7FCABA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080-0D74-4DAC-BBB8-0704257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480-4930-4C24-B810-5EF64CCA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3F3-C141-4890-987D-714E5187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598-CEAB-4DFA-ACC9-95CC3F3E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170-3DC5-47EB-ABAA-8EAFD74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E16-B61A-41C6-BD53-246A4F4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CD2-F853-43E4-BEF2-283F29094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ст по профориент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: учитель истории и обществознания МБОУ лицей №8 г.о. Солнечног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вилов Антон Андр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ести регулярное наблюдение за растениями и записывать данные наблюдений в специальный днев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Мастерить красивые поделки своими руками: из дерева, материала, металла, засушенных растений, ни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Терпеливо, без раздражения объяснять кому-либо, что он хочет знать, даже если приходится повторять по нескольку раз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 письменных работах по русскому языку, литературе легко находить ошиб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Изучать химические процессы, решать задачи по хим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азбираться в особенностях развития и во внешних отличительных признаках различных видов раст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оздавать произведения графики, живописи, скульп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Много и часто общаться с разными людьми, не уставая от эт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6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На уроках иностранного языка отвечать на вопросы и задавать их, пересказывать тексты и составлять рассказы по заданной те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Отлаживать какие-либо механизмы, ремонтировать электротехнические прибо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чая на вопрос, нужно спросить себя: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Нравиться ли мне занятие, о котором говорится в вопросе?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тем нужно поставить в клеточке рядом с номером вопро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,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++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,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+++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,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вашему отношению к занятию, описанному в вопро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вое свободное время преимущественно тратить на уход и наблюдение за каким-нибудь животны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очинять музыку, пес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нимательно, не перебивая, выслушивать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При выполнении заданий по иностранному языку без особых трудностей работать с тек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Налаживать и чинить электронную аппарату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егулярно выполнять необходимые для ухода за животными работы: кормить, чистить клетки, лечит, обуч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Публично, для многих зрителей разыгрывать роли, подражать кому-либо, изображать кого-либо, декламировать стихи, проз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Увлекать делом, игрой, рассказом детей младше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6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задания по математике, химии, в которых требуется составить логическую цепочку действий, используя при этом формулы, законы, теоре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емонтировать замки, краны, мебель, игр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Делать выписки, вырезки из различных текстов и группировать их по определенному призна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азбираться в породах и видах животных, птиц, насекомых; знать их характерные признаки и пов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сегда четко видеть, что сделано писателем, драматургом, художником, актером талантливо, а что нет, и уметь это устно или письменно обоснов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Организовывать людей на какие-либо дела, мероприят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задания по математике, требующие хорошего знания формул и законов и умения их правильно применять при реше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действия, требующие хорошей координации движений, ловкости рук: работать на станке, производить монтаж и сборку изделий из мелких дета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разу замечать малейшие изменения в поведении или внешнем виде животного или раст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Играть на музыкальных инструментах, публично исполнять песни, танцевальные но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работу, требующую обязательных контактов со множеством разных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6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количественные расчеты, подсчеты данных по формулам и без 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Из типовых деталей, предназначенных для сборки определенных моделей, изделий, конструировать новые, придуманные самостоятель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лабораторные работы по физике, составлять и собирать схемы, устранять в них неисправности, разбираться в принципе действия прибо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Заниматься углубленным изучение биологии, анатомии, ботаники, зоологии – читать научно-популярную литературу, слушать лекции, научные докла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оздавать эскизы и изготавливать в оригинале новые, интересные модели одежды, причесок, украшений, интерьера помещений, конструкторские нови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лиять на людей: убеждать, предотвращать конфликты, улаживать ссоры, разрешать спо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аботать с условно-знаковой информацией – составлять и рисовать карты, схемы, чертеж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полнять задания, в которых требуется мысленно представить расположение фигур, предметов в пространстве (черчение, геометрия, стереометрия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Длительное время заниматься исследовательскими работами в биологических кружках, на биостанциях, в зоокружках, в питомни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Быстрее и чаще других замечать в обычном необычное, прекрасное и удивитель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опереживать людям (даже не очень близким), понимать их проблемы, оказывать посильную помощ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6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Аккуратно и безошибочно выполнять «бумажную» работу: писать, выписывать, проверять, подсчитывать, вычисля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бирать наиболее рациональный подход (простой, короткий) способ решения задачи: технической, логической, математичес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Длительное время самостоятельно выполнять работы, обеспечивающие рост и развитие раст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При уходе за растениями или животными с удовольствием заниматься физическим тру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Настойчиво, терпеливо добиваться совершенства в создаваемом или исполняемом произведении  (в любой сфере творчеств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Говорить, сообщать что-либо, излагать свои мысли вслу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оответствуете тому типу профессии, для которого получена наибольшая сумма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шкала характеризует соответствие личности определенному типу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9280" y="189000"/>
          <a:ext cx="8785440" cy="6338880"/>
        </p:xfrm>
        <a:graphic>
          <a:graphicData uri="http://schemas.openxmlformats.org/drawingml/2006/table">
            <a:tbl>
              <a:tblPr/>
              <a:tblGrid>
                <a:gridCol w="1390680"/>
                <a:gridCol w="2928960"/>
                <a:gridCol w="44658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ловек – знаковая систем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чик, бухгалтер, чертежник, инженер, топограф, секретарь-референт, программи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ловек – техн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щик компьютеров, столяр, техник-металлург, инженер-механик, архитектор, строитель, специалист по телекоммуникациям, электромонтажник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ловек – приро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овод, зоотехник, агроном, кинолог, лаборант химико-бактериологического анализа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ловек – художественный обра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ст, художник, музыкант, дизайнер, резчик по камню, литератур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ловек – челове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, учитель, психолог, парикмахер, экскурсовод, менеджер, руководитель художественного коллектива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очинять стихи, рассказы, заметки, писать сочи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Сдерживать себя, «не выливать» на окружающих свое раздражение, гнев, обиду, плохое настроение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ыделять из текстов основные мысли и составлять на их основе краткий конспект, план, новый тек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Разбираться в физических процессах и закономерностях, решать задачи по физи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7:53:22Z</dcterms:created>
  <dc:creator>Customer</dc:creator>
  <dc:description/>
  <dc:language>en-US</dc:language>
  <cp:lastModifiedBy>ВВВ</cp:lastModifiedBy>
  <dcterms:modified xsi:type="dcterms:W3CDTF">2021-10-28T09:57:46Z</dcterms:modified>
  <cp:revision>7</cp:revision>
  <dc:subject/>
  <dc:title>Тест по профориентации</dc:title>
</cp:coreProperties>
</file>