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1FFF-AE75-4928-ACC7-0AE2D95BFE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7D93-A334-439B-928B-588A04CC5E1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EEC4-C213-4168-BF3C-65A2299B2C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467C-2DD3-4F90-B8E2-BC33FF52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C5C-84D9-413A-A3F0-3A84DDB8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55AF9-EC18-4C43-8355-16DD2C18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00947-F59A-4430-91F0-DAB0FDC4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762DA-DB17-4404-8869-4F82973E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ADC4D-4B95-4044-A72F-899BFBCA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8992F-8941-40DD-BF8E-07C1371B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7583E-CABD-46EC-88A3-CE169965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AAB30-6275-4400-9134-E6A68DA7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EE498-AC90-42F7-ADC8-B7C1FF7F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F8803-2A6F-46B5-B0C0-58377E1D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A78C7-7A32-4984-9F4B-2A4FCFCF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9D4-CFA7-4E2F-952F-B111C12D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4240B-3E70-46BC-87A1-C2200AE7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A9D90-9B0A-46DB-AB29-73C88846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6C02A-F5A1-4FF5-AEE6-DC6769DE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6CFF6-126A-4EDF-9C11-51B4D892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36DDA-FE0F-49F8-ACD1-FFB9ACE2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6775B-1FE5-4B74-BD42-12817241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5306A-EBD4-4076-A9AF-C47361AC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85167-5017-4AF8-95A8-DED9BAAC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D5639-C954-4E8A-8434-90E7F023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DE52B-27A1-4AAA-978D-28623224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3020-2F42-45F9-A0FA-4ECEFA0D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C6719-0ED1-4413-BDBB-57800803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B5310-F8EA-46C4-A2C2-368A7CC6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73EA1-168E-4C4A-B13A-ED184ED2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AE2E2-30A8-4FE4-97B9-9C6179D4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6E233-D876-46AB-B4FD-D34860B2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CE433-7ECA-4C03-8CA0-FDFCD1E0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8FB08-0B21-41CB-A34F-10E625E2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C9679-64F5-417D-A510-889C31CC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0C776-EFCC-41A1-813D-0EB68F0F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9B19A-9E01-4CBC-9913-1FE0B9D4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A20F-7413-4180-9210-92D3D4B5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782E8-B79D-47A7-BD02-8A611667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5EC4B-377B-4113-AC3E-F9FC8000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75EEA-5F77-49A2-8587-A050F82C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EA63C-D950-42B5-BA71-04042677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A80E3-02D0-4AF2-B47A-E6F6C4CA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F529A-5EB6-42E4-B24F-769BDB8C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992BE-EE19-405C-B4BD-311F2F51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5BD11-0452-4D38-B521-E887A8D9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80479-7305-43EC-B708-60F2A35D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DE3E3-08B1-4719-80FF-01255F4C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5626-B2B6-4844-BDC5-FB18BF0D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50C0B-61B3-42CE-96A4-6C24D585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63AB8-947D-4AAA-93DE-5B5431E5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A5109-3CE7-446E-B499-F4AF5DB1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1B387-829C-4652-8D34-B772AFD1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CE26E-DB03-4BF3-AB27-0754CB09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CEBB9-7719-49E5-B296-76BC5C4E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346EB3-F43B-472B-BE84-C00B1DA2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5755B0-ABC1-4421-8073-4D67270D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59922-ED02-4CD8-8AAC-CBEF37D7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E7A06-F4C0-47A4-A9A7-5A9F5B18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34EB-4263-4E02-BFE5-CBEA9307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65F3A-CD6A-43D3-AA7F-0DBD1C9E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21A5F-F9AC-44FE-B7BB-E244D7FA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2BBC71-8F30-44F7-81F3-D23F8A5C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7B37FC-FE2C-40F5-B511-020714B0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B150F-8C6A-4833-B513-246A93AB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93CDE-E001-40C3-8DB0-589C514F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5A569-FD39-41F9-8AAF-1FCD132B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2A508A-3059-46A5-869F-9170E7C9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C95D99-EC0F-4416-A27D-5A160291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CF245D-FD98-4710-8BF2-A1F0771C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B678-BD51-4CC3-BF2E-2A52DEF3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7FBCF7-4F00-457D-B67A-1BF8B488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78A940-6723-41E7-991D-187631AC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61446F-1C76-4545-80C6-F6EEA264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88577-230C-4A32-A65A-DEFA0D63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20C9D-1BAD-4F62-9733-E9D136C4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927C29-942E-44D9-A8DD-81AEB47C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4A9EFA-7B3B-4D2E-9DC1-DE85ED30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43A4D0-9FD0-4DEB-91E8-00CD61B4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A5DF28-273B-4719-919B-9229B6EE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265D5E-7FD4-4080-BBE4-A3C70393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D1AD-DE26-45A8-91A9-3E66CA6D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3F6D69-C66A-41E6-8CE0-23DCEB10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21E690-2190-4369-A7DC-FBE7BDDB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2E9FC0-26E7-4B74-ABFC-00388AC6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5AB10E-C0A0-4026-96B1-D7BB2E72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C15592-02E7-4C08-89B5-4A0AC051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612751-A885-4D66-89C3-E6FDF924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A73197-2C90-4515-8CF4-7192CE64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844D3-BA5D-47DA-A98E-3705819F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A9DEA7-6EB5-4165-BD0A-67E35875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161DBA-CAB3-49BC-90C1-97CE2DE8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8FB8-A810-4517-9F4E-FCF69EBC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DE616-3AAB-4691-ACD7-199251D2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C2E29C-344B-480D-A1B8-7CDCB01E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205633-5D32-4C81-9E9B-26513166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A5E706-1B7D-4CDF-9F29-A57BBD1D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B840B7-70ED-4DA5-88FC-3418D3E2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90EA6A-066C-4F97-8C4F-F4182CEA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CAF73D-C234-4B4C-A8FC-5B994C7C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236F40-96CE-4A08-8B4A-6BD03B11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50F604-A9CD-4A25-ACE7-E6705683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B70CB9-C5E4-4528-ACAF-1660F2B7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2C54-1899-4E54-ACA1-D60FB549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B4ECBF-E893-41DD-95C9-BA725B89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80A0CC-619E-454A-834A-12838ED2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EDACB7-791C-4175-B735-58570E39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2CDDB0-C029-4BAF-9568-9A4A10E7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5B19BF-FDF5-45FD-89DE-D1E982F7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E2E61B-B8A1-4120-9CDD-989CF823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EDF7EB-6F78-4A77-BF24-1844B09A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C521A7-A866-4576-A8D6-673C3317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29CD58-271A-492E-86ED-3101F85A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B2B953-DF2B-423C-A7A6-0A390CBB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2422-1E07-4222-9FF2-75B7EF33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10D7-2CA0-4331-B48D-DFC41A81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21EC1C-A238-4DB8-AF76-85550517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2200C0-EE31-4F53-B983-C64E45CC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6C177D-0A51-4C45-900E-0FB246D0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959800-AB98-44DF-A9A5-E3FC79CB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3A24B0-7B7D-4A33-B97E-0F4CBFE7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1A74-9BDE-4EA0-99D5-14B13E49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C0D7-688A-4F1E-BA99-B240F0E2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8FB7-F474-4BAA-B632-8BECDDD2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88C3-FBC7-4611-9F25-97A670A1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F590-FD57-46A8-9419-A66BEF07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ACF33-66D7-4884-BA61-30C6FFA5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007AF-3A0F-4BC4-94F5-5FD2E95D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DA1FD-172D-4734-8166-4ACB0456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7E169-4C5B-47D7-B011-7873D392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1631-D452-4C31-B68E-93F85608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B957D-406F-4DD9-8381-D1F1B506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4B530-1FA7-499C-8309-73710312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F6AD6-7E98-459A-B700-930BB1CD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918F8-9671-4098-8CB7-700C9072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28E23-3A89-4D4D-A479-4570377A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47FD9-8FCD-4576-B2D3-1E829561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BBC53-DC70-4F76-A0B1-DBC0665E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71856-5784-4805-95B4-EFF33CAA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0A861-48C3-4C6E-B04D-D4F0577D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279DC-0E97-4989-B16F-F4B93FE5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50A-8FB8-4A06-B4C4-1678C087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A3216-B2DC-48DF-9733-60BB36F8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E1079-1337-4BFA-A189-5A33ADF4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E0157-1661-463B-8642-0FFF70E4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C9D06-5537-4A58-BF52-4E1AAF69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F5B10-2A60-4A56-845D-44877E1A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23007-2074-4CFF-A202-5383F56D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CF13D-2849-4838-984D-9E162127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13D14-F316-4BD6-ACC4-BE9CF290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C4454-7E7A-45CB-81D9-64EAA078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7F92E-06C2-4A82-A4FC-B509E4E1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7C8-9C64-4F0E-AF2F-17DBF969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EE8BA-68DB-421F-92D2-D8E5D525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66B67-28B0-41DA-B397-778B5D92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FEF8C-7960-4CF4-BD9D-F642FB25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5D655-53D4-4B81-B35A-05F03AE7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0FE14-31F3-4011-8C27-A36A6348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04120-BBF8-44AA-BD88-4CCAACAC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49F51-E6A4-41F0-9425-92B9D81D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EFDD0-5D99-4337-B2A7-CFAEABEE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54574-9A0D-4F5D-A43A-D547218E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62A58-6E2F-4CD6-BAFF-1E2A5DB1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72B0-CC3E-4979-930E-A2468AB2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91AEE-28BD-4499-A34C-C227E991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D1F19-2ED7-4223-8CE1-4C489644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33DB2-5C62-42E7-A378-9A2F7C16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C056B-1DB7-40E8-92AB-7B330023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D80E5-66F3-4E8E-BABE-AC516D34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3C0FB-B231-4C27-958A-BDC68B5B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16851-20F1-4E48-9E11-A0CCA1AF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E2B4D-C0F3-439D-BF8E-4F1B190B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11409-9BB1-46CC-ABF2-EAA170ED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271F6-CB15-4942-B257-04680690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64DC-CD3F-4DD5-B6E9-56B44E9B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C04BB-D636-485A-9AEC-670EA5B5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75B52-9E1F-4B95-908F-C1D39EFB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47908-6543-4A69-A6A3-B1907929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8A7BD-CD83-4EC8-A60A-F7D407A4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87547-F6E8-448D-8C3D-16AB13C6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8CB90-F02B-412D-AF9C-5357D0BD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E06E1-CB9C-4976-99EC-80E21B2D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F4D17-DB4E-49BC-995E-F4E79229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11DB9-0596-415D-8D48-7944EBB8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DA162-A2E9-490E-861C-93281984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83A-EE10-45BB-89E2-7A6EDD21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73616-FEC3-4803-B866-D86D7A55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272FC-14A4-46C1-8118-C110950B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68E71-BF0E-4027-AB55-7115FB94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F558B-2009-4D63-980A-76E20241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69207-5887-4162-973E-1B596A92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5DA77-2F39-4769-B11F-C2788E48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C9B9B-4782-498B-B0BA-EE134813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20185-B991-4CC7-BE66-0567BD54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64895-C4CC-4D18-9C46-D1B9709C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9AB34-EF71-4637-A158-A88CAC9A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4B9-6459-45F0-BE1F-6EB45D37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8984E-1B02-4723-BD41-DFC3BC59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44ACF-9723-48F3-A0A6-D81CD748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6478D-5B11-44CF-A3AB-F80B25CF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A6798-0435-43AC-8A8B-BB589231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6A263-7809-4ED1-ACF4-25AFAEC8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C984C-1464-4DE8-B0A6-29B07C6B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6630C-CE21-4819-B33E-3FEA9059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20212-DD34-4B06-9059-6266CD75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0E0B9-2695-4CF8-A831-B27A62A3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17277-31AF-406C-8201-6CAB82B6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16F4-33A5-4E29-A4A4-0DEBFF11506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4162-8149-48EC-8AB4-BFBB81B65E1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880F-FAA4-4441-9470-C67F113A074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4100-6D7C-4535-9B39-1FE41B3273A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6331-1CDB-487E-BB83-0A7D5C822D4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4C90-A17E-4AC5-9326-F8AA45884CD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9465-8C80-452A-8783-D26FFEF8BE5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DA8D-6647-413D-9BFF-7D84CBE9DAE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E9A4-7422-44F3-84B6-A91876FEA25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441C-3654-4D79-9A26-9DC09033F8F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DEA3-661A-4AFC-B3CB-D0A905A291F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22BE-8311-4D31-8878-8AB1AE55472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FADA-7A78-4654-BFDD-78B3ECF062A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4BA5-634D-472B-BE70-B8030650A07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23C0-F19E-46A4-8264-90CD7F3F2C4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31A1-C133-44DE-96BA-6DFAD486075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8EA3-6A8C-462D-9EE0-FAF6B5BB6D3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Прямоугольник 3"/>
          <p:cNvSpPr/>
          <p:nvPr/>
        </p:nvSpPr>
        <p:spPr>
          <a:xfrm>
            <a:off x="1116000" y="1341360"/>
            <a:ext cx="69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Читатель учится у книг не жизни, а чувствам. Литература, на мой взгляд, - это прежде всего воспитание чувств, и прежде всего доброты, чистоты, благор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Прямоугольник 4"/>
          <p:cNvSpPr/>
          <p:nvPr/>
        </p:nvSpPr>
        <p:spPr>
          <a:xfrm>
            <a:off x="4572000" y="4221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. Г. Распу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Прямая соединительная линия 3"/>
          <p:cNvSpPr/>
          <p:nvPr/>
        </p:nvSpPr>
        <p:spPr>
          <a:xfrm>
            <a:off x="4427640" y="0"/>
            <a:ext cx="0" cy="685800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Прямоугольник 4"/>
          <p:cNvSpPr/>
          <p:nvPr/>
        </p:nvSpPr>
        <p:spPr>
          <a:xfrm>
            <a:off x="4716360" y="1554120"/>
            <a:ext cx="39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Ум, красота, деликатность, доброта, понимание другого человека, милосердие, искренность, способность на самопожертвование, ответственность, упрямство в достижении целей, бескорыстие, душевная щед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Прямоугольник 5"/>
          <p:cNvSpPr/>
          <p:nvPr/>
        </p:nvSpPr>
        <p:spPr>
          <a:xfrm>
            <a:off x="576360" y="1557360"/>
            <a:ext cx="3419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Гордость, честность, ответственность, мужество, трудолюбие, желание учиться, непреклонность перед трудностями жизни, упрямство в достижении цели, благород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Box 5"/>
          <p:cNvSpPr/>
          <p:nvPr/>
        </p:nvSpPr>
        <p:spPr>
          <a:xfrm>
            <a:off x="1692360" y="5716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Маль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Box 6"/>
          <p:cNvSpPr/>
          <p:nvPr/>
        </p:nvSpPr>
        <p:spPr>
          <a:xfrm>
            <a:off x="5092560" y="5493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Лидия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Прямоугольник 1"/>
          <p:cNvSpPr/>
          <p:nvPr/>
        </p:nvSpPr>
        <p:spPr>
          <a:xfrm>
            <a:off x="395280" y="206064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Какие уроки нравственности получил автобиографический герой В. Г. Распутина от всех событий и благодаря учительниц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1"/>
          <p:cNvSpPr/>
          <p:nvPr/>
        </p:nvSpPr>
        <p:spPr>
          <a:xfrm>
            <a:off x="108000" y="248760"/>
            <a:ext cx="8785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ьчик научился жить среди чужих людей, прощать обиды, заставил себя смириться с голодом, заботиться о мат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Герой старается понять поведение Владика, Птахи, Тишкина.(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огда и никому еще не прощалось, если в своем деле он вырывался впере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жди пощады, не ищи заступничеств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толбенел от предательств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н понял, что унижение оскорбляет человека. 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ько, навзрыд заплакал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было человека несчастнее мен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ида перехлестнула во мне страх, ничего на свете я больше не боялс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. - Он учится преодолевать свои слабости. 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да чт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то не выходит, все сделаешь для  того, чтобы вышло, так просто не отступишьс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Можно сказать, что он приобрел опыт общения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лся держать себ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равился с диковатостью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начал задавать вопросы, вступать в сп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н приобрел духовный опыт выхода из драматических ситуаций при ощущении внутренней прав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Мальчик получил урок бескорыстной доброты и заботы, благодарную память о которой сохранил на вс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Приобрел урок духовной памяти, что позволило ему, став взрослым, посвятить свое произведение учительн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Прямоугольник 2"/>
          <p:cNvSpPr/>
          <p:nvPr/>
        </p:nvSpPr>
        <p:spPr>
          <a:xfrm>
            <a:off x="1403280" y="1628640"/>
            <a:ext cx="7345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Я научился (-лась)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Я понял(а)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Я рад(а)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не не понравилось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Я хочу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1"/>
          <p:cNvSpPr/>
          <p:nvPr/>
        </p:nvSpPr>
        <p:spPr>
          <a:xfrm>
            <a:off x="179280" y="1230840"/>
            <a:ext cx="8964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исать заметку в стенгазету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етую прочитать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ки французского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Calibri"/>
              </a:rPr>
              <a:t>  В.Г. Распутина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Box 2"/>
          <p:cNvSpPr/>
          <p:nvPr/>
        </p:nvSpPr>
        <p:spPr>
          <a:xfrm>
            <a:off x="2627280" y="189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Прямоугольник 3"/>
          <p:cNvSpPr/>
          <p:nvPr/>
        </p:nvSpPr>
        <p:spPr>
          <a:xfrm>
            <a:off x="3708360" y="189000"/>
            <a:ext cx="5075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Уроки нравственности в рассказе В. Г. Распутина «Уроки французског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6" name="Picture 5" descr="C:\Users\Иван\Desktop\Rasputinv.jpg"/>
          <p:cNvPicPr/>
          <p:nvPr/>
        </p:nvPicPr>
        <p:blipFill>
          <a:blip r:embed="rId1"/>
          <a:stretch/>
        </p:blipFill>
        <p:spPr>
          <a:xfrm>
            <a:off x="0" y="0"/>
            <a:ext cx="370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Прямоугольник 2"/>
          <p:cNvSpPr/>
          <p:nvPr/>
        </p:nvSpPr>
        <p:spPr>
          <a:xfrm>
            <a:off x="755640" y="17002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чему мальчик оказался в райцент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Прямоугольник 3"/>
          <p:cNvSpPr/>
          <p:nvPr/>
        </p:nvSpPr>
        <p:spPr>
          <a:xfrm>
            <a:off x="684360" y="350028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«Чтобы учиться дальше… мне пришлось снаряжаться в райцент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Прямоугольник 1"/>
          <p:cNvSpPr/>
          <p:nvPr/>
        </p:nvSpPr>
        <p:spPr>
          <a:xfrm>
            <a:off x="1139040" y="1413000"/>
            <a:ext cx="692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Как он чувствует себя на новом мес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Прямоугольник 2"/>
          <p:cNvSpPr/>
          <p:nvPr/>
        </p:nvSpPr>
        <p:spPr>
          <a:xfrm>
            <a:off x="826920" y="3500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«Так мне было плохо, так горько и постыло! – хуже всякой болез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Прямоугольник 3"/>
          <p:cNvSpPr/>
          <p:nvPr/>
        </p:nvSpPr>
        <p:spPr>
          <a:xfrm>
            <a:off x="1348560" y="907920"/>
            <a:ext cx="603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чему он не убежал в деревн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Прямоугольник 4"/>
          <p:cNvSpPr/>
          <p:nvPr/>
        </p:nvSpPr>
        <p:spPr>
          <a:xfrm>
            <a:off x="755640" y="299736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«Но и тогда про меня можно сказать, что я человек ненадежный, раз не выдержал того, что хотел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Прямоугольник 2"/>
          <p:cNvSpPr/>
          <p:nvPr/>
        </p:nvSpPr>
        <p:spPr>
          <a:xfrm>
            <a:off x="684360" y="98100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Как складывались отношения героя с окружающими его ребят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Прямоугольник 3"/>
          <p:cNvSpPr/>
          <p:nvPr/>
        </p:nvSpPr>
        <p:spPr>
          <a:xfrm>
            <a:off x="963000" y="3789360"/>
            <a:ext cx="73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«…ни с кем из ребят я тогда не сошелс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Прямоугольник 1"/>
          <p:cNvSpPr/>
          <p:nvPr/>
        </p:nvSpPr>
        <p:spPr>
          <a:xfrm>
            <a:off x="611280" y="9079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Что заставило мальчика играть в «чику» на деньг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Прямоугольник 2"/>
          <p:cNvSpPr/>
          <p:nvPr/>
        </p:nvSpPr>
        <p:spPr>
          <a:xfrm>
            <a:off x="826920" y="371628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«Получив его (рубль), …я покупал баночку моло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1"/>
          <p:cNvSpPr/>
          <p:nvPr/>
        </p:nvSpPr>
        <p:spPr>
          <a:xfrm>
            <a:off x="0" y="17125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дость, честность, ответственность, мужество, трудолюбие, желание учиться, непреклонность перед трудностями жизни, любовь к игре, упрямство в достижении цели, благородство, беззабот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Box 2"/>
          <p:cNvSpPr/>
          <p:nvPr/>
        </p:nvSpPr>
        <p:spPr>
          <a:xfrm>
            <a:off x="2771640" y="404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Маль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Прямоугольник 1"/>
          <p:cNvSpPr/>
          <p:nvPr/>
        </p:nvSpPr>
        <p:spPr>
          <a:xfrm>
            <a:off x="0" y="1916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м, красота, деликатность, доброта, понимание другого человека, милосердие, искренность, гордость, способность на самопожертвование, склонность к азартным играм, ответственность, упрямство в достижении целей, бескорыстие, душевная щедрость, эго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Box 2"/>
          <p:cNvSpPr/>
          <p:nvPr/>
        </p:nvSpPr>
        <p:spPr>
          <a:xfrm>
            <a:off x="2050920" y="333360"/>
            <a:ext cx="33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Лидия Михайл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05:30:59Z</dcterms:created>
  <dc:creator>Коротченков Иван Владимирович</dc:creator>
  <dc:description/>
  <dc:language>en-US</dc:language>
  <cp:lastModifiedBy>виталий</cp:lastModifiedBy>
  <dcterms:modified xsi:type="dcterms:W3CDTF">2019-02-10T18:23:23Z</dcterms:modified>
  <cp:revision>25</cp:revision>
  <dc:subject/>
  <dc:title>Слайд 1</dc:title>
</cp:coreProperties>
</file>