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7B97-75D6-40F2-AF55-A04F49450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менилось? Верхний ряд - поменялись местами перец и огурец, нижний ряд – капуста и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16CF-CC33-43FC-867D-2BF788D95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менилось? Обмен между рядами: кукуруза с луком поменялись числами, помидор и све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819-BE65-427E-9052-73920040E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менилось? Поменялись местами морковка с кукурузой и баклажан с картоф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4C4C-EFB5-465A-984D-9DEB867CE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938-55B8-4527-B1B1-6EF79CD0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AA9-41CF-4B6D-9375-1F6F1ED2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F75-E5D1-4E52-A104-521ADD02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736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712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736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09D-5195-4705-B195-4F63D0EF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218-A686-43D7-8B4C-82A4D252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0269-86F8-4538-B7FB-09F693F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A97E-8216-454C-B3E4-35BDE753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D428-C1A4-4BEA-A24B-D11FF0C3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CCFD-0968-4930-84D7-BB911D10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0F10-D2B2-4374-8F57-6FD57BC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0A0B-8747-4AC7-9985-FB7C392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5E3-7319-40EA-A121-D521ACB6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7D6C-15B5-4BC2-9A2D-5ACF8F7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986A-DCD9-4F77-BD53-393F970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4E0E-E557-4CFC-90A3-C9ECB6A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99B-B220-4C08-B869-294C0C6F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724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7360" y="142884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712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724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7360" y="3966480"/>
            <a:ext cx="2714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F9E2-AE2C-4DA8-8909-37B0FBB7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032-9A15-4CD5-B8FD-0F9300DF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3A3-5D04-41C3-A455-91EA239A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932-B28F-4246-8333-8D35C970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68A-27D1-4595-91A0-AEBC13BF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D8A-35C0-4428-8E19-F8BA9CA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96648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FE1-13DE-481D-9934-537AB07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428840"/>
            <a:ext cx="4113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7120" y="3966480"/>
            <a:ext cx="84297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7E3-E346-40A0-8332-E2CC039E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06E2-D275-4FA0-9328-D9363551B9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120" y="142884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3584-63EB-4CE2-B0CE-AE365396A7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s016.radikal.ru/i335/1010/9d/8166af6eb4b0.png" TargetMode="External"/><Relationship Id="rId3" Type="http://schemas.openxmlformats.org/officeDocument/2006/relationships/hyperlink" Target="http://i024.radikal.ru/0801/7f/178f950fd202.png" TargetMode="External"/><Relationship Id="rId4" Type="http://schemas.openxmlformats.org/officeDocument/2006/relationships/hyperlink" Target="http://www.ljplus.ru/img/s/t/stalic/_Morkovka-malenkij.jpg" TargetMode="External"/><Relationship Id="rId5" Type="http://schemas.openxmlformats.org/officeDocument/2006/relationships/hyperlink" Target="http://s60.radikal.ru/i169/0811/d6/f8a6cd6d1dc8.png" TargetMode="External"/><Relationship Id="rId6" Type="http://schemas.openxmlformats.org/officeDocument/2006/relationships/hyperlink" Target="http://i067.radikal.ru/0811/fd/c633b8812809.png" TargetMode="External"/><Relationship Id="rId7" Type="http://schemas.openxmlformats.org/officeDocument/2006/relationships/hyperlink" Target="http://s013.radikal.ru/i324/1010/a7/90a346353983.png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3" descr=""/>
          <p:cNvPicPr/>
          <p:nvPr/>
        </p:nvPicPr>
        <p:blipFill>
          <a:blip r:embed="rId1"/>
          <a:stretch/>
        </p:blipFill>
        <p:spPr>
          <a:xfrm>
            <a:off x="1073160" y="1847880"/>
            <a:ext cx="6643800" cy="156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5640" y="3500280"/>
            <a:ext cx="55450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Урок математики,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Дарбакова Г.Д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11280" y="8366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17» им. Кугультинова Д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8229600" cy="149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000" y="1268280"/>
            <a:ext cx="8567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се числа от 1 до 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число «соответствует» кукурузе (капусте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ин у доски, остальные – веером могут показыва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вать овощи чётных (нечётных) чис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м числам соответствуют овощи зелёного цвет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звать все овощи в порядке возрастания «их» чис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рковь, помидор, огурец, перец, свекла, кукуруза, баклажан, капуста, лук, картофел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звать все овощи в порядке убывания «их»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им числам соответствуют овощи круглой (овальной) фор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изменилось – 1 вариант? (слайды 4-6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менилось – 2 вариант? (слайды 7-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322280"/>
          </a:xfrm>
          <a:prstGeom prst="rect">
            <a:avLst/>
          </a:prstGeom>
          <a:ln w="0">
            <a:noFill/>
          </a:ln>
        </p:spPr>
      </p:pic>
      <p:grpSp>
        <p:nvGrpSpPr>
          <p:cNvPr id="95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96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99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102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105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108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111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114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117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120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123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0" descr=""/>
          <p:cNvPicPr/>
          <p:nvPr/>
        </p:nvPicPr>
        <p:blipFill>
          <a:blip r:embed="rId8"/>
          <a:stretch/>
        </p:blipFill>
        <p:spPr>
          <a:xfrm rot="21447000">
            <a:off x="985320" y="4272120"/>
            <a:ext cx="70200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6830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137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140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143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146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149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152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155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158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161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164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Picture 33" descr=""/>
          <p:cNvPicPr/>
          <p:nvPr/>
        </p:nvPicPr>
        <p:blipFill>
          <a:blip r:embed="rId2"/>
          <a:stretch/>
        </p:blipFill>
        <p:spPr>
          <a:xfrm rot="20895000">
            <a:off x="57211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"/>
          <p:cNvPicPr/>
          <p:nvPr/>
        </p:nvPicPr>
        <p:blipFill>
          <a:blip r:embed="rId5"/>
          <a:stretch/>
        </p:blipFill>
        <p:spPr>
          <a:xfrm>
            <a:off x="838080" y="148752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"/>
          <p:cNvPicPr/>
          <p:nvPr/>
        </p:nvPicPr>
        <p:blipFill>
          <a:blip r:embed="rId6"/>
          <a:stretch/>
        </p:blipFill>
        <p:spPr>
          <a:xfrm>
            <a:off x="3767040" y="3863880"/>
            <a:ext cx="1505160" cy="147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"/>
          <p:cNvPicPr/>
          <p:nvPr/>
        </p:nvPicPr>
        <p:blipFill>
          <a:blip r:embed="rId8"/>
          <a:stretch/>
        </p:blipFill>
        <p:spPr>
          <a:xfrm>
            <a:off x="1060560" y="4286160"/>
            <a:ext cx="701640" cy="1067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"/>
          <p:cNvPicPr/>
          <p:nvPr/>
        </p:nvPicPr>
        <p:blipFill>
          <a:blip r:embed="rId10"/>
          <a:stretch/>
        </p:blipFill>
        <p:spPr>
          <a:xfrm>
            <a:off x="2500200" y="4251240"/>
            <a:ext cx="827280" cy="1101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322280"/>
          </a:xfrm>
          <a:prstGeom prst="rect">
            <a:avLst/>
          </a:prstGeom>
          <a:ln w="0">
            <a:noFill/>
          </a:ln>
        </p:spPr>
      </p:pic>
      <p:grpSp>
        <p:nvGrpSpPr>
          <p:cNvPr id="177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178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181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184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187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190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193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196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199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202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205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0" descr=""/>
          <p:cNvPicPr/>
          <p:nvPr/>
        </p:nvPicPr>
        <p:blipFill>
          <a:blip r:embed="rId8"/>
          <a:stretch/>
        </p:blipFill>
        <p:spPr>
          <a:xfrm rot="21447000">
            <a:off x="985320" y="4272120"/>
            <a:ext cx="702000" cy="1066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683000"/>
          </a:xfrm>
          <a:prstGeom prst="rect">
            <a:avLst/>
          </a:prstGeom>
          <a:ln w="0">
            <a:noFill/>
          </a:ln>
        </p:spPr>
      </p:pic>
      <p:grpSp>
        <p:nvGrpSpPr>
          <p:cNvPr id="218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219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222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225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228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231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234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237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240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243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246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8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"/>
          <p:cNvPicPr/>
          <p:nvPr/>
        </p:nvPicPr>
        <p:blipFill>
          <a:blip r:embed="rId3"/>
          <a:stretch/>
        </p:blipFill>
        <p:spPr>
          <a:xfrm>
            <a:off x="833400" y="409104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9" descr=""/>
          <p:cNvPicPr/>
          <p:nvPr/>
        </p:nvPicPr>
        <p:blipFill>
          <a:blip r:embed="rId7"/>
          <a:stretch/>
        </p:blipFill>
        <p:spPr>
          <a:xfrm>
            <a:off x="5837400" y="4427640"/>
            <a:ext cx="807840" cy="788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0" descr=""/>
          <p:cNvPicPr/>
          <p:nvPr/>
        </p:nvPicPr>
        <p:blipFill>
          <a:blip r:embed="rId8"/>
          <a:stretch/>
        </p:blipFill>
        <p:spPr>
          <a:xfrm>
            <a:off x="2573280" y="1608120"/>
            <a:ext cx="701640" cy="1066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7319520" y="1593360"/>
            <a:ext cx="9622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322280"/>
          </a:xfrm>
          <a:prstGeom prst="rect">
            <a:avLst/>
          </a:prstGeom>
          <a:ln w="0">
            <a:noFill/>
          </a:ln>
        </p:spPr>
      </p:pic>
      <p:grpSp>
        <p:nvGrpSpPr>
          <p:cNvPr id="259" name="Группа 1"/>
          <p:cNvGrpSpPr/>
          <p:nvPr/>
        </p:nvGrpSpPr>
        <p:grpSpPr>
          <a:xfrm>
            <a:off x="955800" y="2743200"/>
            <a:ext cx="642960" cy="1071720"/>
            <a:chOff x="955800" y="2743200"/>
            <a:chExt cx="642960" cy="1071720"/>
          </a:xfrm>
        </p:grpSpPr>
        <p:sp>
          <p:nvSpPr>
            <p:cNvPr id="260" name="Прямоугольник 16"/>
            <p:cNvSpPr/>
            <p:nvPr/>
          </p:nvSpPr>
          <p:spPr>
            <a:xfrm>
              <a:off x="955800" y="274320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Box 23"/>
            <p:cNvSpPr/>
            <p:nvPr/>
          </p:nvSpPr>
          <p:spPr>
            <a:xfrm>
              <a:off x="1008000" y="2894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Группа 2"/>
          <p:cNvGrpSpPr/>
          <p:nvPr/>
        </p:nvGrpSpPr>
        <p:grpSpPr>
          <a:xfrm>
            <a:off x="2593800" y="2762280"/>
            <a:ext cx="642960" cy="1071360"/>
            <a:chOff x="2593800" y="2762280"/>
            <a:chExt cx="642960" cy="1071360"/>
          </a:xfrm>
        </p:grpSpPr>
        <p:sp>
          <p:nvSpPr>
            <p:cNvPr id="263" name="Прямоугольник 17"/>
            <p:cNvSpPr/>
            <p:nvPr/>
          </p:nvSpPr>
          <p:spPr>
            <a:xfrm>
              <a:off x="2593800" y="27622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Box 25"/>
            <p:cNvSpPr/>
            <p:nvPr/>
          </p:nvSpPr>
          <p:spPr>
            <a:xfrm>
              <a:off x="2628720" y="2887560"/>
              <a:ext cx="57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266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Группа 3"/>
          <p:cNvGrpSpPr/>
          <p:nvPr/>
        </p:nvGrpSpPr>
        <p:grpSpPr>
          <a:xfrm>
            <a:off x="4216320" y="2762280"/>
            <a:ext cx="641520" cy="1071360"/>
            <a:chOff x="4216320" y="2762280"/>
            <a:chExt cx="641520" cy="1071360"/>
          </a:xfrm>
        </p:grpSpPr>
        <p:sp>
          <p:nvSpPr>
            <p:cNvPr id="269" name="Прямоугольник 15"/>
            <p:cNvSpPr/>
            <p:nvPr/>
          </p:nvSpPr>
          <p:spPr>
            <a:xfrm>
              <a:off x="4216320" y="2762280"/>
              <a:ext cx="64152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Box 28"/>
            <p:cNvSpPr/>
            <p:nvPr/>
          </p:nvSpPr>
          <p:spPr>
            <a:xfrm>
              <a:off x="4287600" y="293832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Группа 5"/>
          <p:cNvGrpSpPr/>
          <p:nvPr/>
        </p:nvGrpSpPr>
        <p:grpSpPr>
          <a:xfrm>
            <a:off x="7442280" y="5479920"/>
            <a:ext cx="939600" cy="1071720"/>
            <a:chOff x="7442280" y="5479920"/>
            <a:chExt cx="939600" cy="1071720"/>
          </a:xfrm>
        </p:grpSpPr>
        <p:sp>
          <p:nvSpPr>
            <p:cNvPr id="272" name="Прямоугольник 8"/>
            <p:cNvSpPr/>
            <p:nvPr/>
          </p:nvSpPr>
          <p:spPr>
            <a:xfrm>
              <a:off x="744228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29"/>
            <p:cNvSpPr/>
            <p:nvPr/>
          </p:nvSpPr>
          <p:spPr>
            <a:xfrm>
              <a:off x="7524720" y="5689440"/>
              <a:ext cx="85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275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Группа 3"/>
          <p:cNvGrpSpPr/>
          <p:nvPr/>
        </p:nvGrpSpPr>
        <p:grpSpPr>
          <a:xfrm>
            <a:off x="4148280" y="5468760"/>
            <a:ext cx="742680" cy="1071720"/>
            <a:chOff x="4148280" y="5468760"/>
            <a:chExt cx="742680" cy="1071720"/>
          </a:xfrm>
        </p:grpSpPr>
        <p:sp>
          <p:nvSpPr>
            <p:cNvPr id="278" name="Прямоугольник 10"/>
            <p:cNvSpPr/>
            <p:nvPr/>
          </p:nvSpPr>
          <p:spPr>
            <a:xfrm>
              <a:off x="4233960" y="5468760"/>
              <a:ext cx="62388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Box 31"/>
            <p:cNvSpPr/>
            <p:nvPr/>
          </p:nvSpPr>
          <p:spPr>
            <a:xfrm>
              <a:off x="4148280" y="568944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281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Группа 1"/>
          <p:cNvGrpSpPr/>
          <p:nvPr/>
        </p:nvGrpSpPr>
        <p:grpSpPr>
          <a:xfrm>
            <a:off x="1027080" y="5486400"/>
            <a:ext cx="644400" cy="1071720"/>
            <a:chOff x="1027080" y="5486400"/>
            <a:chExt cx="644400" cy="1071720"/>
          </a:xfrm>
        </p:grpSpPr>
        <p:sp>
          <p:nvSpPr>
            <p:cNvPr id="284" name="Прямоугольник 11"/>
            <p:cNvSpPr/>
            <p:nvPr/>
          </p:nvSpPr>
          <p:spPr>
            <a:xfrm>
              <a:off x="1027080" y="5486400"/>
              <a:ext cx="64440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33"/>
            <p:cNvSpPr/>
            <p:nvPr/>
          </p:nvSpPr>
          <p:spPr>
            <a:xfrm>
              <a:off x="1098360" y="5700600"/>
              <a:ext cx="50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287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9" name="Picture 33" descr=""/>
          <p:cNvPicPr/>
          <p:nvPr/>
        </p:nvPicPr>
        <p:blipFill>
          <a:blip r:embed="rId2"/>
          <a:stretch/>
        </p:blipFill>
        <p:spPr>
          <a:xfrm rot="20895000">
            <a:off x="772920" y="1792080"/>
            <a:ext cx="1214280" cy="653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4" descr=""/>
          <p:cNvPicPr/>
          <p:nvPr/>
        </p:nvPicPr>
        <p:blipFill>
          <a:blip r:embed="rId3"/>
          <a:stretch/>
        </p:blipFill>
        <p:spPr>
          <a:xfrm>
            <a:off x="2481120" y="1341360"/>
            <a:ext cx="887400" cy="1333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6" descr=""/>
          <p:cNvPicPr/>
          <p:nvPr/>
        </p:nvPicPr>
        <p:blipFill>
          <a:blip r:embed="rId4"/>
          <a:stretch/>
        </p:blipFill>
        <p:spPr>
          <a:xfrm>
            <a:off x="3916440" y="1692360"/>
            <a:ext cx="1257120" cy="853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0" descr=""/>
          <p:cNvPicPr/>
          <p:nvPr/>
        </p:nvPicPr>
        <p:blipFill>
          <a:blip r:embed="rId8"/>
          <a:stretch/>
        </p:blipFill>
        <p:spPr>
          <a:xfrm rot="21447000">
            <a:off x="985320" y="4272120"/>
            <a:ext cx="702000" cy="1066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2" descr=""/>
          <p:cNvPicPr/>
          <p:nvPr/>
        </p:nvPicPr>
        <p:blipFill>
          <a:blip r:embed="rId9"/>
          <a:stretch/>
        </p:blipFill>
        <p:spPr>
          <a:xfrm rot="20918400">
            <a:off x="7227360" y="4119480"/>
            <a:ext cx="1016280" cy="1276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3" descr=""/>
          <p:cNvPicPr/>
          <p:nvPr/>
        </p:nvPicPr>
        <p:blipFill>
          <a:blip r:embed="rId10"/>
          <a:stretch/>
        </p:blipFill>
        <p:spPr>
          <a:xfrm>
            <a:off x="4151160" y="4272120"/>
            <a:ext cx="827280" cy="1101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2" descr=""/>
          <p:cNvPicPr/>
          <p:nvPr/>
        </p:nvPicPr>
        <p:blipFill>
          <a:blip r:embed="rId1"/>
          <a:stretch/>
        </p:blipFill>
        <p:spPr>
          <a:xfrm>
            <a:off x="669960" y="66600"/>
            <a:ext cx="8229600" cy="1586160"/>
          </a:xfrm>
          <a:prstGeom prst="rect">
            <a:avLst/>
          </a:prstGeom>
          <a:ln w="0">
            <a:noFill/>
          </a:ln>
        </p:spPr>
      </p:pic>
      <p:grpSp>
        <p:nvGrpSpPr>
          <p:cNvPr id="300" name="Группа 4"/>
          <p:cNvGrpSpPr/>
          <p:nvPr/>
        </p:nvGrpSpPr>
        <p:grpSpPr>
          <a:xfrm>
            <a:off x="5872320" y="2749680"/>
            <a:ext cx="642960" cy="1071360"/>
            <a:chOff x="5872320" y="2749680"/>
            <a:chExt cx="642960" cy="1071360"/>
          </a:xfrm>
        </p:grpSpPr>
        <p:sp>
          <p:nvSpPr>
            <p:cNvPr id="301" name="Прямоугольник 14"/>
            <p:cNvSpPr/>
            <p:nvPr/>
          </p:nvSpPr>
          <p:spPr>
            <a:xfrm>
              <a:off x="5872320" y="2749680"/>
              <a:ext cx="642960" cy="1071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27"/>
            <p:cNvSpPr/>
            <p:nvPr/>
          </p:nvSpPr>
          <p:spPr>
            <a:xfrm>
              <a:off x="5880240" y="286848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Группа 4"/>
          <p:cNvGrpSpPr/>
          <p:nvPr/>
        </p:nvGrpSpPr>
        <p:grpSpPr>
          <a:xfrm>
            <a:off x="5925960" y="5486400"/>
            <a:ext cx="644760" cy="1071720"/>
            <a:chOff x="5925960" y="5486400"/>
            <a:chExt cx="644760" cy="1071720"/>
          </a:xfrm>
        </p:grpSpPr>
        <p:sp>
          <p:nvSpPr>
            <p:cNvPr id="304" name="Прямоугольник 9"/>
            <p:cNvSpPr/>
            <p:nvPr/>
          </p:nvSpPr>
          <p:spPr>
            <a:xfrm>
              <a:off x="5925960" y="5486400"/>
              <a:ext cx="6447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Box 30"/>
            <p:cNvSpPr/>
            <p:nvPr/>
          </p:nvSpPr>
          <p:spPr>
            <a:xfrm>
              <a:off x="5989320" y="5740200"/>
              <a:ext cx="50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Группа 2"/>
          <p:cNvGrpSpPr/>
          <p:nvPr/>
        </p:nvGrpSpPr>
        <p:grpSpPr>
          <a:xfrm>
            <a:off x="2603520" y="5479920"/>
            <a:ext cx="642960" cy="1071720"/>
            <a:chOff x="2603520" y="5479920"/>
            <a:chExt cx="642960" cy="1071720"/>
          </a:xfrm>
        </p:grpSpPr>
        <p:sp>
          <p:nvSpPr>
            <p:cNvPr id="307" name="Прямоугольник 12"/>
            <p:cNvSpPr/>
            <p:nvPr/>
          </p:nvSpPr>
          <p:spPr>
            <a:xfrm>
              <a:off x="2603520" y="547992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32"/>
            <p:cNvSpPr/>
            <p:nvPr/>
          </p:nvSpPr>
          <p:spPr>
            <a:xfrm>
              <a:off x="2674800" y="57020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Группа 5"/>
          <p:cNvGrpSpPr/>
          <p:nvPr/>
        </p:nvGrpSpPr>
        <p:grpSpPr>
          <a:xfrm>
            <a:off x="7448400" y="2766960"/>
            <a:ext cx="642960" cy="1071720"/>
            <a:chOff x="7448400" y="2766960"/>
            <a:chExt cx="642960" cy="1071720"/>
          </a:xfrm>
        </p:grpSpPr>
        <p:sp>
          <p:nvSpPr>
            <p:cNvPr id="310" name="Прямоугольник 13"/>
            <p:cNvSpPr/>
            <p:nvPr/>
          </p:nvSpPr>
          <p:spPr>
            <a:xfrm>
              <a:off x="7448400" y="2766960"/>
              <a:ext cx="642960" cy="107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Box 34"/>
            <p:cNvSpPr/>
            <p:nvPr/>
          </p:nvSpPr>
          <p:spPr>
            <a:xfrm>
              <a:off x="7519680" y="2917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Группа 1"/>
          <p:cNvGrpSpPr/>
          <p:nvPr/>
        </p:nvGrpSpPr>
        <p:grpSpPr>
          <a:xfrm>
            <a:off x="719280" y="1675440"/>
            <a:ext cx="1321920" cy="2113920"/>
            <a:chOff x="719280" y="1675440"/>
            <a:chExt cx="1321920" cy="2113920"/>
          </a:xfrm>
        </p:grpSpPr>
        <p:grpSp>
          <p:nvGrpSpPr>
            <p:cNvPr id="313" name="Группа 1"/>
            <p:cNvGrpSpPr/>
            <p:nvPr/>
          </p:nvGrpSpPr>
          <p:grpSpPr>
            <a:xfrm>
              <a:off x="930240" y="2718000"/>
              <a:ext cx="642960" cy="1071360"/>
              <a:chOff x="930240" y="2718000"/>
              <a:chExt cx="642960" cy="1071360"/>
            </a:xfrm>
          </p:grpSpPr>
          <p:sp>
            <p:nvSpPr>
              <p:cNvPr id="314" name="Прямоугольник 16"/>
              <p:cNvSpPr/>
              <p:nvPr/>
            </p:nvSpPr>
            <p:spPr>
              <a:xfrm>
                <a:off x="930240" y="2718000"/>
                <a:ext cx="6429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TextBox 23"/>
              <p:cNvSpPr/>
              <p:nvPr/>
            </p:nvSpPr>
            <p:spPr>
              <a:xfrm>
                <a:off x="982440" y="2868480"/>
                <a:ext cx="50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6" name="Picture 33" descr=""/>
            <p:cNvPicPr/>
            <p:nvPr/>
          </p:nvPicPr>
          <p:blipFill>
            <a:blip r:embed="rId2"/>
            <a:stretch/>
          </p:blipFill>
          <p:spPr>
            <a:xfrm rot="20895000">
              <a:off x="772920" y="1792080"/>
              <a:ext cx="1214280" cy="65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Группа 2"/>
          <p:cNvGrpSpPr/>
          <p:nvPr/>
        </p:nvGrpSpPr>
        <p:grpSpPr>
          <a:xfrm>
            <a:off x="4076640" y="1297080"/>
            <a:ext cx="887400" cy="2492280"/>
            <a:chOff x="4076640" y="1297080"/>
            <a:chExt cx="887400" cy="2492280"/>
          </a:xfrm>
        </p:grpSpPr>
        <p:grpSp>
          <p:nvGrpSpPr>
            <p:cNvPr id="318" name="Группа 2"/>
            <p:cNvGrpSpPr/>
            <p:nvPr/>
          </p:nvGrpSpPr>
          <p:grpSpPr>
            <a:xfrm>
              <a:off x="4189320" y="2718000"/>
              <a:ext cx="642960" cy="1071360"/>
              <a:chOff x="4189320" y="2718000"/>
              <a:chExt cx="642960" cy="1071360"/>
            </a:xfrm>
          </p:grpSpPr>
          <p:sp>
            <p:nvSpPr>
              <p:cNvPr id="319" name="Прямоугольник 17"/>
              <p:cNvSpPr/>
              <p:nvPr/>
            </p:nvSpPr>
            <p:spPr>
              <a:xfrm>
                <a:off x="4189320" y="2718000"/>
                <a:ext cx="6429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TextBox 25"/>
              <p:cNvSpPr/>
              <p:nvPr/>
            </p:nvSpPr>
            <p:spPr>
              <a:xfrm>
                <a:off x="4224240" y="2843280"/>
                <a:ext cx="571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1" name="Picture 34" descr=""/>
            <p:cNvPicPr/>
            <p:nvPr/>
          </p:nvPicPr>
          <p:blipFill>
            <a:blip r:embed="rId3"/>
            <a:stretch/>
          </p:blipFill>
          <p:spPr>
            <a:xfrm>
              <a:off x="4076640" y="1297080"/>
              <a:ext cx="887400" cy="13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Группа 3"/>
          <p:cNvGrpSpPr/>
          <p:nvPr/>
        </p:nvGrpSpPr>
        <p:grpSpPr>
          <a:xfrm>
            <a:off x="2297160" y="1598760"/>
            <a:ext cx="1257120" cy="2141280"/>
            <a:chOff x="2297160" y="1598760"/>
            <a:chExt cx="1257120" cy="2141280"/>
          </a:xfrm>
        </p:grpSpPr>
        <p:grpSp>
          <p:nvGrpSpPr>
            <p:cNvPr id="323" name="Группа 3"/>
            <p:cNvGrpSpPr/>
            <p:nvPr/>
          </p:nvGrpSpPr>
          <p:grpSpPr>
            <a:xfrm>
              <a:off x="2597040" y="2668680"/>
              <a:ext cx="641160" cy="1071360"/>
              <a:chOff x="2597040" y="2668680"/>
              <a:chExt cx="641160" cy="1071360"/>
            </a:xfrm>
          </p:grpSpPr>
          <p:sp>
            <p:nvSpPr>
              <p:cNvPr id="324" name="Прямоугольник 15"/>
              <p:cNvSpPr/>
              <p:nvPr/>
            </p:nvSpPr>
            <p:spPr>
              <a:xfrm>
                <a:off x="2597040" y="2668680"/>
                <a:ext cx="6411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TextBox 28"/>
              <p:cNvSpPr/>
              <p:nvPr/>
            </p:nvSpPr>
            <p:spPr>
              <a:xfrm>
                <a:off x="2668320" y="2844720"/>
                <a:ext cx="49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6" name="Picture 36" descr=""/>
            <p:cNvPicPr/>
            <p:nvPr/>
          </p:nvPicPr>
          <p:blipFill>
            <a:blip r:embed="rId4"/>
            <a:stretch/>
          </p:blipFill>
          <p:spPr>
            <a:xfrm>
              <a:off x="2297160" y="1598760"/>
              <a:ext cx="1257120" cy="85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Picture 37" descr=""/>
          <p:cNvPicPr/>
          <p:nvPr/>
        </p:nvPicPr>
        <p:blipFill>
          <a:blip r:embed="rId5"/>
          <a:stretch/>
        </p:blipFill>
        <p:spPr>
          <a:xfrm>
            <a:off x="5737320" y="1598760"/>
            <a:ext cx="833400" cy="1058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8" descr=""/>
          <p:cNvPicPr/>
          <p:nvPr/>
        </p:nvPicPr>
        <p:blipFill>
          <a:blip r:embed="rId6"/>
          <a:stretch/>
        </p:blipFill>
        <p:spPr>
          <a:xfrm>
            <a:off x="2195640" y="3973680"/>
            <a:ext cx="1504800" cy="1474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9" descr=""/>
          <p:cNvPicPr/>
          <p:nvPr/>
        </p:nvPicPr>
        <p:blipFill>
          <a:blip r:embed="rId7"/>
          <a:stretch/>
        </p:blipFill>
        <p:spPr>
          <a:xfrm>
            <a:off x="7365960" y="1757520"/>
            <a:ext cx="808200" cy="788760"/>
          </a:xfrm>
          <a:prstGeom prst="rect">
            <a:avLst/>
          </a:prstGeom>
          <a:ln w="0">
            <a:noFill/>
          </a:ln>
        </p:spPr>
      </p:pic>
      <p:grpSp>
        <p:nvGrpSpPr>
          <p:cNvPr id="330" name="Группа 4"/>
          <p:cNvGrpSpPr/>
          <p:nvPr/>
        </p:nvGrpSpPr>
        <p:grpSpPr>
          <a:xfrm>
            <a:off x="962280" y="4257000"/>
            <a:ext cx="748800" cy="2301120"/>
            <a:chOff x="962280" y="4257000"/>
            <a:chExt cx="748800" cy="2301120"/>
          </a:xfrm>
        </p:grpSpPr>
        <p:grpSp>
          <p:nvGrpSpPr>
            <p:cNvPr id="331" name="Группа 1"/>
            <p:cNvGrpSpPr/>
            <p:nvPr/>
          </p:nvGrpSpPr>
          <p:grpSpPr>
            <a:xfrm>
              <a:off x="1026720" y="5486400"/>
              <a:ext cx="645120" cy="1071720"/>
              <a:chOff x="1026720" y="5486400"/>
              <a:chExt cx="645120" cy="1071720"/>
            </a:xfrm>
          </p:grpSpPr>
          <p:sp>
            <p:nvSpPr>
              <p:cNvPr id="332" name="Прямоугольник 11"/>
              <p:cNvSpPr/>
              <p:nvPr/>
            </p:nvSpPr>
            <p:spPr>
              <a:xfrm>
                <a:off x="1026720" y="5486400"/>
                <a:ext cx="645120" cy="107172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TextBox 33"/>
              <p:cNvSpPr/>
              <p:nvPr/>
            </p:nvSpPr>
            <p:spPr>
              <a:xfrm>
                <a:off x="1098000" y="5700600"/>
                <a:ext cx="50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34" name="Picture 40" descr=""/>
            <p:cNvPicPr/>
            <p:nvPr/>
          </p:nvPicPr>
          <p:blipFill>
            <a:blip r:embed="rId8"/>
            <a:stretch/>
          </p:blipFill>
          <p:spPr>
            <a:xfrm rot="21447000">
              <a:off x="985320" y="4272120"/>
              <a:ext cx="702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Группа 6"/>
          <p:cNvGrpSpPr/>
          <p:nvPr/>
        </p:nvGrpSpPr>
        <p:grpSpPr>
          <a:xfrm>
            <a:off x="3988080" y="4025880"/>
            <a:ext cx="1269720" cy="2519280"/>
            <a:chOff x="3988080" y="4025880"/>
            <a:chExt cx="1269720" cy="2519280"/>
          </a:xfrm>
        </p:grpSpPr>
        <p:grpSp>
          <p:nvGrpSpPr>
            <p:cNvPr id="336" name="Группа 5"/>
            <p:cNvGrpSpPr/>
            <p:nvPr/>
          </p:nvGrpSpPr>
          <p:grpSpPr>
            <a:xfrm>
              <a:off x="4317840" y="5473800"/>
              <a:ext cx="939960" cy="1071360"/>
              <a:chOff x="4317840" y="5473800"/>
              <a:chExt cx="939960" cy="1071360"/>
            </a:xfrm>
          </p:grpSpPr>
          <p:sp>
            <p:nvSpPr>
              <p:cNvPr id="337" name="Прямоугольник 8"/>
              <p:cNvSpPr/>
              <p:nvPr/>
            </p:nvSpPr>
            <p:spPr>
              <a:xfrm>
                <a:off x="4317840" y="5473800"/>
                <a:ext cx="642960" cy="1071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TextBox 29"/>
              <p:cNvSpPr/>
              <p:nvPr/>
            </p:nvSpPr>
            <p:spPr>
              <a:xfrm>
                <a:off x="4400280" y="5683320"/>
                <a:ext cx="857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39" name="Picture 42" descr=""/>
            <p:cNvPicPr/>
            <p:nvPr/>
          </p:nvPicPr>
          <p:blipFill>
            <a:blip r:embed="rId9"/>
            <a:stretch/>
          </p:blipFill>
          <p:spPr>
            <a:xfrm rot="20918400">
              <a:off x="4103640" y="4113360"/>
              <a:ext cx="1016280" cy="127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Группа 5"/>
          <p:cNvGrpSpPr/>
          <p:nvPr/>
        </p:nvGrpSpPr>
        <p:grpSpPr>
          <a:xfrm>
            <a:off x="7483320" y="4392720"/>
            <a:ext cx="743040" cy="2152440"/>
            <a:chOff x="7483320" y="4392720"/>
            <a:chExt cx="743040" cy="2152440"/>
          </a:xfrm>
        </p:grpSpPr>
        <p:grpSp>
          <p:nvGrpSpPr>
            <p:cNvPr id="341" name="Группа 3"/>
            <p:cNvGrpSpPr/>
            <p:nvPr/>
          </p:nvGrpSpPr>
          <p:grpSpPr>
            <a:xfrm>
              <a:off x="7483320" y="5473440"/>
              <a:ext cx="743040" cy="1071720"/>
              <a:chOff x="7483320" y="5473440"/>
              <a:chExt cx="743040" cy="1071720"/>
            </a:xfrm>
          </p:grpSpPr>
          <p:sp>
            <p:nvSpPr>
              <p:cNvPr id="342" name="Прямоугольник 10"/>
              <p:cNvSpPr/>
              <p:nvPr/>
            </p:nvSpPr>
            <p:spPr>
              <a:xfrm>
                <a:off x="7569000" y="5473440"/>
                <a:ext cx="624240" cy="107172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TextBox 31"/>
              <p:cNvSpPr/>
              <p:nvPr/>
            </p:nvSpPr>
            <p:spPr>
              <a:xfrm>
                <a:off x="7483320" y="5694120"/>
                <a:ext cx="743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400" spc="-1" strike="noStrike">
                    <a:solidFill>
                      <a:srgbClr val="4f6228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4" name="Picture 43" descr=""/>
            <p:cNvPicPr/>
            <p:nvPr/>
          </p:nvPicPr>
          <p:blipFill>
            <a:blip r:embed="rId10"/>
            <a:stretch/>
          </p:blipFill>
          <p:spPr>
            <a:xfrm>
              <a:off x="7486200" y="4392720"/>
              <a:ext cx="740160" cy="9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Picture 44" descr=""/>
          <p:cNvPicPr/>
          <p:nvPr/>
        </p:nvPicPr>
        <p:blipFill>
          <a:blip r:embed="rId11"/>
          <a:srcRect l="0" t="0" r="29102" b="33298"/>
          <a:stretch/>
        </p:blipFill>
        <p:spPr>
          <a:xfrm rot="20773800">
            <a:off x="5767560" y="4408200"/>
            <a:ext cx="9619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47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23640" y="1484280"/>
            <a:ext cx="8429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016.radikal.ru/i335/1010/9d/8166af6eb4b0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руза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024.radikal.ru/0801/7f/178f950fd202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ljplus.ru/img/s/t/stalic/_Morkovka-malenkij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s60.radikal.ru/i169/0811/d6/f8a6cd6d1dc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067.radikal.ru/0811/fd/c633b8812809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s013.radikal.ru/i324/1010/a7/90a346353983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51.radikal.ru/i132/0811/63/31518d0539da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фел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053.radikal.ru/1010/38/83dc13297a94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/s/svekl/svekla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лажан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009.radikal.ru/i310/1010/a5/ae4d1d55d39a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для презентации http://www.numi.ru/fullview.php?id=23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6:39:07Z</dcterms:created>
  <dc:creator>Galina</dc:creator>
  <dc:description/>
  <dc:language>en-US</dc:language>
  <cp:lastModifiedBy>ACER</cp:lastModifiedBy>
  <dcterms:modified xsi:type="dcterms:W3CDTF">2021-10-28T09:52:49Z</dcterms:modified>
  <cp:revision>88</cp:revision>
  <dc:subject/>
  <dc:title>Слайд 1</dc:title>
</cp:coreProperties>
</file>