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CF2-FBA0-4560-B505-FB284A75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5A5-C790-4C46-813A-15CAA48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D04-7F31-46E1-9241-6F080C66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4DA-7771-49A9-98B2-C45A4483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3BDA-00A9-469A-A37B-4B96CB49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DF0-7CDB-48BC-8FA4-145DE9E0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C257-FA37-4682-AA4C-3E2134D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F4D8-D9DF-4254-BD57-10B9519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8E2C-38D9-4D88-89BC-0D42870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343B-840A-453D-BDFD-3CD4DD9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22CF-5C72-4E44-8EED-B7C39263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7BC-8479-44D6-82F2-85C5E2E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94CC-4426-45E1-AAE1-B2B5E20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8137-FE6D-40E2-AC8F-913A5E7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18B-9D71-46F8-88E2-AF50FEB7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FDF-5938-433E-A764-835947A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CA6-B9EA-4158-AB58-29517375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C48-3D03-4010-A3C2-2EE33D0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72D-8E4A-457F-8CD7-37F9F351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0C3-4BDF-4BF9-92AB-39DF39E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1D4-38B6-458E-9B79-827262A5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759-A47E-4683-B803-490913C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8EF-4EC0-4065-AF3F-6C19DE7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106-EA1A-4EA8-8D7B-B1F5713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54B6-7730-4FA0-A10C-350A84A6E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DF9-3D37-4D9F-B14B-779D4D0762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пользование логопедически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ем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на уроках русского языка и чтения в начальных классах СК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5105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бина Елена Василь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БОУ «СОШ № 55 г. Челябинск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лкая мотор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тонуса коры головного моз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тие речевых центров коры головного моз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имулирование развития речи ребен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гласование работы понятийного и двигательного центров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пособствование улучшению артикуляционной моторик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тие чувства ритма и координаций движен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готовка руки к письм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рректурные проб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017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Тайна пропавшего предлож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Ситуация успеха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арная рабо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Шкатулка ошибок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ссоци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18"/>
          <p:cNvPicPr/>
          <p:nvPr/>
        </p:nvPicPr>
        <p:blipFill>
          <a:blip r:embed="rId1"/>
          <a:stretch/>
        </p:blipFill>
        <p:spPr>
          <a:xfrm>
            <a:off x="457200" y="34308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Цель и направления работы логопеда в школ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Ц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ранение различных нарушений речи и создание условий для успешной учебной деятель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3400" y="1752480"/>
            <a:ext cx="4224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Направления рабо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тие и совершенств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стной речи (произношения, лексики, грамматики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ррекция нарушений письмен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ртикуляционная гимнаст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ое выполнение позволя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учшить кровоснабжение артикуляционных органов и их (нервную проводимость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лучшить подвижность артикуляционных орган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репить мышечную систему языка, губ, щё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ить напряжённость артикуляционных орг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td3.mycdn.me/image?id=860454924242&amp;t=20&amp;plc=WEB&amp;tkn=*CrpvxpGXM_N0DfPQaZmjHMtT-yE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5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ыхательные упражн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Verdana"/>
              </a:rPr>
              <a:t>Развива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ый, равномерный выдо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уют сильную воздушную стру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нируют умение экономно расходовать воздух в процессе речи с учетом его добо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нируют ситуативную фразовую реч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336699"/>
                </a:solidFill>
                <a:latin typeface="Verdana"/>
              </a:rPr>
              <a:t>Оздоравлива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ыщая организм кислоро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я обменные процесс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рмализуя психо-эмоциональное состоя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авила речевого дых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дух набираем через н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ечи не поднима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щеки не надува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тает брюшная стенк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дох плавный  и длительны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10-29T06:53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