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BB81-9434-43EE-802F-D684F41A79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A03F-985F-4F8C-AB4E-B2F204DC5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72E9-A911-4609-922F-925B64311E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4A18-8472-4A65-B7FA-DA83749498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483E-3C34-4840-B116-ADF229105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43DF-5E40-4772-8E8C-4E1F86B52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40F6-40D6-4822-AB43-8BC179F9CE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27BF-D406-4BB5-95AA-1D3176B2D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694A-0B45-4B96-8FE5-833EA3FB7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7129-B5B1-4B79-B464-38C96056B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97F1-EDC1-4F4B-A7D9-6DE7B6B52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74C0-9BFF-41D2-8D3F-9E3117AA5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E2C1-5FAE-4573-8648-6553ACF12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9EDE-21FF-418D-AF43-3617D3DC9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1839-1B25-4DF8-962C-4B1817B55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1B1D-9334-4D9A-926E-10A8A650A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BE12-E652-4B64-92BC-D6E2EA4896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28A8-B34B-435D-B4CC-ADFA2515E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3F8B-8613-41DC-80C4-CF9B6B726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A9F-6AB1-489E-BD5E-A2AC9920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6D8-E19D-44ED-8575-3B61F925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BE4-D31C-48D6-B12D-3DE8DA8B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CCE-681E-4B5C-B959-8C33B8B7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994-9FC0-48CC-BF71-380F79A2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D81-2258-4477-874C-0F9DEBBF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A51-80E8-4056-8065-FB58B360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788-F86C-4137-B528-F78C5B5C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5A4-3709-4681-9511-A6E88353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D79-928B-4071-9130-76D6E62B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A94-0CEC-413A-8669-6B4359F6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91C-F880-45B3-B5E2-DB34EF10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1EC7-B7CE-45E4-BB7E-FB3EC8B294E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rweb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7840" y="479520"/>
            <a:ext cx="8850240" cy="558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Защита информации, антивирусная защита информ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ер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392040" y="1204920"/>
            <a:ext cx="827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вь (сетевой червь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вредоносная программа, распространяющаяся по сетевым каналам и способная к самостоятельному преодолению систем защиты компьютерных сетей, а также к созданию и дальнейшему распространению своих копий, не обязательно совпадающих с оригин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Жизненный цикл черв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625320" y="1204920"/>
            <a:ext cx="804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икновение в сис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объектов для за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оп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коп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фикация черв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392040" y="1204920"/>
            <a:ext cx="83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типа проникновения в сис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ые чер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уют для распространения локальные сети и Интерн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овые чер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ространяются с помощью почтовых програм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роянск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392040" y="1204920"/>
            <a:ext cx="827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янские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воляют получать управление удаленным компьютером, распространяются через компьютерные сети, часто при установке других программ (зараженные инсталлято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Жизненный цикл троянских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92040" y="1204920"/>
            <a:ext cx="8275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икновение в сис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вредонос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фикация троянских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76200" y="852480"/>
            <a:ext cx="855036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вредоносной нагруз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виатурные шпио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стоянно находясь в оперативной памяти, записывают все данные, поступающие от клавиатуры с целью последующей их передачи своему автор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итители пароле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назначены для кражи паролей путем поиска на зараженном компьютере специальных файлов, которые их содержа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литы скрытого удаленного управл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трояны, которые обеспечивают несанкционированный удаленный контроль над инфицированным компьют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нимные SMTP-сервера и прокси-сервер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ие трояны на зараженном компьютере организовывают несанкционированную отправку электронной почты, что часто используется для рассылки спа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литы дозво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 скрытом от пользователя режиме инициируют подключение к платным сервисам Интер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икаторы настроек браузе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еняют стартовую страницу в браузере, страницу поиска или еще какие-либо настройки, открывают дополнительные окна, имитируют нажатия на рекламные баннеры и т. 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бомб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характеризуются способностью при срабатывании заложенных в них условий (в конкретный день, время суток, определенное действие пользователя или команды извне) выполнять какое-либо дей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тивирусны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09480" y="1316160"/>
            <a:ext cx="792504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rWeb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 u="sng" baseline="-25000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drweb.com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orton Antivirus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ww.symantec.com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OD32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ww.eset.com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442080" y="803160"/>
            <a:ext cx="196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оммерческ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"/>
          <p:cNvSpPr/>
          <p:nvPr/>
        </p:nvSpPr>
        <p:spPr>
          <a:xfrm>
            <a:off x="501840" y="2760840"/>
            <a:ext cx="1744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есплатны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609480" y="3270240"/>
            <a:ext cx="828828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curity Essential (http://www.microsoft.com/security_essentials/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vast Home (www.avast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ntivir Personal (free-av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2856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VG Free (free.grisoft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тивирус Касперск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376200" y="870120"/>
            <a:ext cx="846468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овый антивирус (проверка файлов в момент обращения к ним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овый антивирус (проверка входящих и выходящих сообщений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-антивирус (Интернет, проверка Web-страниц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ктивная защита (попытки обнаружить неизвестные вредоносные программы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жение за реестро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критических файл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ы о «подозрительных» обращениях к памя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-шпион (борьба с Интернет-мошенничеством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-хакер (обнаружение сетевых ата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-спам (фильтр входящей почты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ругие виды антивирусной защи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314280" y="870120"/>
            <a:ext cx="844560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ндмауэры (файрволы, сетевые экраны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ируют «лишние» обращения в сеть и запросы из се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аратные антивирус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от изменения загрузочного секто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 на выполнение кода из области данны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аратный брандмауэр (Лаборатории Касперског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лайновые (on-line) антивирус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ют на компьютер модуль ActiveX,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проверяет файлы или файл пересылается на сайт разработчика антивирус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376200" y="852480"/>
            <a:ext cx="860760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резервные копии важных данных на CD и DV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антивирус-монитор, особенно при работе в Интерне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в Интернете включать брандмауэр (программу, запрещающую обмен по некоторым каналам связи, которые используют вирусы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ть с помощью антивируса-доктора все новые программы и файл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крывать сообщения e-mail с неизвестных адресов, особенно файлы-прилож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грузочный диск с антивирусо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ьютерный виру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76200" y="1068480"/>
            <a:ext cx="832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массовая эпидемия компьютерного вируса произошла в 1986 году, когда виру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заражал» дискеты для первых массовых персональных компью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686592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B6AD-27C1-4143-ACDF-D90E5D8E927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04640" y="1271520"/>
          <a:ext cx="7620120" cy="3243240"/>
        </p:xfrm>
        <a:graphic>
          <a:graphicData uri="http://schemas.openxmlformats.org/drawingml/2006/table">
            <a:tbl>
              <a:tblPr/>
              <a:tblGrid>
                <a:gridCol w="2540160"/>
                <a:gridCol w="2540160"/>
                <a:gridCol w="253980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ю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у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вирусы скан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вирусы мон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08" name="TextBox 3"/>
          <p:cNvSpPr/>
          <p:nvPr/>
        </p:nvSpPr>
        <p:spPr>
          <a:xfrm>
            <a:off x="1646280" y="5303880"/>
            <a:ext cx="440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лнить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33440" y="3984480"/>
          <a:ext cx="7632720" cy="54000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тевые эк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ьютерный виру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76200" y="1068480"/>
            <a:ext cx="8321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й вирус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ограмма, способная создавать свои дубликаты (не обязательно совпадающие с оригиналом) и внедрять их в вычислительные сети и/или файлы, системные области компьютера и прочие выполняемые объекты. При этом дубликаты сохраняют способность к дальнейшему распростране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знаки зара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76200" y="1068480"/>
            <a:ext cx="832176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дление работы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загрузка или зависание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работа ОС или прикладны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длины ф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новых ф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объема оперативной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ылка сообщений e-mail без ведома ав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пособы зара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76200" y="1068480"/>
            <a:ext cx="832176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тить зараженный фай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узить компьютер с зараженной дискеты или дис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втозапуске CD(DVD)-диска или флэш-дис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ь зараженный документ с макросами (Word или Exce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ь сообщение e-mail с вирус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ь Web-страницу с вирус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02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ить установить активное содержимое на Web-стран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Жизненный цикл виру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392040" y="1204920"/>
            <a:ext cx="8275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никновение на чужой компью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иск объектов для за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готовка коп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недрение коп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фикация виру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98520" y="1104840"/>
            <a:ext cx="82756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личине вредных воз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ас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х влияние ограничивается уменьшением свободной памяти на диске, графическими, звуковыми и другими внешними эфф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гут привести к сбоям и зависаниям при работе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опас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х активизация может привести к потере программ и данных, форматированию винчестера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фикация виру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314280" y="1104840"/>
            <a:ext cx="852660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реде об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узочные вирус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ражают загрузочные сектора жестких дисков и мобильных нос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овые вирус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ражают файлы. Отдельно по типу среды обитания в этой группе также выделя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ие файловые вирус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личными способами внедряются в исполняемые файлы (внедряют свой вредоносный код или полностью их перезаписывают), создают файлы-двойники, свои копии в различных каталогах жесткого диска или используют особенности организации файлов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виру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писаны на внутреннем языке, так называемых макросах какого-либо приложения. Подавляющее большинство макровирусов используют макросы текстового редактора Microsoft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пт-виру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писаны в виде скриптов для определенной командной обол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14280" y="1890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иру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392040" y="1204920"/>
            <a:ext cx="8275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своих вирусных копий для маскировки от антивирусов могут применять такие технологии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ф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 этом случае вирус состоит из двух частей: сам вирус и шифра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морфиз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ирусные копии создаются путем замены некоторых команд на аналогичные, перестановки местами частей кода, вставки между ними дополнительного, обычно ничего не делающих ком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Студент</cp:lastModifiedBy>
  <dcterms:modified xsi:type="dcterms:W3CDTF">2021-10-29T00:49:30Z</dcterms:modified>
  <cp:revision>620</cp:revision>
  <dc:subject/>
  <dc:title>Программное обеспечение (ПО)</dc:title>
</cp:coreProperties>
</file>