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jpeg" ContentType="image/jpeg"/>
  <Override PartName="/ppt/media/image11.jpeg" ContentType="image/jpeg"/>
  <Override PartName="/ppt/media/image24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45F-07BC-4560-A0F2-17A7E8D0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57E-3C0B-46A1-A716-BA4F5E6D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AB7-D099-41D6-A3F0-7AB93B9E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F3E-7237-431C-A219-BF6B2CEB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F222D-5DDA-4B17-8292-3D3CA51D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AC072-2B78-411B-BDB4-C02D3B2E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24782-6779-4CD9-BF26-F45AD6C4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CB4E3-E9F9-4A75-A9C4-1ABE02AF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3E872-C80A-4C58-874F-07BDC7A2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C1407-9495-43D5-BA2A-854DD26E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5074-F52B-454D-8EED-6278920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4F8-F44B-4C81-AD1B-082B3DD8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A85AA-0076-459D-8040-46900B0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C19D8-8A7B-463B-8F98-F103E4FA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73EC2-FA1C-4BE2-9034-9E32B0A4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76C43-67D9-495C-8842-14C01338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3034A-58A4-4DAA-9087-3B0AE2A5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2C60-746F-4DA0-9D68-BFBCB1C6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CB75-1CFE-4812-8CB6-60092BE9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718F-2259-49A6-BE30-CC763901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CEEE-3F52-4B7A-A1CC-FCD39970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98F3-D860-4AB7-AD80-4A880B05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0CB-29EF-448D-9856-91410DF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18E2-5A51-42A5-AE7A-A57AB6EE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187C-6FE1-46BE-9254-4DB10BAA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EE9D-FDC2-4EFF-9101-1DB9E3DE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9734-C455-4679-9851-27DE3C0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A7BC-F96F-46B2-B658-B7D8607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645F-93FD-4FDC-B7BF-B10C0823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C95F-A279-4E8A-86EA-E05B9A92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211F3-4A75-41DE-BA20-81CD5101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85C35-4F5C-4CE2-8BD4-E21766CB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0D380-7C8D-4B06-BAB6-BB52EAE7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CC1-2502-4531-A623-BE07C44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D656E-E71C-4205-9875-0FA94561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F7FFF-C2AF-4CC7-ADCC-DB5E3E81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478A5-D175-4117-AB47-C72F04F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9E2AF-9A1D-42A3-813C-2D68B71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150E1-A9D8-4525-A6C4-B4D56FD7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BCA09-0592-48D7-B541-B7424D0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45B20-F6FA-4AF8-95EF-CDA8E6E3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F18BE-2CBF-4AC4-AD6E-641D9652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BDE2F-1389-4F83-8B46-007F4C27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72F-E302-4AE8-ABDB-D00071AD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942-A57B-44DD-BA36-D2BC0B9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5A1-0386-4554-B11C-CBC0FA7C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467-7EEB-474B-AC36-65796AD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F9C-2222-44EA-9FDF-9157F13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ahoma"/>
              </a:rPr>
              <a:t>Лашкина О.В.Санкт-Петербург 20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FD1E-30A3-418E-B7B1-59500BA8EA39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4C1C-8F10-43BE-A318-1C41D2953CCC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ahoma"/>
              </a:rPr>
              <a:t>Лашкина О.В.Санкт-Петербург 20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ahoma"/>
              </a:rPr>
              <a:t>Лашкина О.В.Санкт-Петербург 20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EB95-E4AE-4C31-9F59-375B2CDC5865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BB01-1D40-4D62-9933-CA8BFBE4113F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ahoma"/>
              </a:rPr>
              <a:t>Лашкина О.В.Санкт-Петербург 20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Картинка 23 из 183"/>
          <p:cNvPicPr/>
          <p:nvPr/>
        </p:nvPicPr>
        <p:blipFill>
          <a:blip r:embed="rId2"/>
          <a:stretch/>
        </p:blipFill>
        <p:spPr>
          <a:xfrm>
            <a:off x="4643280" y="1844640"/>
            <a:ext cx="3888000" cy="364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Картинка 31 из 229"/>
          <p:cNvPicPr/>
          <p:nvPr/>
        </p:nvPicPr>
        <p:blipFill>
          <a:blip r:embed="rId3"/>
          <a:stretch/>
        </p:blipFill>
        <p:spPr>
          <a:xfrm>
            <a:off x="468360" y="1844640"/>
            <a:ext cx="3924360" cy="3683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ценка «5»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222613"/>
                </a:solidFill>
                <a:latin typeface="Times New Roman"/>
                <a:ea typeface="Calibri"/>
              </a:rPr>
              <a:t>выставляется в том случае, если студент извлек из источника историческую информацию, на основе которой сформулировал и раскрыл поднятую в тексте проблему; привел собственную точку зрения на рассматриваемую проблему; аргументировал свою позицию с опорой на исторические факты и собственный жизненный опы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ценка «4»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222613"/>
                </a:solidFill>
                <a:latin typeface="Times New Roman"/>
                <a:ea typeface="Calibri"/>
              </a:rPr>
              <a:t>выставляется в том случае, если студент</a:t>
            </a:r>
            <a:r>
              <a:rPr b="0" lang="ru-RU" sz="1600" spc="-1" strike="noStrike">
                <a:solidFill>
                  <a:srgbClr val="222613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222613"/>
                </a:solidFill>
                <a:latin typeface="Times New Roman"/>
                <a:ea typeface="Calibri"/>
              </a:rPr>
              <a:t>извлек из источника историческую информацию, на основе которой обозначил и пояснил поднятую в тексте проблему;</a:t>
            </a:r>
            <a:r>
              <a:rPr b="0" lang="ru-RU" sz="1600" spc="-1" strike="noStrike">
                <a:solidFill>
                  <a:srgbClr val="222613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222613"/>
                </a:solidFill>
                <a:latin typeface="Times New Roman"/>
                <a:ea typeface="Calibri"/>
              </a:rPr>
              <a:t>сопоставил факты нескольких исторических источников; привел собственную точку зрения на рассматриваемую проблему, но затруднился с аргументацией своей позиц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ценка «3»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222613"/>
                </a:solidFill>
                <a:latin typeface="Times New Roman"/>
                <a:ea typeface="Calibri"/>
              </a:rPr>
              <a:t>выставляется в том случае, если студент на основе информации источника увидел проблему, но не смог ее сформулировать; попытался раскрыть проблему, пользуясь общими рассуждениями при слабой опоре на информацию источника ; не сформулировал собственную точку зрения (позицию, отношение) при ответе на вопросы и задания к тексту источник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метка «2»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2d2901"/>
                </a:solidFill>
                <a:latin typeface="Times New Roman"/>
                <a:ea typeface="Calibri"/>
              </a:rPr>
              <a:t>выставляется в том случае, если студент сделал попытку ответить на поставленные вопросы; не увидел проблему и не смог ее сформулировать; пересказал текст источника без его комментирования или дал ответ не в контексте зад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200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334800" y="152280"/>
            <a:ext cx="8444160" cy="1395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Картинка 7 из 747"/>
          <p:cNvPicPr/>
          <p:nvPr/>
        </p:nvPicPr>
        <p:blipFill>
          <a:blip r:embed="rId2"/>
          <a:stretch/>
        </p:blipFill>
        <p:spPr>
          <a:xfrm>
            <a:off x="826920" y="1700280"/>
            <a:ext cx="7417080" cy="4357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Несмотря на сокращение производства зерна, его поставки государству увеличились в 2 ра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Город получил огромное количество рабочих ру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Коллективизация обеспечила промышленность необходимым сырьё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Создание МТ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  <p:sp>
        <p:nvSpPr>
          <p:cNvPr id="205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Разорение деревни непрекращающимся раскулачиванием, репрессии, голод в стран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Ликвидация слоя зажиточных крестьян, уничтожение частного сектора в сельском хозяйств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Крестьяне перестали быть собственниками земли, утрачены экономические стимулы к труд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C:\Documents and Settings\Admin\Мои документы\Мои рисунки\____2.jpg"/>
          <p:cNvPicPr/>
          <p:nvPr/>
        </p:nvPicPr>
        <p:blipFill>
          <a:blip r:embed="rId1"/>
          <a:stretch/>
        </p:blipFill>
        <p:spPr>
          <a:xfrm>
            <a:off x="5867280" y="2421000"/>
            <a:ext cx="2413080" cy="2584440"/>
          </a:xfrm>
          <a:prstGeom prst="rect">
            <a:avLst/>
          </a:prstGeom>
          <a:ln w="0">
            <a:noFill/>
          </a:ln>
        </p:spPr>
      </p:pic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Картинка 68 из 229"/>
          <p:cNvPicPr/>
          <p:nvPr/>
        </p:nvPicPr>
        <p:blipFill>
          <a:blip r:embed="rId3"/>
          <a:stretch/>
        </p:blipFill>
        <p:spPr>
          <a:xfrm>
            <a:off x="395280" y="1557360"/>
            <a:ext cx="4500720" cy="4152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от 7 августа 1932 год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Закон об охране имущества государственных предприятий, колхозов, кооперативов и укреплении общественной собственности был принят накануне искусственного голода. Его называли «закон о трех колосках» или «семь восьмых» (дата принятия). Предусматривалось наказание за воровство колхозного и кооперативного имущества, кражу грузов на железнодорожном и водном транспорте. Виновным грозил расстрел с конфискацией имущества или лишение свободы на срок не менее десяти л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3889080" cy="583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2"/>
          <a:stretch/>
        </p:blipFill>
        <p:spPr>
          <a:xfrm>
            <a:off x="950760" y="12600"/>
            <a:ext cx="8467920" cy="150516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d2901"/>
                </a:solidFill>
                <a:latin typeface="Constantia"/>
              </a:rPr>
              <a:t>1.Написать эссе (по выбору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d2901"/>
                </a:solidFill>
                <a:latin typeface="Constantia"/>
              </a:rPr>
              <a:t>а) Голод и коллективизация рукотворная трагедия? (использовать дневниковую запись К. Чуковского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d2901"/>
                </a:solidFill>
                <a:latin typeface="Constantia"/>
              </a:rPr>
              <a:t>б) Как проходила коллективизация в моем родном сел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d2901"/>
                </a:solidFill>
                <a:latin typeface="Constantia"/>
              </a:rPr>
              <a:t>2.Письменно прокомментируйте высказывание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901"/>
                </a:solidFill>
                <a:latin typeface="Constantia"/>
              </a:rPr>
              <a:t>«После завершения коллективизации вся экономическая жизнь страны оказалась полностью в руках Сталина, все граждане были целиком зависимы от государства и в политическом, и в экономическом отношении. Одновременно была завершена и монополизация духовной жизни» (Геллер М., Некрич А. Утопия у власти, М.. 1996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ть: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 коллективизации,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од проведения коллективизации,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этапы и итог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значение и последств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нятия: «коллективизация», «раскулачивание»,          «кулак», «бедняк», «середняк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ме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работать с документами разного характера, анализировать реальные исторические событ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. «Коллективизация навсегда избавила деревню от кулацкой кабалы, от классового расслоения, от разорения и нищеты. На основе ленинского кооперативного плана извечный крестьянский вопрос нашел свое подлинное разрешение»  (Программа КПСС, 1972, с. 14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. «Коллективизация была прямым геноцидом советского народа» ( профессор политологии МГУ и к.и.н. Алексей Кара-Мурз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Какое из этих мнений разделяете вы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Нижний колонтитул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Заголовок 3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51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пыт истекших лет, последних лет в особенности, подтвердил целиком и полностью правильность кооперативного плана Ленина, по которому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но через кооперацию социалистическая индустрия будет вести мелкокрестьянское хозяйство по пути к социализму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елывая индивидуальные и раздробленные производственные единицы - как через процесс обращения, так всё больше и через реорганизацию и объединение самого производства -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рупное обобществлённое хозяйство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снове новой техники (электрификации и т. д.).     В настоящий период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а объединения и преобразования мелких индивидуальных крестьянских хозяйств в  крупные коллективы должна быть поставлена в качеств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й задачи партии в деревне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             (КПСС в резолюциях... Т.4. М., 1970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Нижний колонтитул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Заголовок 3" descr=""/>
          <p:cNvPicPr/>
          <p:nvPr/>
        </p:nvPicPr>
        <p:blipFill>
          <a:blip r:embed="rId1"/>
          <a:stretch/>
        </p:blipFill>
        <p:spPr>
          <a:xfrm>
            <a:off x="365040" y="152280"/>
            <a:ext cx="832176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1197000"/>
            <a:ext cx="896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сс объединения мелких одиночных крестьянских хозяйств в крупные кооперативные социалистические хозяйства (колхозы), составная часть политики партии по социалистическому преобразованию обществ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08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коллективизация1"/>
          <p:cNvPicPr/>
          <p:nvPr/>
        </p:nvPicPr>
        <p:blipFill>
          <a:blip r:embed="rId2"/>
          <a:stretch/>
        </p:blipFill>
        <p:spPr>
          <a:xfrm>
            <a:off x="2411280" y="3860640"/>
            <a:ext cx="4321440" cy="2740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356920" y="3214440"/>
            <a:ext cx="7164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86480" y="5643360"/>
            <a:ext cx="39996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4" descr="коллективизация6"/>
          <p:cNvPicPr/>
          <p:nvPr/>
        </p:nvPicPr>
        <p:blipFill>
          <a:blip r:embed="rId2"/>
          <a:stretch/>
        </p:blipFill>
        <p:spPr>
          <a:xfrm>
            <a:off x="5003640" y="227664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C:\Documents and Settings\Admin\Мои документы\Мои рисунки\M1103CAQ4SZ8FCAZ32LXXCAJ6OT53CA326TG8CAB52ITCCAHJJ415CA3WOPALCAQF6UHZCAK9F78HCA99Y0JICAGX3ZGXCA8VN1YGCA6D3ZLTCA27G42FCAIN2H5OCAYT2F91CAG0URH6CA51Q76ICAR8DQNV.jpg"/>
          <p:cNvPicPr/>
          <p:nvPr/>
        </p:nvPicPr>
        <p:blipFill>
          <a:blip r:embed="rId3"/>
          <a:stretch/>
        </p:blipFill>
        <p:spPr>
          <a:xfrm>
            <a:off x="468360" y="2276640"/>
            <a:ext cx="3673440" cy="3863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0" y="1196640"/>
            <a:ext cx="702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лучение средств для проведения индустриализац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Централизованное управление сельским хозяйств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бобществление средств производств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ередача земли в коллективную собственность крестьян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вышение эффективности сельскохозяйственного тру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менение в сельском хозяйстве машинного тру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иквидация кулачества как класса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коллективизация8"/>
          <p:cNvPicPr/>
          <p:nvPr/>
        </p:nvPicPr>
        <p:blipFill>
          <a:blip r:embed="rId2"/>
          <a:stretch/>
        </p:blipFill>
        <p:spPr>
          <a:xfrm>
            <a:off x="6443640" y="2060640"/>
            <a:ext cx="2381400" cy="2881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улак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- кулаком считался тот, кто использовал наемный труд, кто имел 2-ух коров, или 2-ух лошадей, или хороший дом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ередняки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 - это крестьяне, которые владели до 20 десятин земли, давали 20 % товарного хлеба и не использовали наёмный труд односельча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Бедняки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- это бедные крестьяне, которые не платили налогов и нанимались на работу к более зажиточным крестьянам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Раскулачивание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 - это ликвидация в СССР хозяйств кулаков и высылка их в отдаленные малопригодные для жизни районы в середине 1930-х год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Картинка 5 из 258"/>
          <p:cNvPicPr/>
          <p:nvPr/>
        </p:nvPicPr>
        <p:blipFill>
          <a:blip r:embed="rId1"/>
          <a:stretch/>
        </p:blipFill>
        <p:spPr>
          <a:xfrm>
            <a:off x="1400040" y="1533600"/>
            <a:ext cx="6343920" cy="4552920"/>
          </a:xfrm>
          <a:prstGeom prst="rect">
            <a:avLst/>
          </a:prstGeom>
          <a:ln w="0">
            <a:noFill/>
          </a:ln>
        </p:spPr>
      </p:pic>
      <p:pic>
        <p:nvPicPr>
          <p:cNvPr id="197" name="Заголовок 1" descr=""/>
          <p:cNvPicPr/>
          <p:nvPr/>
        </p:nvPicPr>
        <p:blipFill>
          <a:blip r:embed="rId2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29:58Z</dcterms:created>
  <dc:creator>светлана</dc:creator>
  <dc:description/>
  <dc:language>en-US</dc:language>
  <cp:lastModifiedBy>Коля</cp:lastModifiedBy>
  <dcterms:modified xsi:type="dcterms:W3CDTF">2016-05-31T15:56:07Z</dcterms:modified>
  <cp:revision>55</cp:revision>
  <dc:subject/>
  <dc:title>зятикова</dc:title>
</cp:coreProperties>
</file>