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8EB-F5E7-415C-B490-E1CB1839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A9A-E59F-4A90-B15F-5A16BBB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41B-B303-4D68-919A-716A48D9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1C6-3AC6-478E-B7E7-0767A930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EAC-A879-49AE-AC62-41826397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0BAE-B4F0-4A8F-BDF7-64402386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3972-12F1-4D56-9383-AE78162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D30-EDE4-480A-B6B0-1291FB33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0A41-4C06-46C7-8832-1A83F71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D784-0AFD-4898-B930-944415D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47F0-FA33-421C-8C68-4E3D3EA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3AA-6685-4BE6-834E-584FBE82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97C-B218-4349-9721-DE0653F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BCD-8419-4D0F-B31D-CAED878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F67-B688-4E4F-AD1E-47094DE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E649-F242-412A-A46F-4A7A7BEF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420-FFDF-422C-A463-B5575539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5087-1D34-493E-BE4C-C2884360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2A73-C151-44E0-8D0F-5FCD89E5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E97A-1B5D-4C47-9898-325A513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FDBD-5CF4-4EAB-926E-F96EA38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29DA-D0D7-445A-B18C-3AD759C8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7AF-FF42-46C9-B0BC-24EB4E20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876C-16B2-45F7-BA63-9A749F5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8644-06F1-415D-A340-000CEF1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6F83-A8C6-46D1-ADF6-D252C3F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B318-4A85-4577-A28A-969B679E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9A4C-82D3-4383-B9D0-F2CEB5B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7792-4D0A-4A00-9E36-6444E3A5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1390-2B40-4C57-AB5E-F929D6D2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E6A0-2BBD-4F90-8BFD-D46202BA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1B99-477B-4A93-8988-91F48D4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A9FA-71F0-4F41-92D3-BFB0B53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83B-6CA2-4E83-8408-E1A99B5E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2DBA-E01A-4C6D-B56F-8628F1A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AE34-081B-499D-9D80-AB3B564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CABD-7F8F-41FE-B1EA-0F6C23EC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2F0A6-D59E-4D9E-B8A1-2AB239E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144E-94C6-4594-8280-5FBAF3C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87EF-063E-424B-9BC1-B00E92E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60C3-8237-42E8-93C8-A7C7C6B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49F4-51EF-4E51-9A49-A97B6D85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EE9E-033E-49A1-8246-98B24244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D5B6-0A9F-47CD-B1A0-EE21BE8F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863-53AB-4D04-BD59-9235637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FFD1-3AD5-4B58-882B-212DBB4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64FC-D206-40F0-AA2C-F8C5A2F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A5C3-F4CC-435D-9691-581B3653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C6DF-EEE8-4F46-BE6A-96ED23E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BB25-848B-4812-8DAF-486E8315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D962-3330-4BF4-ACD8-697B96C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1714-7073-4C60-976C-0D851E7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C141-79C4-44C9-A744-46270C0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908DE-B11A-4678-8FE1-A7D0F24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26BA-876B-4B65-B065-E9FA5BBD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A23-C225-41A1-A6E3-5627F69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BDA2-D165-463F-8A78-678ED115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18BF5-96F9-4721-8195-1F561A43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E9BE8-E362-4441-B4D0-77AD81A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CB69E-823D-46F6-BC72-3D5C7518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07A65-0B88-4A7A-9EF8-2FE1C987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F5914-8903-4C41-8A02-8D4A07E0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D2241-ED9D-4335-A5D2-AE2E81D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2EC97-E5E3-4776-A4C3-579837D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30975-E383-41D5-BCD1-3683695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641F6-4564-4825-BD77-29800C0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0B8-7672-492F-9639-9A509B0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D8B1D-07EF-4DC7-86A4-9CC9946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D517B-3943-4A29-9EAE-CD25FF8F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B13E6-97DD-4709-A372-59EF5EF8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A6E6-2B19-4CE3-94FA-DAF9F2D4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4019-5593-46FF-BD1C-F81C0366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661BF-41B6-4FF7-A3B7-DB45D73F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E710-F6CC-406F-9CE6-17A7515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FBFA-5736-45B0-9F47-55493ADE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7EE7-43A2-4A27-B62A-FBB80C7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C3B4-2FD8-432D-9EA9-351276E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0F9-5EB7-436F-AD17-A86A9CB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936DC-2476-4CB2-AE93-5D2E909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343F-383E-478E-849C-9C28FB4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96E06-5142-4246-A3B0-B6E7535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7070-09AE-4E97-AC9D-05C3B30C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FA57-A917-4BC0-AB0B-C198BFC5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AB5-EF64-4329-9B8C-57D88D6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BE1-F6C3-46BD-B1C2-CBC7B00E157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06B-8EDE-4F96-AEA9-750BE9EB4172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79A6-CD5B-491A-9E2A-38BE8A5D018B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50F-793B-4E64-AEB5-E47AD3D23B36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426-8B07-4DFF-84B9-5D469CB54FBE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D80-E9F3-42EF-8F5F-EF270905909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2C24-8CFD-4E82-8E19-1940368008D7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27.wmf"/><Relationship Id="rId4" Type="http://schemas.openxmlformats.org/officeDocument/2006/relationships/image" Target="../media/image3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5840" y="3428640"/>
            <a:ext cx="752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c6600"/>
                </a:solidFill>
                <a:latin typeface="Book Antiqua"/>
              </a:rPr>
              <a:t>«ПРОМЕЖУТКИ ВОЗРАСТАНИЯ И УБЫВАНИЯ ФУНКЦИИ. ТОЧКИ ЭКСТРЕМУМА»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63160" y="476280"/>
            <a:ext cx="69008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Точка 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называется </a:t>
            </a:r>
            <a:r>
              <a:rPr b="1" lang="ru-RU" sz="3600" spc="-1" strike="noStrike">
                <a:solidFill>
                  <a:srgbClr val="006600"/>
                </a:solidFill>
                <a:latin typeface="Century Gothic"/>
              </a:rPr>
              <a:t>точкой минимума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для функ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y=f(x),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если для любого х из окрестности этой точки выполняется неравенство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76360" y="5589720"/>
            <a:ext cx="4535640" cy="107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90972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600"/>
                </a:solidFill>
                <a:latin typeface="Book Antiqua"/>
              </a:rPr>
              <a:t>ЭКСТРЕМУМЫ ФУНКЦИИ</a:t>
            </a:r>
            <a:endParaRPr b="0" lang="en-US" sz="43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63520" y="1598760"/>
            <a:ext cx="7386480" cy="26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Точки максимума и минимума называются 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0" y="4149720"/>
            <a:ext cx="7885080" cy="916920"/>
          </a:xfrm>
          <a:prstGeom prst="rect">
            <a:avLst/>
          </a:prstGeom>
          <a:solidFill>
            <a:srgbClr val="cf54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очками экстрему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6b7d72"/>
                </a:solidFill>
                <a:latin typeface="Book Antiqua"/>
              </a:rPr>
              <a:t>ДАНА ФУНКЦИЯ У = F(Х).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Чтобы исследовать функцию на монотонность и экстремумы, нужно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1. Найти область определения фун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2. Найти производную данной фун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3. Найти критические точки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cd921b"/>
                </a:solidFill>
                <a:latin typeface="Century Gothic"/>
              </a:rPr>
              <a:t>Критические точки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- это точки, в которых производная функции равна нулю или не существует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.е. чтобы найти критические точки, нужно приравнять к нулю производную функции и решить полученное уравнен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286080" y="6000840"/>
            <a:ext cx="2928960" cy="63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909800" y="579600"/>
            <a:ext cx="5292720" cy="696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-360" y="428760"/>
            <a:ext cx="764388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4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Отметить критические точки на числовой прямо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5. Эти точки разбивают область определения функции на некоторые интервалы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b7d72"/>
                </a:solidFill>
                <a:latin typeface="Book Antiqua"/>
              </a:rPr>
              <a:t>ЗНАК ПРОИЗВОДНОЙ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пределить знак производной функции на каждом интервал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Для этого нужно вычислить значение производной в одной точке каждого интервал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пределить его знак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cc66"/>
                </a:solidFill>
                <a:latin typeface="Book Antiqua"/>
              </a:rPr>
              <a:t>УСЛОВИЕ:</a:t>
            </a:r>
            <a:endParaRPr b="0" lang="en-US" sz="5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6. Если производная функции на данном интервале положительная,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о функция на этом интервале возрастает,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Если производная функции на данном интервале отрицательная,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о убывает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b7d72"/>
                </a:solidFill>
                <a:latin typeface="Book Antiqua"/>
              </a:rPr>
              <a:t>МАКСИМУМ ФУНКЦИИ</a:t>
            </a:r>
            <a:endParaRPr b="0" lang="en-US" sz="43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26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80000"/>
              </a:lnSpc>
              <a:spcBef>
                <a:spcPts val="11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Если производная функции при переходе через точку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11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меняет знак с "+" на "-", 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то  - 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точка 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400" spc="-1" strike="noStrike">
                <a:solidFill>
                  <a:srgbClr val="564b3c"/>
                </a:solidFill>
                <a:latin typeface="Century Gothic"/>
              </a:rPr>
              <a:t>максимума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107964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Picture 7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108108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6b7d72"/>
                </a:solidFill>
                <a:latin typeface="Book Antiqua"/>
              </a:rPr>
              <a:t>МИНИМУМ ФУНКЦИИ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759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2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564b3c"/>
                </a:solidFill>
                <a:latin typeface="Century Gothic"/>
              </a:rPr>
              <a:t>Если производная функции при переходе через точку </a:t>
            </a:r>
            <a:endParaRPr b="0" lang="en-US" sz="4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564b3c"/>
                </a:solidFill>
                <a:latin typeface="Century Gothic"/>
              </a:rPr>
              <a:t>меняет знак  с "- '' на "+"; то  </a:t>
            </a:r>
            <a:r>
              <a:rPr b="1" lang="ru-RU" sz="41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1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100" spc="-1" strike="noStrike">
                <a:solidFill>
                  <a:srgbClr val="006600"/>
                </a:solidFill>
                <a:latin typeface="Century Gothic"/>
              </a:rPr>
              <a:t>точка минимума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96840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90972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70452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Если знак производной в точке 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не меняется, 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то в данной критической точке экстремума нет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738000" cy="9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63520" y="620280"/>
            <a:ext cx="7386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7. Найти значение функции в точках экстремума, подставив их абсциссы в данную функцию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8. Написать результат исследования функции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c66"/>
                </a:solidFill>
                <a:latin typeface="Book Antiqua"/>
              </a:rPr>
              <a:t>СОДЕРЖ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63520" y="1598760"/>
            <a:ext cx="8485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озрастающая , убывающа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фун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Монотонная функц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Точки экстремум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Исследование функции на монотонность и экстрему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дача 1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дача 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дания для самостоятельной работ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cf543f"/>
          </a:solidFill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ДАЧА 1.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772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Исследовать функцию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на монотонность и  экстремум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6781680" cy="171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РЕШЕНИЕ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Group 6" descr=""/>
          <p:cNvPicPr/>
          <p:nvPr/>
        </p:nvPicPr>
        <p:blipFill>
          <a:blip r:embed="rId1"/>
          <a:stretch/>
        </p:blipFill>
        <p:spPr>
          <a:xfrm>
            <a:off x="-103320" y="1835280"/>
            <a:ext cx="765036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345440" cy="12952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6900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6</a:t>
            </a: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Функция возрастает пр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.к. на этих интервалах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и убывает при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4851360" cy="715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664000" cy="873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3673800" cy="108900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6"/>
          <p:cNvSpPr/>
          <p:nvPr/>
        </p:nvSpPr>
        <p:spPr>
          <a:xfrm>
            <a:off x="57168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к. на этом интерв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3429000" y="5786280"/>
            <a:ext cx="2835360" cy="8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0" descr=""/>
          <p:cNvPicPr/>
          <p:nvPr/>
        </p:nvPicPr>
        <p:blipFill>
          <a:blip r:embed="rId1"/>
          <a:stretch/>
        </p:blipFill>
        <p:spPr>
          <a:xfrm>
            <a:off x="2960640" y="463680"/>
            <a:ext cx="3191040" cy="92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7" name=""/>
          <p:cNvSpPr txBox="1"/>
          <p:nvPr/>
        </p:nvSpPr>
        <p:spPr>
          <a:xfrm>
            <a:off x="263520" y="476280"/>
            <a:ext cx="73864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Т.к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при переходе через точк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-1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производная функции имеет знак с " + " на "-" т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-1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-точка максимума.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500040" y="407196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ереходе через точк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=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к производной функции меняется с "-" на " +", следов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=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точка миним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ЗНАЧЕНИЯ ФУНКЦИИ В ТОЧКАХ ЭКСТРЕМУМ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2406600" y="3475080"/>
            <a:ext cx="4330800" cy="927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ОТВЕТ: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функция возрастает при   и убывает  при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3884760" cy="573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3500280" y="2571840"/>
            <a:ext cx="2000520" cy="600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5960880" cy="1181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"/>
          <p:cNvPicPr/>
          <p:nvPr/>
        </p:nvPicPr>
        <p:blipFill>
          <a:blip r:embed="rId4"/>
          <a:stretch/>
        </p:blipFill>
        <p:spPr>
          <a:xfrm>
            <a:off x="357120" y="5072040"/>
            <a:ext cx="79074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ДАЧА 2.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3160" y="2205000"/>
            <a:ext cx="6829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Исследовать функцию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на монотонность и экстремум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672000" cy="1271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РЕШЕНИЕ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4824360" cy="4749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272360" cy="1224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045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6</a:t>
            </a: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Функция возрастает при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.к. на этих интервалах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и убывает пр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.к. на этом интервале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5688000" cy="609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"/>
          <p:cNvPicPr/>
          <p:nvPr/>
        </p:nvPicPr>
        <p:blipFill>
          <a:blip r:embed="rId3"/>
          <a:stretch/>
        </p:blipFill>
        <p:spPr>
          <a:xfrm>
            <a:off x="5076720" y="2852640"/>
            <a:ext cx="2159280" cy="70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5977080" cy="820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4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2376720" cy="73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Т.к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при переходе через точку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0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производная функции не меняет знак, то в точке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0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функция экстремума не имеет.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ри переходе через точку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1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знак производной функции меняется с "+" на " -", следовательно, </a:t>
            </a:r>
            <a:r>
              <a:rPr b="1" i="1" lang="ru-RU" sz="2400" spc="-1" strike="noStrike">
                <a:solidFill>
                  <a:srgbClr val="564b3c"/>
                </a:solidFill>
                <a:latin typeface="Century Gothic"/>
              </a:rPr>
              <a:t>х=1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- точка максимум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0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600"/>
                </a:solidFill>
                <a:latin typeface="Book Antiqua"/>
              </a:rPr>
              <a:t>ВОЗРАСТАЮЩАЯ ФУНКЦИЯ</a:t>
            </a:r>
            <a:endParaRPr b="0" lang="en-US" sz="43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81439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Функция </a:t>
            </a: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y = f(x)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называется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возрастающей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на некотором интервале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если для любых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аких, что 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выполняется неравенство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446560" cy="59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2268360" y="4005360"/>
            <a:ext cx="255600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Picture 10" descr=""/>
          <p:cNvPicPr/>
          <p:nvPr/>
        </p:nvPicPr>
        <p:blipFill>
          <a:blip r:embed="rId3"/>
          <a:stretch/>
        </p:blipFill>
        <p:spPr>
          <a:xfrm>
            <a:off x="755640" y="5084640"/>
            <a:ext cx="6264360" cy="9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3212640"/>
            <a:ext cx="74768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ТВЕТ: ФУНКЦИЯ ВОЗРАСТАЕТ ПР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   И УБЫВАЕТ ПРИ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40480" cy="1014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672000" cy="1101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"/>
          <p:cNvPicPr/>
          <p:nvPr/>
        </p:nvPicPr>
        <p:blipFill>
          <a:blip r:embed="rId3"/>
          <a:stretch/>
        </p:blipFill>
        <p:spPr>
          <a:xfrm>
            <a:off x="4284720" y="4046400"/>
            <a:ext cx="3959280" cy="1132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1" descr=""/>
          <p:cNvPicPr/>
          <p:nvPr/>
        </p:nvPicPr>
        <p:blipFill>
          <a:blip r:embed="rId4"/>
          <a:stretch/>
        </p:blipFill>
        <p:spPr>
          <a:xfrm>
            <a:off x="755640" y="5516640"/>
            <a:ext cx="460836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3"/>
          <p:cNvSpPr/>
          <p:nvPr/>
        </p:nvSpPr>
        <p:spPr>
          <a:xfrm>
            <a:off x="436680" y="317520"/>
            <a:ext cx="831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для самостоятельной работы: исследовать функ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онотонность и экстре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2703240" cy="642960"/>
          </a:xfrm>
          <a:prstGeom prst="rect">
            <a:avLst/>
          </a:prstGeom>
          <a:ln w="25560">
            <a:solidFill>
              <a:srgbClr val="e8b54d"/>
            </a:solidFill>
            <a:miter/>
          </a:ln>
        </p:spPr>
      </p:pic>
      <p:sp>
        <p:nvSpPr>
          <p:cNvPr id="437" name="Rectangle 18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9" descr=""/>
          <p:cNvPicPr/>
          <p:nvPr/>
        </p:nvPicPr>
        <p:blipFill>
          <a:blip r:embed="rId2"/>
          <a:stretch/>
        </p:blipFill>
        <p:spPr>
          <a:xfrm>
            <a:off x="642960" y="3786120"/>
            <a:ext cx="2182680" cy="571680"/>
          </a:xfrm>
          <a:prstGeom prst="rect">
            <a:avLst/>
          </a:prstGeom>
          <a:ln w="25560">
            <a:solidFill>
              <a:srgbClr val="b5ae53"/>
            </a:solidFill>
            <a:miter/>
          </a:ln>
        </p:spPr>
      </p:pic>
      <p:sp>
        <p:nvSpPr>
          <p:cNvPr id="440" name="Rectangle 21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600"/>
                </a:solidFill>
                <a:latin typeface="Book Antiqua"/>
              </a:rPr>
              <a:t>УБЫВАЮЩАЯ ФУНКЦИЯ</a:t>
            </a:r>
            <a:endParaRPr b="0" lang="en-US" sz="43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188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Функция </a:t>
            </a: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y = f(x)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называется убывающей на некотором интервале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если для любых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из этого интервала и таких, что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выполняется неравенство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3995640" y="2708280"/>
            <a:ext cx="187164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Picture 7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87164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3" name="Picture 10" descr=""/>
          <p:cNvPicPr/>
          <p:nvPr/>
        </p:nvPicPr>
        <p:blipFill>
          <a:blip r:embed="rId3"/>
          <a:stretch/>
        </p:blipFill>
        <p:spPr>
          <a:xfrm>
            <a:off x="1258920" y="5516640"/>
            <a:ext cx="4608360" cy="10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377120" cy="11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600"/>
                </a:solidFill>
                <a:latin typeface="Book Antiqua"/>
              </a:rPr>
              <a:t>МОНОТОННЫЕ ФУНКЦИИ</a:t>
            </a:r>
            <a:endParaRPr b="0" lang="en-US" sz="43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Функции, возрастающие или убывающие на некотором интервале, называются </a:t>
            </a:r>
            <a:r>
              <a:rPr b="1" i="1" lang="ru-RU" sz="4800" spc="-1" strike="noStrike">
                <a:solidFill>
                  <a:srgbClr val="006600"/>
                </a:solidFill>
                <a:latin typeface="Century Gothic"/>
              </a:rPr>
              <a:t>монотонными</a:t>
            </a:r>
            <a:r>
              <a:rPr b="1" lang="ru-RU" sz="4800" spc="-1" strike="noStrike">
                <a:solidFill>
                  <a:srgbClr val="006600"/>
                </a:solidFill>
                <a:latin typeface="Century Gothic"/>
              </a:rPr>
              <a:t>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9280" y="713880"/>
            <a:ext cx="8424720" cy="157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НА КАЖДОМ ИНТЕРВАЛЕ ФУНКЦИЯ  ЯВЛЯЕТСЯ МОНОТОННОЙ 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94844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75963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Например, функция </a:t>
            </a: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у = f (х)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изображенная на рисунке, возрастает на интервала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и убывает на интервалах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983280" cy="863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6624720" cy="69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Book Antiqua"/>
              </a:rPr>
              <a:t>МАКСИМУМЫ, МИНИМУМЫ ФУНКЦИИ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621560" cy="449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cedd1"/>
            </a:outerShdw>
          </a:effectLst>
        </p:spPr>
        <p:txBody>
          <a:bodyPr anchor="t">
            <a:normAutofit fontScale="99000"/>
          </a:bodyPr>
          <a:p>
            <a:pPr marL="270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Century Gothic"/>
              </a:rPr>
              <a:t>Точки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270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Century Gothic"/>
              </a:rPr>
              <a:t>являются точками максимума,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270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270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270000" indent="-270000">
              <a:spcBef>
                <a:spcPts val="9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Century Gothic"/>
              </a:rPr>
              <a:t>а точки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270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Century Gothic"/>
              </a:rPr>
              <a:t>точками минимума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532320" cy="91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4" name="Picture 7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168360" cy="10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63160" y="549000"/>
            <a:ext cx="69008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Точка 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называется точкой </a:t>
            </a:r>
            <a:r>
              <a:rPr b="1" lang="ru-RU" sz="4000" spc="-1" strike="noStrike">
                <a:solidFill>
                  <a:srgbClr val="006600"/>
                </a:solidFill>
                <a:latin typeface="Century Gothic"/>
              </a:rPr>
              <a:t>максимума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 для функции </a:t>
            </a:r>
            <a:r>
              <a:rPr b="1" i="1" lang="ru-RU" sz="4000" spc="-1" strike="noStrike">
                <a:solidFill>
                  <a:srgbClr val="564b3c"/>
                </a:solidFill>
                <a:latin typeface="Century Gothic"/>
              </a:rPr>
              <a:t>y=f(x)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,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если для любого х из окрестности этой точки выполняется неравенство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654280" y="189000"/>
            <a:ext cx="8524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4211640" y="4581360"/>
            <a:ext cx="424512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13:01Z</dcterms:created>
  <dc:creator>1</dc:creator>
  <dc:description/>
  <dc:language>en-US</dc:language>
  <cp:lastModifiedBy>Виталий</cp:lastModifiedBy>
  <dcterms:modified xsi:type="dcterms:W3CDTF">2020-12-09T14:41:32Z</dcterms:modified>
  <cp:revision>13</cp:revision>
  <dc:subject/>
  <dc:title>Методическое пособие по дисциплине   «Элементы    высшей     математики»</dc:title>
</cp:coreProperties>
</file>