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2.jpeg" ContentType="image/jpeg"/>
  <Override PartName="/ppt/media/image11.png" ContentType="image/png"/>
  <Override PartName="/ppt/media/image17.jpeg" ContentType="image/jpeg"/>
  <Override PartName="/ppt/media/image14.png" ContentType="image/png"/>
  <Override PartName="/ppt/media/image5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gif" ContentType="image/gif"/>
  <Override PartName="/ppt/media/image9.png" ContentType="image/png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0B3-DA1D-465B-A904-7DBC2299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855-FFB1-4293-A7ED-0EBC75D4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665-8C48-4C18-8F27-8C87F9CA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053-4A60-467A-9A46-8C06AA9F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707-4425-4852-8A5F-B8B64BC4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406-8A31-45AA-A129-AD962736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A50-8ACB-4F4D-8D24-0F4F005E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A94-2FF2-4D79-A7CF-0F65F4CF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B26-3DD8-4394-A9C4-D0A62B65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68B-EA8C-4751-8F24-1F4BE1D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DAE-1015-4655-A399-FC25FF6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946-9E4F-4DF6-B9CC-52D7347B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660D-93B0-4514-91AA-B018BD5253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2258-5F65-4C94-B5B6-A2829D5907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J0284916"/>
          <p:cNvPicPr/>
          <p:nvPr/>
        </p:nvPicPr>
        <p:blipFill>
          <a:blip r:embed="rId1"/>
          <a:stretch/>
        </p:blipFill>
        <p:spPr>
          <a:xfrm>
            <a:off x="468360" y="404640"/>
            <a:ext cx="4680000" cy="3095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43" name="Text Box 5"/>
          <p:cNvSpPr/>
          <p:nvPr/>
        </p:nvSpPr>
        <p:spPr>
          <a:xfrm>
            <a:off x="5435640" y="765000"/>
            <a:ext cx="35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Родительское          собра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4200" y="3786120"/>
            <a:ext cx="878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i="1" lang="ru-RU" sz="6600" spc="-1" strike="noStrike">
                <a:solidFill>
                  <a:srgbClr val="660066"/>
                </a:solidFill>
                <a:latin typeface="Times New Roman"/>
              </a:rPr>
              <a:t>ЗАЩИТИТЬ И УБЕРЕЧЬ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44640416_35956414_1227914174_34f9de8dbd30"/>
          <p:cNvPicPr/>
          <p:nvPr/>
        </p:nvPicPr>
        <p:blipFill>
          <a:blip r:embed="rId2"/>
          <a:stretch/>
        </p:blipFill>
        <p:spPr>
          <a:xfrm>
            <a:off x="6429240" y="1857240"/>
            <a:ext cx="2529000" cy="2283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500200" y="607212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 5 А класса – Кузнецова Н.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1E84-FE49-42C1-A248-7AB3066AB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картинки Зайчик 003"/>
          <p:cNvPicPr/>
          <p:nvPr/>
        </p:nvPicPr>
        <p:blipFill>
          <a:blip r:embed="rId1"/>
          <a:stretch/>
        </p:blipFill>
        <p:spPr>
          <a:xfrm>
            <a:off x="6732720" y="4076640"/>
            <a:ext cx="2135160" cy="2619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79" name="Text Box 5"/>
          <p:cNvSpPr/>
          <p:nvPr/>
        </p:nvSpPr>
        <p:spPr>
          <a:xfrm>
            <a:off x="0" y="189000"/>
            <a:ext cx="91440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 этом есть необходимость, пройдите вместе с ним курс психологической реабилитаци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арайтесь переключить внимание ребёнка с пережитой им ситуации на новые занятия или увлечени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 в коем случае никогда не оставляйте нерешёнными проблемы, касающиеся сохранения физического и психического здоровья вашего ребёнк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79280" y="4292640"/>
            <a:ext cx="6553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дите на компромисс со своей совестью, если это касается чужой жизни, даже если это ваш ребёнок. Спустя годы ваш компромисс может обернуться против  вас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C715-73CC-46C9-99CD-0FDFE561F7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Виды природы0008"/>
          <p:cNvPicPr/>
          <p:nvPr/>
        </p:nvPicPr>
        <p:blipFill>
          <a:blip r:embed="rId1"/>
          <a:stretch/>
        </p:blipFill>
        <p:spPr>
          <a:xfrm>
            <a:off x="2050920" y="260280"/>
            <a:ext cx="5545440" cy="3384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395280" y="37893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Наблюдайте  за  своим  ребёнком!   Прислушивайтесь к  своему  сердцу  и  родительскому  инстинкту!  Консультируйтесь  со  специалистами, если  в  чём – то  сомневаетесь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BE9B-F639-41D1-82CA-93560A2757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88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Каждый  </a:t>
            </a:r>
            <a:r>
              <a:rPr b="1" i="1" lang="ru-RU" sz="4000" spc="-1" strike="noStrike" u="sng">
                <a:solidFill>
                  <a:srgbClr val="800080"/>
                </a:solidFill>
                <a:uFillTx/>
                <a:latin typeface="Times New Roman"/>
              </a:rPr>
              <a:t>нормальный</a:t>
            </a: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  взрослый  стремится  к тому, чтобы  дети  росли  только  в  любви,  покое  и  безопасности. К глубочайшему  моему  сожалению, маленьких  детей  окружают  взрослые  </a:t>
            </a:r>
            <a:r>
              <a:rPr b="1" i="1" lang="ru-RU" sz="4000" spc="-1" strike="noStrike" u="sng">
                <a:solidFill>
                  <a:srgbClr val="800080"/>
                </a:solidFill>
                <a:uFillTx/>
                <a:latin typeface="Times New Roman"/>
              </a:rPr>
              <a:t>разные</a:t>
            </a: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, не  только желающие им  добра.  Очень  хочется  верить, что именно наши  дети  будут избавлены  от  встречи  с  такими «доброжелателями».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ADC1-BC69-4B71-AC7E-8707B84301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Виды природы0009"/>
          <p:cNvPicPr/>
          <p:nvPr/>
        </p:nvPicPr>
        <p:blipFill>
          <a:blip r:embed="rId1"/>
          <a:stretch/>
        </p:blipFill>
        <p:spPr>
          <a:xfrm>
            <a:off x="826920" y="260280"/>
            <a:ext cx="7345440" cy="3384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324000" y="371808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Мира, покоя, взаимопонимания и благополучия вам и детям!          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i1958"/>
          <p:cNvPicPr/>
          <p:nvPr/>
        </p:nvPicPr>
        <p:blipFill>
          <a:blip r:embed="rId2"/>
          <a:stretch/>
        </p:blipFill>
        <p:spPr>
          <a:xfrm>
            <a:off x="2987640" y="1413000"/>
            <a:ext cx="1276560" cy="942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4D16-FF3B-480C-961C-470B130591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Виды природы0013"/>
          <p:cNvPicPr/>
          <p:nvPr/>
        </p:nvPicPr>
        <p:blipFill>
          <a:blip r:embed="rId1"/>
          <a:stretch/>
        </p:blipFill>
        <p:spPr>
          <a:xfrm>
            <a:off x="395280" y="333360"/>
            <a:ext cx="8370720" cy="62784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92" name="Picture 5" descr="i2070"/>
          <p:cNvPicPr/>
          <p:nvPr/>
        </p:nvPicPr>
        <p:blipFill>
          <a:blip r:embed="rId2"/>
          <a:stretch/>
        </p:blipFill>
        <p:spPr>
          <a:xfrm>
            <a:off x="6227640" y="333360"/>
            <a:ext cx="2221200" cy="2146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Правила дорожного движения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упление инспектора ПД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омер слайда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32BD-8A51-4855-826F-B567163B79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366F-33F8-42B2-9435-9E205D443F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J0149407"/>
          <p:cNvPicPr/>
          <p:nvPr/>
        </p:nvPicPr>
        <p:blipFill>
          <a:blip r:embed="rId1"/>
          <a:stretch/>
        </p:blipFill>
        <p:spPr>
          <a:xfrm>
            <a:off x="324000" y="1197000"/>
            <a:ext cx="3630600" cy="43228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3995640" y="692280"/>
            <a:ext cx="5364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Чем   больше  свидетелей  у  чужого несчастья, тем  меньше  шансов  у  жертвы получить   помощь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Б. Лобейн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i1958"/>
          <p:cNvPicPr/>
          <p:nvPr/>
        </p:nvPicPr>
        <p:blipFill>
          <a:blip r:embed="rId2"/>
          <a:stretch/>
        </p:blipFill>
        <p:spPr>
          <a:xfrm>
            <a:off x="3564000" y="404640"/>
            <a:ext cx="1276200" cy="943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D545-2C32-49C4-A429-A716E325D1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0000" y="260280"/>
            <a:ext cx="446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Уважаемые  родители! В  жизни  человек  встречается  не  только  с  добром, но и со злом, приобретает не  только положительный, но и отрицательный опыт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4653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Добро  лечит  сердце, зло  ранит  тело  и  душу,  оставляя  рубцы  и шрамы  на  всю  оставшуюся  жизнь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i1784"/>
          <p:cNvPicPr/>
          <p:nvPr/>
        </p:nvPicPr>
        <p:blipFill>
          <a:blip r:embed="rId1"/>
          <a:stretch/>
        </p:blipFill>
        <p:spPr>
          <a:xfrm>
            <a:off x="7451640" y="220500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2"/>
          <a:stretch/>
        </p:blipFill>
        <p:spPr>
          <a:xfrm>
            <a:off x="158760" y="1125360"/>
            <a:ext cx="432108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 пользе и   вреде  интернет ресурсов, контактных групп в интернете 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 повышении компетентности родителей в области профилактики суицидальных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</a:rPr>
              <a:t> прояв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0A34-5E12-4B91-94BC-F07FABF564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0E81-D1AC-4E3F-BBF9-7C6F3D0996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4"/>
          <p:cNvSpPr txBox="1"/>
          <p:nvPr/>
        </p:nvSpPr>
        <p:spPr>
          <a:xfrm rot="20842200">
            <a:off x="419040" y="3431880"/>
            <a:ext cx="8501040" cy="23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rnd" w="1584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87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 для  Вас,  родители</a:t>
            </a:r>
            <a:endParaRPr b="1" lang="en-US" sz="6000" spc="1" strike="noStrike">
              <a:ln cap="rnd" w="1584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87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5" descr="картинки из энциклопедии0029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35114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64" name="Picture 6" descr="01238"/>
          <p:cNvPicPr/>
          <p:nvPr/>
        </p:nvPicPr>
        <p:blipFill>
          <a:blip r:embed="rId2"/>
          <a:stretch/>
        </p:blipFill>
        <p:spPr>
          <a:xfrm>
            <a:off x="5867280" y="5084640"/>
            <a:ext cx="2881440" cy="147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4CEB-DC51-41BC-BC59-5F8BC3256A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картинки Зайчик 008"/>
          <p:cNvPicPr/>
          <p:nvPr/>
        </p:nvPicPr>
        <p:blipFill>
          <a:blip r:embed="rId1"/>
          <a:stretch/>
        </p:blipFill>
        <p:spPr>
          <a:xfrm>
            <a:off x="6012000" y="189000"/>
            <a:ext cx="2944800" cy="3168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324000" y="0"/>
            <a:ext cx="5867280" cy="33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 ребёнка рассказывать вам вечером не только о своих достижениях, но и о тревогах, сомнениях, страхах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ждую  трудную  ситуацию не оставляйте  без  внимания, анализируйте вмест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79280" y="3357720"/>
            <a:ext cx="8964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суждайте примеры находчивости и мужества детей, сумевших выйти из трудной жизненной ситуаци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ронизируйте, если ребёнок в какой – то ситуации оказался слабым физически и морально. Помогите ему и поддержите его, укажите ему возможные пути решения проблем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C6B5-3D6E-471B-8893-01C8AD27C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картинки Зайчик 004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9280" y="836640"/>
            <a:ext cx="2197080" cy="3744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71" name="Text Box 5"/>
          <p:cNvSpPr/>
          <p:nvPr/>
        </p:nvSpPr>
        <p:spPr>
          <a:xfrm>
            <a:off x="2411280" y="692280"/>
            <a:ext cx="64803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зрослые люди из числа ваших знакомых вызывают у вас опасения в отношении вашего ребёнка, проверьте свои сомнения и не стесняйтесь разорвать с ними отношени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 ребёнка предполагать последствия своих поступков, сформируйте у него  потребность ставить вопрос типа: что будет, если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0" y="501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аш ребёнок подвергся сексуальному насилию, не ведите себя так, как будто он совершил нечто ужасное, после чего жизнь невозможн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6F0B-1336-4AAB-A706-F51D2F8608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картинки Зайчик 00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9280" y="3789360"/>
            <a:ext cx="2619360" cy="28368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75" name="Text Box 5"/>
          <p:cNvSpPr/>
          <p:nvPr/>
        </p:nvSpPr>
        <p:spPr>
          <a:xfrm>
            <a:off x="0" y="260280"/>
            <a:ext cx="9144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обсуждайте при ребёнке то, что произошло, тем более с чужими людьм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формируйте у ребёнка комплекс вины за случившеес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позволяйте другим людям выражать вашему ребёнку сочувствие и жалость. Это формирует комплекс «белой  вороны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059280" y="3789360"/>
            <a:ext cx="59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йте возможность своему ребёнку проговорить с вами самую трудную ситуацию до конца и без остатка. Это поможет ему освободиться от комплекса вины и ответственност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3-15T12:28:46Z</dcterms:modified>
  <cp:revision>15</cp:revision>
  <dc:subject/>
  <dc:title>PowerPoint Presentation</dc:title>
</cp:coreProperties>
</file>