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tif" ContentType="image/tiff"/>
  <Override PartName="/ppt/media/image23.jpeg" ContentType="image/jpeg"/>
  <Override PartName="/ppt/media/image2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53D-0B12-48BE-B70D-E867753C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511-B7BA-4B6A-835B-7D38466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F12-96B0-4C3D-94AC-629429E3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DCA-13DE-4287-B078-8FE72284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582-846A-46B2-BAD2-B0173CA2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517-AB6F-46E7-94AB-036DE563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4E7-98AF-4136-A3A7-F7C88618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3EB-8F4C-44B8-8286-CCB96F20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B24-B101-4C8A-A0FC-8B9DE7E3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0FD-E808-4F3D-8A3E-953CBE5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232-6AAF-44FA-99B0-639B4D1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D17-57E5-43D4-BB76-393ECF5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09B6-26D1-411E-BBE3-DC2203F86A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t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alibri"/>
              </a:rPr>
              <a:t>The Royal Famil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Calibri"/>
              </a:rPr>
              <a:t>Prince William married Kate Middleton, a common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Users\Gill\Desktop\GWENG00Z-2.jpg"/>
          <p:cNvPicPr/>
          <p:nvPr/>
        </p:nvPicPr>
        <p:blipFill>
          <a:blip r:embed="rId1"/>
          <a:stretch/>
        </p:blipFill>
        <p:spPr>
          <a:xfrm>
            <a:off x="3276720" y="1628640"/>
            <a:ext cx="40827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59200" y="476280"/>
            <a:ext cx="4989600" cy="46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Calibri"/>
              </a:rPr>
              <a:t>Their children are : George, Charlotte and Lou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67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856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ffffff"/>
                </a:solidFill>
                <a:latin typeface="Calibri"/>
              </a:rPr>
              <a:t>Prince Harry is a soldier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Users\Gill\Desktop\harry-afghanistan-_2331831b-2.jpg"/>
          <p:cNvPicPr/>
          <p:nvPr/>
        </p:nvPicPr>
        <p:blipFill>
          <a:blip r:embed="rId1"/>
          <a:stretch/>
        </p:blipFill>
        <p:spPr>
          <a:xfrm>
            <a:off x="1258920" y="1557360"/>
            <a:ext cx="697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Calibri"/>
              </a:rPr>
              <a:t>Prince Harry married Meghan Markle, a commoner to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29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ffffff"/>
                </a:solidFill>
                <a:latin typeface="Calibri"/>
              </a:rPr>
              <a:t>The Royal Family live in Buckingham Palac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Gill\Desktop\buckingham-1.jpg"/>
          <p:cNvPicPr/>
          <p:nvPr/>
        </p:nvPicPr>
        <p:blipFill>
          <a:blip r:embed="rId1"/>
          <a:stretch/>
        </p:blipFill>
        <p:spPr>
          <a:xfrm>
            <a:off x="755640" y="2781360"/>
            <a:ext cx="72896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Calibri"/>
              </a:rPr>
              <a:t>Buckingham Palace is in Lond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Gill\Desktop\London_Big_Ben_Phone_box-2.jpg"/>
          <p:cNvPicPr/>
          <p:nvPr/>
        </p:nvPicPr>
        <p:blipFill>
          <a:blip r:embed="rId2"/>
          <a:stretch/>
        </p:blipFill>
        <p:spPr>
          <a:xfrm>
            <a:off x="468360" y="1268280"/>
            <a:ext cx="3959280" cy="529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Gill\Desktop\article-1170764-0016281C00000258-867_468x286-1.jpg"/>
          <p:cNvPicPr/>
          <p:nvPr/>
        </p:nvPicPr>
        <p:blipFill>
          <a:blip r:embed="rId3"/>
          <a:stretch/>
        </p:blipFill>
        <p:spPr>
          <a:xfrm>
            <a:off x="4427640" y="1484280"/>
            <a:ext cx="4457520" cy="272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Gill\Desktop\images-41.jpeg"/>
          <p:cNvPicPr/>
          <p:nvPr/>
        </p:nvPicPr>
        <p:blipFill>
          <a:blip r:embed="rId4"/>
          <a:stretch/>
        </p:blipFill>
        <p:spPr>
          <a:xfrm>
            <a:off x="5397480" y="4208400"/>
            <a:ext cx="245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ffffff"/>
                </a:solidFill>
                <a:latin typeface="Calibri"/>
              </a:rPr>
              <a:t>The palace guards protect them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Gill\Desktop\Changing_the_guard_-_Buckingham_Palace_(4745275233)-1.jpg"/>
          <p:cNvPicPr/>
          <p:nvPr/>
        </p:nvPicPr>
        <p:blipFill>
          <a:blip r:embed="rId1"/>
          <a:stretch/>
        </p:blipFill>
        <p:spPr>
          <a:xfrm>
            <a:off x="468360" y="2852640"/>
            <a:ext cx="4425840" cy="29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Gill\Desktop\Change-of-the-guard--002-2.jpg"/>
          <p:cNvPicPr/>
          <p:nvPr/>
        </p:nvPicPr>
        <p:blipFill>
          <a:blip r:embed="rId2"/>
          <a:stretch/>
        </p:blipFill>
        <p:spPr>
          <a:xfrm>
            <a:off x="4284720" y="4181400"/>
            <a:ext cx="4473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ff"/>
                </a:solidFill>
                <a:latin typeface="Calibri"/>
              </a:rPr>
              <a:t>They are in the Tower of London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Gill\Desktop\Tower_of_London_White_Tower-2.jpg"/>
          <p:cNvPicPr/>
          <p:nvPr/>
        </p:nvPicPr>
        <p:blipFill>
          <a:blip r:embed="rId1"/>
          <a:stretch/>
        </p:blipFill>
        <p:spPr>
          <a:xfrm>
            <a:off x="1763640" y="2133720"/>
            <a:ext cx="5616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Gill\Desktop\1200px-Flag_of_the_United_Kingdom.svg-2.png"/>
          <p:cNvPicPr/>
          <p:nvPr/>
        </p:nvPicPr>
        <p:blipFill>
          <a:blip r:embed="rId1"/>
          <a:stretch/>
        </p:blipFill>
        <p:spPr>
          <a:xfrm>
            <a:off x="250920" y="393840"/>
            <a:ext cx="88088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6" descr=""/>
          <p:cNvPicPr/>
          <p:nvPr/>
        </p:nvPicPr>
        <p:blipFill>
          <a:blip r:embed="rId1"/>
          <a:stretch/>
        </p:blipFill>
        <p:spPr>
          <a:xfrm>
            <a:off x="4062240" y="272880"/>
            <a:ext cx="4137120" cy="5853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43000"/>
            <a:ext cx="367344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Calibri"/>
              </a:rPr>
              <a:t>This is Queen Elizabeth. She is the Queen of the United Kingdom. She is 92 years ol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138240"/>
            <a:ext cx="77770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Calibri"/>
              </a:rPr>
              <a:t>She became Queen when she was 25 years old, in 195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Gill\Desktop\_67914212_67905609-2.jpg"/>
          <p:cNvPicPr/>
          <p:nvPr/>
        </p:nvPicPr>
        <p:blipFill>
          <a:blip r:embed="rId1"/>
          <a:stretch/>
        </p:blipFill>
        <p:spPr>
          <a:xfrm>
            <a:off x="925560" y="1920960"/>
            <a:ext cx="7931160" cy="446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Gill\Desktop\images-40.jpeg"/>
          <p:cNvPicPr/>
          <p:nvPr/>
        </p:nvPicPr>
        <p:blipFill>
          <a:blip r:embed="rId2"/>
          <a:stretch/>
        </p:blipFill>
        <p:spPr>
          <a:xfrm>
            <a:off x="1187280" y="4797360"/>
            <a:ext cx="13971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138240"/>
            <a:ext cx="7777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Calibri"/>
              </a:rPr>
              <a:t>Where have you seen her fa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Gill\Desktop\The-Queen-7-5.jpg"/>
          <p:cNvPicPr/>
          <p:nvPr/>
        </p:nvPicPr>
        <p:blipFill>
          <a:blip r:embed="rId1"/>
          <a:stretch/>
        </p:blipFill>
        <p:spPr>
          <a:xfrm>
            <a:off x="2411280" y="1557360"/>
            <a:ext cx="38163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Gill\Desktop\1_84-2.jpg"/>
          <p:cNvPicPr/>
          <p:nvPr/>
        </p:nvPicPr>
        <p:blipFill>
          <a:blip r:embed="rId1"/>
          <a:stretch/>
        </p:blipFill>
        <p:spPr>
          <a:xfrm>
            <a:off x="324000" y="404640"/>
            <a:ext cx="4713120" cy="237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Gill\Desktop\1st_red_single-1.jpg"/>
          <p:cNvPicPr/>
          <p:nvPr/>
        </p:nvPicPr>
        <p:blipFill>
          <a:blip r:embed="rId2"/>
          <a:stretch/>
        </p:blipFill>
        <p:spPr>
          <a:xfrm>
            <a:off x="5219640" y="1700280"/>
            <a:ext cx="3733920" cy="427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Gill\Desktop\npg_queen_elizabeth_ii_by_dorothy_wilding_hand_coloured-773x1024-2.jpg"/>
          <p:cNvPicPr/>
          <p:nvPr/>
        </p:nvPicPr>
        <p:blipFill>
          <a:blip r:embed="rId3"/>
          <a:stretch/>
        </p:blipFill>
        <p:spPr>
          <a:xfrm>
            <a:off x="1187280" y="2924280"/>
            <a:ext cx="28083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8240"/>
            <a:ext cx="7777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Calibri"/>
              </a:rPr>
              <a:t>The Queen has a husband called Prince Phillip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Gill\Desktop\royal-wedding-dresses-queen-elizabeth-edinburgh-philip_35165_600x450-1.jpg"/>
          <p:cNvPicPr/>
          <p:nvPr/>
        </p:nvPicPr>
        <p:blipFill>
          <a:blip r:embed="rId1"/>
          <a:stretch/>
        </p:blipFill>
        <p:spPr>
          <a:xfrm>
            <a:off x="324000" y="1916280"/>
            <a:ext cx="2952720" cy="23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Gill\Desktop\11_6_2011_2123958i-2.jpg"/>
          <p:cNvPicPr/>
          <p:nvPr/>
        </p:nvPicPr>
        <p:blipFill>
          <a:blip r:embed="rId2"/>
          <a:stretch/>
        </p:blipFill>
        <p:spPr>
          <a:xfrm>
            <a:off x="2987640" y="2387520"/>
            <a:ext cx="5905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"/>
          <p:cNvPicPr/>
          <p:nvPr/>
        </p:nvPicPr>
        <p:blipFill>
          <a:blip r:embed="rId1"/>
          <a:stretch/>
        </p:blipFill>
        <p:spPr>
          <a:xfrm>
            <a:off x="3951360" y="272880"/>
            <a:ext cx="4359240" cy="585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345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ffffff"/>
                </a:solidFill>
                <a:latin typeface="Calibri"/>
              </a:rPr>
              <a:t>They have a son called Prince Charl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345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ffffff"/>
                </a:solidFill>
                <a:latin typeface="Calibri"/>
              </a:rPr>
              <a:t>Prince Charles married Princess Diana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Gill\Desktop\diana_familypicyoung-2.jpg"/>
          <p:cNvPicPr/>
          <p:nvPr/>
        </p:nvPicPr>
        <p:blipFill>
          <a:blip r:embed="rId1"/>
          <a:stretch/>
        </p:blipFill>
        <p:spPr>
          <a:xfrm>
            <a:off x="3851280" y="549360"/>
            <a:ext cx="468792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9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2594160" cy="380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ffffff"/>
                </a:solidFill>
                <a:latin typeface="Calibri"/>
              </a:rPr>
              <a:t>Their sons are Prince William and Prince Harr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Gill\Desktop\PrinceHarry_Tat_27Feb12_getty_b-2.jpg"/>
          <p:cNvPicPr/>
          <p:nvPr/>
        </p:nvPicPr>
        <p:blipFill>
          <a:blip r:embed="rId2"/>
          <a:stretch/>
        </p:blipFill>
        <p:spPr>
          <a:xfrm>
            <a:off x="4400640" y="3068640"/>
            <a:ext cx="27637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50:25Z</dcterms:created>
  <dc:creator>Lucy James</dc:creator>
  <dc:description/>
  <dc:language>en-US</dc:language>
  <cp:lastModifiedBy>Gulnara</cp:lastModifiedBy>
  <dcterms:modified xsi:type="dcterms:W3CDTF">2021-10-29T13:11:00Z</dcterms:modified>
  <cp:revision>12</cp:revision>
  <dc:subject/>
  <dc:title>The Royal Wedding</dc:title>
</cp:coreProperties>
</file>