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wmf" ContentType="image/x-wmf"/>
  <Override PartName="/ppt/media/image9.png" ContentType="image/png"/>
  <Override PartName="/ppt/media/image10.png" ContentType="image/png"/>
  <Override PartName="/ppt/media/image13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3D281-338F-4998-B5D1-E9E0C894365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CA0A4-9B16-4CEA-8165-132DCC55207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5F56B-0B3E-4F51-B4F2-47887C878F5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8D3AD-B7D7-4210-AC2C-8ECFF57D035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E7BA9-6DED-4975-8046-EBF497F5A09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EC4C9-F8B7-414F-BB37-8975B381A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C6262-18DC-466B-A02A-BBB82DE4C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ACA21-5191-451A-977D-6E0B821E0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97D26-F578-4EBF-BDCE-3DC9508B4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12027-6143-4213-8732-70ECE7112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A8115-327D-4D36-A495-D5CA5D3A5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75E67-EBBE-4ABB-90E1-3F04842AF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C3D53-D05B-48D0-95FE-F06E8C9FC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1B507-C145-4D5A-8E2D-FAC07F3EF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26190-A967-46E3-9BA2-98568FC0D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143DD-BBC0-4ABB-868B-1C5586BC9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5060C-9566-4733-9EF0-5E3074169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8B6AB-CFDB-49B0-8012-52BBA3EDBAF6}" type="datetime">
              <a:rPr b="0" lang="ru-RU" sz="1200" spc="-1" strike="noStrike">
                <a:solidFill>
                  <a:srgbClr val="898989"/>
                </a:solidFill>
                <a:latin typeface="Aria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B27FB-A728-48F2-8F79-1C5565521118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6"/>
          <p:cNvSpPr/>
          <p:nvPr/>
        </p:nvSpPr>
        <p:spPr>
          <a:xfrm>
            <a:off x="-7200" y="360"/>
            <a:ext cx="1739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9"/>
          <p:cNvSpPr/>
          <p:nvPr/>
        </p:nvSpPr>
        <p:spPr>
          <a:xfrm>
            <a:off x="395280" y="474840"/>
            <a:ext cx="874872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спользование методов математической  статистики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ля прогнозирования демографической ситуации города Славгоро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Рисунок 6" descr="https://avatars.mds.yandex.net/get-zen_doc/1708203/pub_5e05c50c2beb4900af3ba89d_5e05c6eb3d5f6900b05e56f1/scale_1200"/>
          <p:cNvPicPr/>
          <p:nvPr/>
        </p:nvPicPr>
        <p:blipFill>
          <a:blip r:embed="rId1"/>
          <a:stretch/>
        </p:blipFill>
        <p:spPr>
          <a:xfrm>
            <a:off x="2124000" y="4076640"/>
            <a:ext cx="2963880" cy="25192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Прямоугольник 6"/>
          <p:cNvSpPr/>
          <p:nvPr/>
        </p:nvSpPr>
        <p:spPr>
          <a:xfrm>
            <a:off x="4932360" y="4076640"/>
            <a:ext cx="4211640" cy="21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ил: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драшов Макси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щийся 11 А класс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БОУ «Лицей № 17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ководитель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вграшина Наталья Василье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85840" y="0"/>
            <a:ext cx="840096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оотношение рождаемости и смертнос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Rectangle 7"/>
          <p:cNvSpPr/>
          <p:nvPr/>
        </p:nvSpPr>
        <p:spPr>
          <a:xfrm>
            <a:off x="0" y="71640"/>
            <a:ext cx="3643200" cy="465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51055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1055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1055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1055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1055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1055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1055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1055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1055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1055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1055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1055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1055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1055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1055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1055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1055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1055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1055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1055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1055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1055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1055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1055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1055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14"/>
          <p:cNvSpPr/>
          <p:nvPr/>
        </p:nvSpPr>
        <p:spPr>
          <a:xfrm>
            <a:off x="5651640" y="3284640"/>
            <a:ext cx="3492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стественный прирос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15"/>
          <p:cNvSpPr/>
          <p:nvPr/>
        </p:nvSpPr>
        <p:spPr>
          <a:xfrm>
            <a:off x="214200" y="4714920"/>
            <a:ext cx="4572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вод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2016 года  прослеживается спад населения города. Самый высокий показатель общего коэффициента убыли    населения пришелся на 2020 год и составил: 6,7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‰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милле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Диаграмма 10" descr=""/>
          <p:cNvPicPr/>
          <p:nvPr/>
        </p:nvPicPr>
        <p:blipFill>
          <a:blip r:embed="rId1"/>
          <a:stretch/>
        </p:blipFill>
        <p:spPr>
          <a:xfrm>
            <a:off x="417600" y="569880"/>
            <a:ext cx="5645160" cy="3054240"/>
          </a:xfrm>
          <a:prstGeom prst="rect">
            <a:avLst/>
          </a:prstGeom>
          <a:ln w="0">
            <a:noFill/>
          </a:ln>
        </p:spPr>
      </p:pic>
      <p:pic>
        <p:nvPicPr>
          <p:cNvPr id="118" name="Диаграмма 11" descr=""/>
          <p:cNvPicPr/>
          <p:nvPr/>
        </p:nvPicPr>
        <p:blipFill>
          <a:blip r:embed="rId2"/>
          <a:stretch/>
        </p:blipFill>
        <p:spPr>
          <a:xfrm>
            <a:off x="5149800" y="3738600"/>
            <a:ext cx="4044960" cy="29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0" y="3573360"/>
            <a:ext cx="4572000" cy="264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вод: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эффициент жизненности  на протяжении исследуемых лет остается очень низким: 98%, 83%, 70% ,64%, 57% и ежегодно понижается, что говорит о вымирании населения нашего город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Прямоугольник 5"/>
          <p:cNvSpPr/>
          <p:nvPr/>
        </p:nvSpPr>
        <p:spPr>
          <a:xfrm>
            <a:off x="2286000" y="0"/>
            <a:ext cx="592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оэффициент жизненност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428760" y="785880"/>
          <a:ext cx="7358040" cy="2732040"/>
        </p:xfrm>
        <a:graphic>
          <a:graphicData uri="http://schemas.openxmlformats.org/drawingml/2006/table">
            <a:tbl>
              <a:tblPr/>
              <a:tblGrid>
                <a:gridCol w="541080"/>
                <a:gridCol w="1363680"/>
                <a:gridCol w="1401840"/>
                <a:gridCol w="1671840"/>
                <a:gridCol w="2379600"/>
              </a:tblGrid>
              <a:tr h="1071360">
                <a:tc>
                  <a:txBody>
                    <a:bodyPr lIns="7308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д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308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егодовая численность насел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3080" rIns="730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щий коэффициент смертности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милл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 marR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730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щий коэффициент рождаемости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милл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20" marR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3080" rIns="730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эффициент жизнен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 marR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7308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308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6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3080" rIns="730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 marR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730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20" marR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3080" rIns="730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 marR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7308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308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4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3080" rIns="730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 marR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730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20" marR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3080" rIns="730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 marR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560">
                <a:tc>
                  <a:txBody>
                    <a:bodyPr lIns="7308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308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0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3080" rIns="730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 marR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730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20" marR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3080" rIns="730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 marR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7308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308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4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3080" rIns="730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 marR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730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20" marR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3080" rIns="730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 marR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360">
                <a:tc>
                  <a:txBody>
                    <a:bodyPr lIns="7308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308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0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3080" rIns="730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 marR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730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20" marR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3080" rIns="730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 marR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2" name="Диаграмма 8" descr=""/>
          <p:cNvPicPr/>
          <p:nvPr/>
        </p:nvPicPr>
        <p:blipFill>
          <a:blip r:embed="rId1"/>
          <a:stretch/>
        </p:blipFill>
        <p:spPr>
          <a:xfrm>
            <a:off x="4592520" y="3594240"/>
            <a:ext cx="4602240" cy="33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107640" y="2657520"/>
            <a:ext cx="8875800" cy="29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ение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спективную численность определим по формуле:  P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P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(1+К),гд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перспективная численность населения, через t лет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– исходная численность населения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общ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– коэффициент общего прироста населени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=39442 (1 - 4,2 : 1000)^5 = 38621 человек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вод: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ерспективная  численность  населения города Славгорода через 5 лет составит 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38620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ловек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Прямоугольник 2"/>
          <p:cNvSpPr/>
          <p:nvPr/>
        </p:nvSpPr>
        <p:spPr>
          <a:xfrm>
            <a:off x="108000" y="115920"/>
            <a:ext cx="135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дача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Прямоугольник 4"/>
          <p:cNvSpPr/>
          <p:nvPr/>
        </p:nvSpPr>
        <p:spPr>
          <a:xfrm>
            <a:off x="133200" y="577800"/>
            <a:ext cx="8875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енность населения г. Славгорода  на 01.01.2019 г. составила 39442 чел., коэффициент естественного прироста: -4,2 ‰. Определить вероятную численность населения г. Славгорода через 5 лет, если  коэффициент естественного прироста сохранится на уровне 2018 г., а миграция отсутству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220680" y="3263400"/>
            <a:ext cx="8832960" cy="184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ение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Определим степень диспропорциональности          С=(N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Ж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N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М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*100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2017год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=1217 человек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2018 год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= 1219 человек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2019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=1220 человек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1995480" y="1765440"/>
          <a:ext cx="4737240" cy="1520640"/>
        </p:xfrm>
        <a:graphic>
          <a:graphicData uri="http://schemas.openxmlformats.org/drawingml/2006/table">
            <a:tbl>
              <a:tblPr/>
              <a:tblGrid>
                <a:gridCol w="1187280"/>
                <a:gridCol w="1182960"/>
                <a:gridCol w="1184040"/>
                <a:gridCol w="1182960"/>
              </a:tblGrid>
              <a:tr h="506880">
                <a:tc>
                  <a:txBody>
                    <a:bodyPr lIns="47520" rIns="47520" tIns="47520" bIns="4752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6880">
                <a:tc>
                  <a:txBody>
                    <a:bodyPr lIns="47520" rIns="47520" tIns="47520" bIns="4752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жчин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04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7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6880">
                <a:tc>
                  <a:txBody>
                    <a:bodyPr lIns="47520" rIns="47520" tIns="47520" bIns="4752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енщин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2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0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67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8" name="Прямоугольник 2"/>
          <p:cNvSpPr/>
          <p:nvPr/>
        </p:nvSpPr>
        <p:spPr>
          <a:xfrm>
            <a:off x="176040" y="565200"/>
            <a:ext cx="8832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еются следующие данные о гендерной структуре населения г. Славгорода за 2017-2019 годы. Определить степень диспропорциональности гендерной структуры насел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Прямоугольник 5"/>
          <p:cNvSpPr/>
          <p:nvPr/>
        </p:nvSpPr>
        <p:spPr>
          <a:xfrm>
            <a:off x="180000" y="122400"/>
            <a:ext cx="143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дача 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Прямоугольник 6"/>
          <p:cNvSpPr/>
          <p:nvPr/>
        </p:nvSpPr>
        <p:spPr>
          <a:xfrm>
            <a:off x="220680" y="5013360"/>
            <a:ext cx="878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вод: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тепень диспропорциональности с каждым годом растет в пользу женщин. Женское население преобладает над мужским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220320" y="1125000"/>
            <a:ext cx="8472600" cy="35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ение: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орядоченный ряд: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442; 40048; 40438; 4064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241200" y="1611360"/>
          <a:ext cx="4357800" cy="4924440"/>
        </p:xfrm>
        <a:graphic>
          <a:graphicData uri="http://schemas.openxmlformats.org/drawingml/2006/table">
            <a:tbl>
              <a:tblPr/>
              <a:tblGrid>
                <a:gridCol w="2930760"/>
                <a:gridCol w="1427040"/>
              </a:tblGrid>
              <a:tr h="640440">
                <a:tc>
                  <a:txBody>
                    <a:bodyPr lIns="68760" rIns="68760" tIns="936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тистические показател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936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личин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560">
                <a:tc>
                  <a:txBody>
                    <a:bodyPr lIns="68760" rIns="68760" tIns="936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мах ря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936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080">
                <a:tc>
                  <a:txBody>
                    <a:bodyPr lIns="68760" rIns="68760" tIns="936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д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936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080">
                <a:tc>
                  <a:txBody>
                    <a:bodyPr lIns="68760" rIns="68760" tIns="936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а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936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2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080">
                <a:tc>
                  <a:txBody>
                    <a:bodyPr lIns="68760" rIns="68760" tIns="936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ее арифметическ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936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1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080">
                <a:tc>
                  <a:txBody>
                    <a:bodyPr lIns="68760" rIns="68760" tIns="936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роятность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936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080">
                <a:tc>
                  <a:txBody>
                    <a:bodyPr lIns="68760" rIns="68760" tIns="936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тематическое ожидание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936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142,8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8640">
                <a:tc>
                  <a:txBody>
                    <a:bodyPr lIns="68760" rIns="68760" tIns="936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сперси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936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9362,7 </a:t>
                      </a: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68760" rIns="68760" tIns="936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ее линейное отклонени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936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7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68760" rIns="68760" tIns="936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ее квадратическое. отклонени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936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080">
                <a:tc>
                  <a:txBody>
                    <a:bodyPr lIns="68760" rIns="68760" tIns="936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эффициент вариации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936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1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3" name="TextBox 6"/>
          <p:cNvSpPr/>
          <p:nvPr/>
        </p:nvSpPr>
        <p:spPr>
          <a:xfrm>
            <a:off x="4713120" y="1533600"/>
            <a:ext cx="42865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вод: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личия всех единиц исследуемой совокупности -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8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оворит о том, что каждое значение ряда отличается от другого в среднем на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8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  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ждое значение ряда отличается от среднего значения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143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среднем на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7,6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Вероятность появления каждого события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25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Мера рассеивания, т.е. отклонения от среднего значения ряда равна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9362,7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. Коэффициент вариации - мера относительного разброса значений совокупности: показывает, какую долю среднего значения этой величины составляет ее средний разброс и он равен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,14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Поскольку коэффициент вариации меньше 30%, то совокупность однородна,  а вариация слабая. Полученным результатам можно доверять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2"/>
          <p:cNvSpPr/>
          <p:nvPr/>
        </p:nvSpPr>
        <p:spPr>
          <a:xfrm>
            <a:off x="199080" y="115920"/>
            <a:ext cx="143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дача 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Прямоугольник 3"/>
          <p:cNvSpPr/>
          <p:nvPr/>
        </p:nvSpPr>
        <p:spPr>
          <a:xfrm>
            <a:off x="198360" y="560520"/>
            <a:ext cx="880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данным численности населения города Славгорода за 2016-2019  год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442; 40643; 40048; 40438 рассчитать основные статистические показател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343320" y="0"/>
            <a:ext cx="245736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ключе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Прямоугольник 7"/>
          <p:cNvSpPr/>
          <p:nvPr/>
        </p:nvSpPr>
        <p:spPr>
          <a:xfrm>
            <a:off x="264960" y="1029960"/>
            <a:ext cx="8541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дя исследование, мною были показаны и раскрыты демографические процессы, протекающие на территории города Славгорода, сделан прогностический анализ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ультатом моей работы стал буклет «Статистика населения г. Славгорода», который познакомит моих одноклассников, их родителей с основными формулами и расчетами статистических показателей, их анализом, заинтересует администрацию город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2"/>
          <p:cNvSpPr/>
          <p:nvPr/>
        </p:nvSpPr>
        <p:spPr>
          <a:xfrm>
            <a:off x="168120" y="1701720"/>
            <a:ext cx="8840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Цель работы: 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тистический расчет общих и специальных демографических показателей и коэффициентов, их анализ и прогноз демографической ситуации г. Славгорода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3"/>
          <p:cNvSpPr/>
          <p:nvPr/>
        </p:nvSpPr>
        <p:spPr>
          <a:xfrm>
            <a:off x="135000" y="223920"/>
            <a:ext cx="887400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ктуальность:</a:t>
            </a:r>
            <a:r>
              <a:rPr b="0" lang="ru-RU" sz="27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жегодное снижение числа жителей, падение рождаемости вызывает демографический спад, который отражается на развитии города в целом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4"/>
          <p:cNvSpPr/>
          <p:nvPr/>
        </p:nvSpPr>
        <p:spPr>
          <a:xfrm>
            <a:off x="141120" y="3633840"/>
            <a:ext cx="8867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етоды исследования: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бор и обработка статистических данных, систематизация, анализ и синтез материа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5"/>
          <p:cNvSpPr/>
          <p:nvPr/>
        </p:nvSpPr>
        <p:spPr>
          <a:xfrm>
            <a:off x="168120" y="5157720"/>
            <a:ext cx="884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едмет исследования: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енность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еления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. Славгорода за 2016 – 2020 г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Прямоугольник 2"/>
          <p:cNvSpPr/>
          <p:nvPr/>
        </p:nvSpPr>
        <p:spPr>
          <a:xfrm>
            <a:off x="268200" y="404640"/>
            <a:ext cx="8740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етоды обработки информации: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тистический анализ полученных данны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оугольник 4"/>
          <p:cNvSpPr/>
          <p:nvPr/>
        </p:nvSpPr>
        <p:spPr>
          <a:xfrm>
            <a:off x="268200" y="1484280"/>
            <a:ext cx="8740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овизна работы: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ой анализ раннее не проводился, создание буклета о статистике населения г. Славгород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ик 5"/>
          <p:cNvSpPr/>
          <p:nvPr/>
        </p:nvSpPr>
        <p:spPr>
          <a:xfrm>
            <a:off x="268200" y="2637000"/>
            <a:ext cx="8740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еоретическая значимость: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ет быть использована для расширения кругозора учащихся школы и жителей города, в работе администрации города  для планирования  дальнейшей деятель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6"/>
          <p:cNvSpPr/>
          <p:nvPr/>
        </p:nvSpPr>
        <p:spPr>
          <a:xfrm>
            <a:off x="268200" y="4651200"/>
            <a:ext cx="8740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актическая значимость: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риал исследовательской работы может быть использован на других уроках для прогностического анализ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600280" y="90000"/>
            <a:ext cx="4275360" cy="31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Численность населе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Box 5"/>
          <p:cNvSpPr/>
          <p:nvPr/>
        </p:nvSpPr>
        <p:spPr>
          <a:xfrm>
            <a:off x="4738680" y="2003400"/>
            <a:ext cx="4572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счёт показателей динамик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130320" y="2967120"/>
          <a:ext cx="8551800" cy="3779640"/>
        </p:xfrm>
        <a:graphic>
          <a:graphicData uri="http://schemas.openxmlformats.org/drawingml/2006/table">
            <a:tbl>
              <a:tblPr/>
              <a:tblGrid>
                <a:gridCol w="987120"/>
                <a:gridCol w="986040"/>
                <a:gridCol w="877680"/>
                <a:gridCol w="876600"/>
                <a:gridCol w="868320"/>
                <a:gridCol w="1216080"/>
                <a:gridCol w="922320"/>
                <a:gridCol w="933480"/>
                <a:gridCol w="884160"/>
              </a:tblGrid>
              <a:tr h="1218600">
                <a:tc rowSpan="2">
                  <a:txBody>
                    <a:bodyPr lIns="76320" rIns="76320" tIns="76320" bIns="763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5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и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76320" rIns="76320" tIns="76320" bIns="76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5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сел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76320" rIns="76320" tIns="76320" bIns="763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5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бсолютный прирос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76320" rIns="76320" tIns="76320" bIns="763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5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мп рос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Aft>
                          <a:spcPts val="15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76320" rIns="76320" tIns="76320" bIns="763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5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мп прирос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Aft>
                          <a:spcPts val="15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6320" rIns="76320" tIns="76320" bIns="763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5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бсолютное содержание 1% прирос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79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6320" rIns="76320" tIns="76320" bIns="763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5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пно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6320" rIns="76320" tIns="76320" bIns="763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5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зисн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6320" rIns="76320" tIns="76320" bIns="763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5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пно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6320" rIns="76320" tIns="76320" bIns="763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5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зисн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6320" rIns="76320" tIns="76320" bIns="763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5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пно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6320" rIns="76320" tIns="76320" bIns="763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5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зисн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6360">
                <a:tc>
                  <a:txBody>
                    <a:bodyPr lIns="76320" rIns="76320" tIns="76320" bIns="763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6320" rIns="76320" tIns="76320" bIns="763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64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6320" rIns="76320" tIns="76320" bIns="763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6320" rIns="76320" tIns="76320" bIns="763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6320" rIns="76320" tIns="76320" bIns="763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6320" rIns="76320" tIns="76320" bIns="763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6320" rIns="76320" tIns="76320" bIns="763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6320" rIns="76320" tIns="76320" bIns="763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6320" rIns="76320" tIns="76320" bIns="763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6360">
                <a:tc>
                  <a:txBody>
                    <a:bodyPr lIns="76320" rIns="76320" tIns="76320" bIns="763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6320" rIns="76320" tIns="76320" bIns="763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4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6320" rIns="76320" tIns="76320" bIns="763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6320" rIns="76320" tIns="76320" bIns="763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6320" rIns="76320" tIns="76320" bIns="763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9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6320" rIns="76320" tIns="76320" bIns="763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9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6320" rIns="76320" tIns="76320" bIns="763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6320" rIns="76320" tIns="76320" bIns="763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6320" rIns="76320" tIns="76320" bIns="763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6,4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6360">
                <a:tc>
                  <a:txBody>
                    <a:bodyPr lIns="76320" rIns="76320" tIns="76320" bIns="763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6320" rIns="76320" tIns="76320" bIns="763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04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6320" rIns="76320" tIns="76320" bIns="763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3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6320" rIns="76320" tIns="76320" bIns="763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59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6320" rIns="76320" tIns="76320" bIns="763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9,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6320" rIns="76320" tIns="76320" bIns="763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8,5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6320" rIns="76320" tIns="76320" bIns="763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,9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6320" rIns="76320" tIns="76320" bIns="763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,4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6320" rIns="76320" tIns="76320" bIns="763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4,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6360">
                <a:tc>
                  <a:txBody>
                    <a:bodyPr lIns="76320" rIns="76320" tIns="76320" bIns="763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6320" rIns="76320" tIns="76320" bIns="763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44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6320" rIns="76320" tIns="76320" bIns="763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6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6320" rIns="76320" tIns="76320" bIns="763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2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6320" rIns="76320" tIns="76320" bIns="763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8,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6320" rIns="76320" tIns="76320" bIns="763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7,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6320" rIns="76320" tIns="76320" bIns="763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,5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6320" rIns="76320" tIns="76320" bIns="763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,9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6320" rIns="76320" tIns="76320" bIns="763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0,4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6360">
                <a:tc>
                  <a:txBody>
                    <a:bodyPr lIns="76320" rIns="76320" tIns="76320" bIns="763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6320" rIns="76320" tIns="76320" bIns="763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0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6320" rIns="76320" tIns="76320" bIns="763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4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6320" rIns="76320" tIns="76320" bIns="763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0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6320" rIns="76320" tIns="76320" bIns="763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6320" rIns="76320" tIns="76320" bIns="763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6320" rIns="76320" tIns="76320" bIns="763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,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6320" rIns="76320" tIns="76320" bIns="763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,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6320" rIns="76320" tIns="76320" bIns="763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4,4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65" name="Rectangle 83" descr=""/>
          <p:cNvPicPr/>
          <p:nvPr/>
        </p:nvPicPr>
        <p:blipFill>
          <a:blip r:embed="rId1"/>
          <a:stretch/>
        </p:blipFill>
        <p:spPr>
          <a:xfrm>
            <a:off x="5291280" y="1036800"/>
            <a:ext cx="3859200" cy="590400"/>
          </a:xfrm>
          <a:prstGeom prst="rect">
            <a:avLst/>
          </a:prstGeom>
          <a:ln w="0">
            <a:noFill/>
          </a:ln>
        </p:spPr>
      </p:pic>
      <p:pic>
        <p:nvPicPr>
          <p:cNvPr id="66" name="Рисунок 5" descr=""/>
          <p:cNvPicPr/>
          <p:nvPr/>
        </p:nvPicPr>
        <p:blipFill>
          <a:blip r:embed="rId2"/>
          <a:srcRect l="2392" t="0" r="1134" b="5289"/>
          <a:stretch/>
        </p:blipFill>
        <p:spPr>
          <a:xfrm>
            <a:off x="108000" y="333360"/>
            <a:ext cx="5327640" cy="2597040"/>
          </a:xfrm>
          <a:prstGeom prst="rect">
            <a:avLst/>
          </a:prstGeom>
          <a:ln w="0">
            <a:noFill/>
          </a:ln>
        </p:spPr>
      </p:pic>
      <p:pic>
        <p:nvPicPr>
          <p:cNvPr id="67" name="Rectangle 83" descr=""/>
          <p:cNvPicPr/>
          <p:nvPr/>
        </p:nvPicPr>
        <p:blipFill>
          <a:blip r:embed="rId3"/>
          <a:stretch/>
        </p:blipFill>
        <p:spPr>
          <a:xfrm>
            <a:off x="5291280" y="384120"/>
            <a:ext cx="3724200" cy="66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Рисунок 3" descr=""/>
          <p:cNvPicPr/>
          <p:nvPr/>
        </p:nvPicPr>
        <p:blipFill>
          <a:blip r:embed="rId1"/>
          <a:srcRect l="-1573" t="-1194" r="1584" b="2003"/>
          <a:stretch/>
        </p:blipFill>
        <p:spPr>
          <a:xfrm>
            <a:off x="6702480" y="3911760"/>
            <a:ext cx="1757160" cy="2444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9" name="Диаграмма 13"/>
          <p:cNvGraphicFramePr/>
          <p:nvPr/>
        </p:nvGraphicFramePr>
        <p:xfrm>
          <a:off x="2665440" y="3916440"/>
          <a:ext cx="3803760" cy="2620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70" name="Диаграмма 1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665440" y="3916440"/>
                    <a:ext cx="3803760" cy="262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49360" y="104760"/>
            <a:ext cx="624528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Гендерная структура населе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TextBox 6"/>
          <p:cNvSpPr/>
          <p:nvPr/>
        </p:nvSpPr>
        <p:spPr>
          <a:xfrm>
            <a:off x="1386000" y="3317760"/>
            <a:ext cx="6362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оотношение мужчин и женщи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1103400" y="639720"/>
          <a:ext cx="6645240" cy="2643120"/>
        </p:xfrm>
        <a:graphic>
          <a:graphicData uri="http://schemas.openxmlformats.org/drawingml/2006/table">
            <a:tbl>
              <a:tblPr/>
              <a:tblGrid>
                <a:gridCol w="1662120"/>
                <a:gridCol w="1660320"/>
                <a:gridCol w="1662120"/>
                <a:gridCol w="1660680"/>
              </a:tblGrid>
              <a:tr h="10987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егодовая численность насел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человек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жчин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человек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енщин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человек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6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2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6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35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2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8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20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4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2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6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20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0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04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0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8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20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4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7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67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6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20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0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5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428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4" name="Рисунок 2" descr=""/>
          <p:cNvPicPr/>
          <p:nvPr/>
        </p:nvPicPr>
        <p:blipFill>
          <a:blip r:embed="rId4"/>
          <a:stretch/>
        </p:blipFill>
        <p:spPr>
          <a:xfrm>
            <a:off x="1042920" y="3989520"/>
            <a:ext cx="935280" cy="23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Oval 1"/>
          <p:cNvSpPr/>
          <p:nvPr/>
        </p:nvSpPr>
        <p:spPr>
          <a:xfrm>
            <a:off x="1763640" y="2205000"/>
            <a:ext cx="933480" cy="942840"/>
          </a:xfrm>
          <a:prstGeom prst="ellipse">
            <a:avLst/>
          </a:prstGeom>
          <a:solidFill>
            <a:srgbClr val="4f81bd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243f6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-19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val 2"/>
          <p:cNvSpPr/>
          <p:nvPr/>
        </p:nvSpPr>
        <p:spPr>
          <a:xfrm>
            <a:off x="3203640" y="2997360"/>
            <a:ext cx="1193760" cy="1137960"/>
          </a:xfrm>
          <a:prstGeom prst="ellipse">
            <a:avLst/>
          </a:prstGeom>
          <a:gradFill rotWithShape="0">
            <a:gsLst>
              <a:gs pos="0">
                <a:srgbClr val="00b050"/>
              </a:gs>
              <a:gs pos="100000">
                <a:srgbClr val="005125"/>
              </a:gs>
            </a:gsLst>
            <a:lin ang="5400000"/>
          </a:gradFill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-3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Oval 3"/>
          <p:cNvSpPr/>
          <p:nvPr/>
        </p:nvSpPr>
        <p:spPr>
          <a:xfrm flipH="1">
            <a:off x="4787280" y="3573360"/>
            <a:ext cx="1214280" cy="121464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60000"/>
              </a:gs>
            </a:gsLst>
            <a:lin ang="5400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-4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AutoShape 4"/>
          <p:cNvCxnSpPr/>
          <p:nvPr/>
        </p:nvCxnSpPr>
        <p:spPr>
          <a:xfrm>
            <a:off x="2556000" y="3068280"/>
            <a:ext cx="753120" cy="238680"/>
          </a:xfrm>
          <a:prstGeom prst="bentConnector3">
            <a:avLst>
              <a:gd name="adj1" fmla="val 49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AutoShape 5"/>
          <p:cNvCxnSpPr/>
          <p:nvPr/>
        </p:nvCxnSpPr>
        <p:spPr>
          <a:xfrm>
            <a:off x="4284720" y="3284640"/>
            <a:ext cx="886320" cy="310320"/>
          </a:xfrm>
          <a:prstGeom prst="bentConnector3">
            <a:avLst>
              <a:gd name="adj1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0" name="Прямоугольник 9"/>
          <p:cNvSpPr/>
          <p:nvPr/>
        </p:nvSpPr>
        <p:spPr>
          <a:xfrm>
            <a:off x="1692360" y="184464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016 г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Прямоугольник 10"/>
          <p:cNvSpPr/>
          <p:nvPr/>
        </p:nvSpPr>
        <p:spPr>
          <a:xfrm>
            <a:off x="3348000" y="249228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017 г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Прямоугольник 11"/>
          <p:cNvSpPr/>
          <p:nvPr/>
        </p:nvSpPr>
        <p:spPr>
          <a:xfrm flipH="1">
            <a:off x="5147640" y="2997360"/>
            <a:ext cx="170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018г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40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оугольник 12"/>
          <p:cNvSpPr/>
          <p:nvPr/>
        </p:nvSpPr>
        <p:spPr>
          <a:xfrm>
            <a:off x="642960" y="2857680"/>
            <a:ext cx="8501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18"/>
          <p:cNvSpPr/>
          <p:nvPr/>
        </p:nvSpPr>
        <p:spPr>
          <a:xfrm>
            <a:off x="2071800" y="785880"/>
            <a:ext cx="571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</a:t>
            </a: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альдо миграци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Oval 3"/>
          <p:cNvSpPr/>
          <p:nvPr/>
        </p:nvSpPr>
        <p:spPr>
          <a:xfrm flipH="1">
            <a:off x="6372360" y="4076640"/>
            <a:ext cx="1008000" cy="1001880"/>
          </a:xfrm>
          <a:prstGeom prst="ellipse">
            <a:avLst/>
          </a:prstGeom>
          <a:gradFill rotWithShape="0">
            <a:gsLst>
              <a:gs pos="0">
                <a:srgbClr val="00b0f0"/>
              </a:gs>
              <a:gs pos="100000">
                <a:srgbClr val="760000"/>
              </a:gs>
            </a:gsLst>
            <a:lin ang="5400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-2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AutoShape 5"/>
          <p:cNvCxnSpPr/>
          <p:nvPr/>
        </p:nvCxnSpPr>
        <p:spPr>
          <a:xfrm>
            <a:off x="5940360" y="4221000"/>
            <a:ext cx="504000" cy="14544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Прямоугольник 17"/>
          <p:cNvSpPr/>
          <p:nvPr/>
        </p:nvSpPr>
        <p:spPr>
          <a:xfrm>
            <a:off x="6516720" y="350028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019г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Номер слайда 1"/>
          <p:cNvSpPr/>
          <p:nvPr/>
        </p:nvSpPr>
        <p:spPr>
          <a:xfrm>
            <a:off x="8675640" y="6381720"/>
            <a:ext cx="3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12"/>
          <p:cNvSpPr/>
          <p:nvPr/>
        </p:nvSpPr>
        <p:spPr>
          <a:xfrm>
            <a:off x="795240" y="3009960"/>
            <a:ext cx="8501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Oval 3"/>
          <p:cNvSpPr/>
          <p:nvPr/>
        </p:nvSpPr>
        <p:spPr>
          <a:xfrm flipH="1">
            <a:off x="7667640" y="4869000"/>
            <a:ext cx="792000" cy="792000"/>
          </a:xfrm>
          <a:prstGeom prst="ellipse">
            <a:avLst/>
          </a:prstGeom>
          <a:gradFill rotWithShape="0">
            <a:gsLst>
              <a:gs pos="0">
                <a:srgbClr val="fc9fcb"/>
              </a:gs>
              <a:gs pos="100000">
                <a:srgbClr val="f8b049"/>
              </a:gs>
            </a:gsLst>
            <a:lin ang="5400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-9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оугольник 19"/>
          <p:cNvSpPr/>
          <p:nvPr/>
        </p:nvSpPr>
        <p:spPr>
          <a:xfrm flipH="1">
            <a:off x="7884360" y="4292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2020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3" name="AutoShape 5"/>
          <p:cNvCxnSpPr/>
          <p:nvPr/>
        </p:nvCxnSpPr>
        <p:spPr>
          <a:xfrm>
            <a:off x="7164360" y="4941360"/>
            <a:ext cx="572400" cy="143640"/>
          </a:xfrm>
          <a:prstGeom prst="bentConnector3">
            <a:avLst>
              <a:gd name="adj1" fmla="val 3473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бщие итоги миграции населе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5"/>
          <p:cNvSpPr/>
          <p:nvPr/>
        </p:nvSpPr>
        <p:spPr>
          <a:xfrm>
            <a:off x="179280" y="4076640"/>
            <a:ext cx="42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ичины мигр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468360" y="512640"/>
          <a:ext cx="8535960" cy="3316320"/>
        </p:xfrm>
        <a:graphic>
          <a:graphicData uri="http://schemas.openxmlformats.org/drawingml/2006/table">
            <a:tbl>
              <a:tblPr/>
              <a:tblGrid>
                <a:gridCol w="593640"/>
                <a:gridCol w="1185840"/>
                <a:gridCol w="1208160"/>
                <a:gridCol w="925560"/>
                <a:gridCol w="1184040"/>
                <a:gridCol w="1305000"/>
                <a:gridCol w="1185840"/>
                <a:gridCol w="947880"/>
              </a:tblGrid>
              <a:tr h="1323720">
                <a:tc>
                  <a:txBody>
                    <a:bodyPr lIns="7308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д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308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бывши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r>
                        <a:rPr b="0" lang="ru-RU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308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бывши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r>
                        <a:rPr b="0" lang="ru-RU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308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гр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рос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r>
                        <a:rPr b="0" lang="ru-RU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r>
                        <a:rPr b="0" lang="ru-RU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308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е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довая численность насел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308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эф. инт. миграции по прибыти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Aft>
                          <a:spcPts val="18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K</a:t>
                      </a:r>
                      <a:r>
                        <a:rPr b="0" lang="ru-RU" sz="1400" spc="-1" strike="noStrike" baseline="-25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p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 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= M</a:t>
                      </a:r>
                      <a:r>
                        <a:rPr b="0" lang="ru-RU" sz="1400" spc="-1" strike="noStrike" baseline="-25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j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/P *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Aft>
                          <a:spcPts val="18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308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эф. инт. миграции по выбыти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Aft>
                          <a:spcPts val="18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K = M</a:t>
                      </a:r>
                      <a:r>
                        <a:rPr b="0" lang="ru-RU" sz="1400" spc="-1" strike="noStrike" baseline="-25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/P *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Aft>
                          <a:spcPts val="18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эф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алово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гр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M</a:t>
                      </a:r>
                      <a:r>
                        <a:rPr b="0" lang="ru-RU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M</a:t>
                      </a:r>
                      <a:r>
                        <a:rPr b="0" lang="ru-RU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)/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*1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7308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308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308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308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9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308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6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308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308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5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>
                  <a:txBody>
                    <a:bodyPr lIns="7308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308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308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308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3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308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4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308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308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5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4120">
                <a:tc>
                  <a:txBody>
                    <a:bodyPr lIns="7308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308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308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308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4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308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0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308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308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>
                  <a:txBody>
                    <a:bodyPr lIns="7308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e9b4"/>
                    </a:solidFill>
                  </a:tcPr>
                </a:tc>
                <a:tc>
                  <a:txBody>
                    <a:bodyPr lIns="7308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mbria"/>
                        </a:rPr>
                        <a:t>124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e9b4"/>
                    </a:solidFill>
                  </a:tcPr>
                </a:tc>
                <a:tc>
                  <a:txBody>
                    <a:bodyPr lIns="7308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mbria"/>
                        </a:rPr>
                        <a:t>146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e9b4"/>
                    </a:solidFill>
                  </a:tcPr>
                </a:tc>
                <a:tc>
                  <a:txBody>
                    <a:bodyPr lIns="7308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404040"/>
                          </a:solidFill>
                          <a:latin typeface="Times New Roman"/>
                          <a:ea typeface="Cambria"/>
                        </a:rPr>
                        <a:t>-2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e9b4"/>
                    </a:solidFill>
                  </a:tcPr>
                </a:tc>
                <a:tc>
                  <a:txBody>
                    <a:bodyPr lIns="7308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4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e9b4"/>
                    </a:solidFill>
                  </a:tcPr>
                </a:tc>
                <a:tc>
                  <a:txBody>
                    <a:bodyPr lIns="7308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e9b4"/>
                    </a:solidFill>
                  </a:tcPr>
                </a:tc>
                <a:tc>
                  <a:txBody>
                    <a:bodyPr lIns="7308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e9b4"/>
                    </a:solidFill>
                  </a:tcPr>
                </a:tc>
                <a:tc>
                  <a:txBody>
                    <a:bodyPr lIns="432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e9b4"/>
                    </a:solidFill>
                  </a:tcPr>
                </a:tc>
              </a:tr>
              <a:tr h="549000">
                <a:tc>
                  <a:txBody>
                    <a:bodyPr lIns="7308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e9b4"/>
                    </a:solidFill>
                  </a:tcPr>
                </a:tc>
                <a:tc>
                  <a:txBody>
                    <a:bodyPr lIns="7308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mbria"/>
                        </a:rPr>
                        <a:t>12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e9b4"/>
                    </a:solidFill>
                  </a:tcPr>
                </a:tc>
                <a:tc>
                  <a:txBody>
                    <a:bodyPr lIns="7308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mbria"/>
                        </a:rPr>
                        <a:t>13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e9b4"/>
                    </a:solidFill>
                  </a:tcPr>
                </a:tc>
                <a:tc>
                  <a:txBody>
                    <a:bodyPr lIns="7308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mbria"/>
                        </a:rPr>
                        <a:t>-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e9b4"/>
                    </a:solidFill>
                  </a:tcPr>
                </a:tc>
                <a:tc>
                  <a:txBody>
                    <a:bodyPr lIns="7308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0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e9b4"/>
                    </a:solidFill>
                  </a:tcPr>
                </a:tc>
                <a:tc>
                  <a:txBody>
                    <a:bodyPr lIns="7308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e9b4"/>
                    </a:solidFill>
                  </a:tcPr>
                </a:tc>
                <a:tc>
                  <a:txBody>
                    <a:bodyPr lIns="7308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e9b4"/>
                    </a:solidFill>
                  </a:tcPr>
                </a:tc>
                <a:tc>
                  <a:txBody>
                    <a:bodyPr lIns="432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2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e9b4"/>
                    </a:solidFill>
                  </a:tcPr>
                </a:tc>
              </a:tr>
            </a:tbl>
          </a:graphicData>
        </a:graphic>
      </p:graphicFrame>
      <p:sp>
        <p:nvSpPr>
          <p:cNvPr id="97" name="Прямоугольник 9"/>
          <p:cNvSpPr/>
          <p:nvPr/>
        </p:nvSpPr>
        <p:spPr>
          <a:xfrm>
            <a:off x="3995640" y="3860640"/>
            <a:ext cx="514836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вод: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ый высокий  миграционный прирост был в 2019 году,  все  годы  число выбывших преобладало над числом прибывших, а сальдо миграции с 2016 по 2020 год выросло в 1,1 раза. Самый высокий коэффициент миграции приходиться на 2019 год – 68,7%. Причины миграции в основном из-за отсутствия работы и личными обстоятельств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Рисунок 2" descr=""/>
          <p:cNvPicPr/>
          <p:nvPr/>
        </p:nvPicPr>
        <p:blipFill>
          <a:blip r:embed="rId1"/>
          <a:srcRect l="23062" t="18949" r="0" b="28526"/>
          <a:stretch/>
        </p:blipFill>
        <p:spPr>
          <a:xfrm>
            <a:off x="468360" y="4662360"/>
            <a:ext cx="3382920" cy="164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42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оэффициент рождаемос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Rectangle 1"/>
          <p:cNvSpPr/>
          <p:nvPr/>
        </p:nvSpPr>
        <p:spPr>
          <a:xfrm>
            <a:off x="0" y="553356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3"/>
          <p:cNvSpPr/>
          <p:nvPr/>
        </p:nvSpPr>
        <p:spPr>
          <a:xfrm>
            <a:off x="4211640" y="2339280"/>
            <a:ext cx="42480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ождаемост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142920" y="428760"/>
          <a:ext cx="4645080" cy="2793960"/>
        </p:xfrm>
        <a:graphic>
          <a:graphicData uri="http://schemas.openxmlformats.org/drawingml/2006/table">
            <a:tbl>
              <a:tblPr/>
              <a:tblGrid>
                <a:gridCol w="1446120"/>
                <a:gridCol w="3198960"/>
              </a:tblGrid>
              <a:tr h="55980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личина ОК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арактеристика уровня рождаемос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092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нее 16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зкий, недостаточный для замещения поколений родителей поколениями дет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,0 – 24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,0 – 29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ше средн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60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,0 –39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сок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,0 и выш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чень высок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3" name=""/>
          <p:cNvGraphicFramePr/>
          <p:nvPr/>
        </p:nvGraphicFramePr>
        <p:xfrm>
          <a:off x="3492360" y="3357720"/>
          <a:ext cx="5508720" cy="3346200"/>
        </p:xfrm>
        <a:graphic>
          <a:graphicData uri="http://schemas.openxmlformats.org/drawingml/2006/table">
            <a:tbl>
              <a:tblPr/>
              <a:tblGrid>
                <a:gridCol w="723960"/>
                <a:gridCol w="1533600"/>
                <a:gridCol w="1498680"/>
                <a:gridCol w="1752480"/>
              </a:tblGrid>
              <a:tr h="10443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д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е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довая численность населения  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родившихся за год, чел. 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щий коэффициент рождаемости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‰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2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e9b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6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e9b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e9b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e9b4"/>
                    </a:solidFill>
                  </a:tcPr>
                </a:tc>
              </a:tr>
              <a:tr h="3762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4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2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0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4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1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0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4" name="Rectangle 34"/>
          <p:cNvSpPr/>
          <p:nvPr/>
        </p:nvSpPr>
        <p:spPr>
          <a:xfrm>
            <a:off x="2520" y="0"/>
            <a:ext cx="22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Рисунок 2" descr=""/>
          <p:cNvPicPr/>
          <p:nvPr/>
        </p:nvPicPr>
        <p:blipFill>
          <a:blip r:embed="rId1"/>
          <a:stretch/>
        </p:blipFill>
        <p:spPr>
          <a:xfrm>
            <a:off x="5003640" y="404640"/>
            <a:ext cx="3432240" cy="2462400"/>
          </a:xfrm>
          <a:prstGeom prst="rect">
            <a:avLst/>
          </a:prstGeom>
          <a:ln w="0">
            <a:noFill/>
          </a:ln>
        </p:spPr>
      </p:pic>
      <p:sp>
        <p:nvSpPr>
          <p:cNvPr id="106" name="Номер слайда 1"/>
          <p:cNvSpPr/>
          <p:nvPr/>
        </p:nvSpPr>
        <p:spPr>
          <a:xfrm>
            <a:off x="8820000" y="6519960"/>
            <a:ext cx="3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7BCA0-6091-491A-8D82-7CAB9D02389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66150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оэффициент смертнос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Rectangle 1"/>
          <p:cNvSpPr/>
          <p:nvPr/>
        </p:nvSpPr>
        <p:spPr>
          <a:xfrm>
            <a:off x="571680" y="5574600"/>
            <a:ext cx="83581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250920" y="3716280"/>
          <a:ext cx="3816360" cy="1695600"/>
        </p:xfrm>
        <a:graphic>
          <a:graphicData uri="http://schemas.openxmlformats.org/drawingml/2006/table">
            <a:tbl>
              <a:tblPr/>
              <a:tblGrid>
                <a:gridCol w="1498680"/>
                <a:gridCol w="2317680"/>
              </a:tblGrid>
              <a:tr h="56052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личина К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арактеристика уровня смертнос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нее 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з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-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-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со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24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ше 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чень высо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0" name=""/>
          <p:cNvGraphicFramePr/>
          <p:nvPr/>
        </p:nvGraphicFramePr>
        <p:xfrm>
          <a:off x="324000" y="620640"/>
          <a:ext cx="7200720" cy="2519280"/>
        </p:xfrm>
        <a:graphic>
          <a:graphicData uri="http://schemas.openxmlformats.org/drawingml/2006/table">
            <a:tbl>
              <a:tblPr/>
              <a:tblGrid>
                <a:gridCol w="647640"/>
                <a:gridCol w="1295280"/>
                <a:gridCol w="1052640"/>
                <a:gridCol w="865080"/>
                <a:gridCol w="1400040"/>
                <a:gridCol w="1940040"/>
              </a:tblGrid>
              <a:tr h="1065960">
                <a:tc>
                  <a:txBody>
                    <a:bodyPr lIns="7308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д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308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егодовая численность насел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родившихся за год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ел.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308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умерших за год,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ел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3080" rIns="730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щий коэффициент смертности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милл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 marR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щий коэффициент рождаемости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милл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7308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308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6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308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3080" rIns="730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 marR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7308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308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4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308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3080" rIns="730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 marR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7308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308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0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308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3080" rIns="730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 marR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7308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e9b4"/>
                    </a:solidFill>
                  </a:tcPr>
                </a:tc>
                <a:tc>
                  <a:txBody>
                    <a:bodyPr lIns="7308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4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e9b4"/>
                    </a:solidFill>
                  </a:tcPr>
                </a:tc>
                <a:tc>
                  <a:txBody>
                    <a:bodyPr lIns="432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e9b4"/>
                    </a:solidFill>
                  </a:tcPr>
                </a:tc>
                <a:tc>
                  <a:txBody>
                    <a:bodyPr lIns="7308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e9b4"/>
                    </a:solidFill>
                  </a:tcPr>
                </a:tc>
                <a:tc>
                  <a:txBody>
                    <a:bodyPr lIns="73080" rIns="730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 marR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e9b4"/>
                    </a:solidFill>
                  </a:tcPr>
                </a:tc>
                <a:tc>
                  <a:txBody>
                    <a:bodyPr lIns="432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e9b4"/>
                    </a:solidFill>
                  </a:tcPr>
                </a:tc>
              </a:tr>
              <a:tr h="354600">
                <a:tc>
                  <a:txBody>
                    <a:bodyPr lIns="7308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e9b4"/>
                    </a:solidFill>
                  </a:tcPr>
                </a:tc>
                <a:tc>
                  <a:txBody>
                    <a:bodyPr lIns="7308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0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e9b4"/>
                    </a:solidFill>
                  </a:tcPr>
                </a:tc>
                <a:tc>
                  <a:txBody>
                    <a:bodyPr lIns="432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e9b4"/>
                    </a:solidFill>
                  </a:tcPr>
                </a:tc>
                <a:tc>
                  <a:txBody>
                    <a:bodyPr lIns="7308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e9b4"/>
                    </a:solidFill>
                  </a:tcPr>
                </a:tc>
                <a:tc>
                  <a:txBody>
                    <a:bodyPr lIns="73080" rIns="730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 marR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e9b4"/>
                    </a:solidFill>
                  </a:tcPr>
                </a:tc>
                <a:tc>
                  <a:txBody>
                    <a:bodyPr lIns="432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e9b4"/>
                    </a:solidFill>
                  </a:tcPr>
                </a:tc>
              </a:tr>
            </a:tbl>
          </a:graphicData>
        </a:graphic>
      </p:graphicFrame>
      <p:sp>
        <p:nvSpPr>
          <p:cNvPr id="111" name="Прямоугольник 11"/>
          <p:cNvSpPr/>
          <p:nvPr/>
        </p:nvSpPr>
        <p:spPr>
          <a:xfrm>
            <a:off x="500040" y="5857920"/>
            <a:ext cx="8643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вод: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 протяжении исследуемых лет видно, что коэффициент смертности с  2016 года  повышается  и в 2020 г. его можно охарактеризовать, как высокий. Ежегодно количество умерших людей увеличивает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Диаграмма 11" descr=""/>
          <p:cNvPicPr/>
          <p:nvPr/>
        </p:nvPicPr>
        <p:blipFill>
          <a:blip r:embed="rId1"/>
          <a:stretch/>
        </p:blipFill>
        <p:spPr>
          <a:xfrm>
            <a:off x="4387680" y="3162240"/>
            <a:ext cx="4807080" cy="27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7T15:16:29Z</dcterms:created>
  <dc:creator>Iyatta</dc:creator>
  <dc:description/>
  <dc:language>en-US</dc:language>
  <cp:lastModifiedBy>Natalya</cp:lastModifiedBy>
  <dcterms:modified xsi:type="dcterms:W3CDTF">2021-10-29T13:36:12Z</dcterms:modified>
  <cp:revision>230</cp:revision>
  <dc:subject/>
  <dc:title>Слайд 1</dc:title>
</cp:coreProperties>
</file>