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D6B-E57F-4A02-9EF6-0EF111FA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FAC-78F1-4699-A620-3B54616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ED0-2EC1-47A9-A025-87D1BDA6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F4A-AB0F-4200-9CB6-4B6A6A1C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06C-8D93-41C1-A5B5-19689C7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524-02DB-4061-8417-1BE1E16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0E3-F321-4A6A-BFEF-EA53E07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723-B67A-463D-ADCB-81E20E44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6F6-6ACE-4C80-BC02-801CB87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6B5-3477-41C0-A243-0FD7A25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776-EE02-4AA3-B1B6-835A90E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420-86EA-4930-B1E8-492B88B9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788A-98AE-43BB-B788-3A1E3B19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Многообразие пт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941360"/>
            <a:ext cx="73040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Воспита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рлова Елена Борис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3400" y="259920"/>
            <a:ext cx="83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средняя общеобразовательная школа № 24 имени Бориса Рукавиц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(дошкольн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4114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Самая большая летающая птица - конд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10261052_Andskiy_kondor_Vultur_gryphus21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0849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тица с самым большим размахом крыльев (3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lbatross17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73272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амая маленькая п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hummingbird-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750px-Vogeleier" descr="File:Vogeleier.jpg"/>
          <p:cNvPicPr/>
          <p:nvPr/>
        </p:nvPicPr>
        <p:blipFill>
          <a:blip r:embed="rId1"/>
          <a:stretch/>
        </p:blipFill>
        <p:spPr>
          <a:xfrm>
            <a:off x="900000" y="549360"/>
            <a:ext cx="73090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Различные формы гне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000_20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kachik" descr=""/>
          <p:cNvPicPr/>
          <p:nvPr/>
        </p:nvPicPr>
        <p:blipFill>
          <a:blip r:embed="rId1"/>
          <a:srcRect l="0" t="0" r="9351" b="0"/>
          <a:stretch/>
        </p:blipFill>
        <p:spPr>
          <a:xfrm>
            <a:off x="3995640" y="1700280"/>
            <a:ext cx="4896000" cy="4983120"/>
          </a:xfrm>
          <a:prstGeom prst="rect">
            <a:avLst/>
          </a:prstGeom>
          <a:ln w="0">
            <a:noFill/>
          </a:ln>
        </p:spPr>
      </p:pic>
      <p:pic>
        <p:nvPicPr>
          <p:cNvPr id="71" name="0_3e78d_df8b3057_XL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654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_198d7_10e617cb_XL" descr=""/>
          <p:cNvPicPr/>
          <p:nvPr/>
        </p:nvPicPr>
        <p:blipFill>
          <a:blip r:embed="rId1"/>
          <a:srcRect l="21806" t="21826" r="8196" b="0"/>
          <a:stretch/>
        </p:blipFill>
        <p:spPr>
          <a:xfrm>
            <a:off x="179280" y="18900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73" name="pechnik" descr=""/>
          <p:cNvPicPr/>
          <p:nvPr/>
        </p:nvPicPr>
        <p:blipFill>
          <a:blip r:embed="rId2"/>
          <a:srcRect l="7045" t="0" r="0" b="0"/>
          <a:stretch/>
        </p:blipFill>
        <p:spPr>
          <a:xfrm>
            <a:off x="4427640" y="2682720"/>
            <a:ext cx="45370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nezdo_kryakvy" descr=""/>
          <p:cNvPicPr/>
          <p:nvPr/>
        </p:nvPicPr>
        <p:blipFill>
          <a:blip r:embed="rId1"/>
          <a:srcRect l="33343" t="0" r="0" b="0"/>
          <a:stretch/>
        </p:blipFill>
        <p:spPr>
          <a:xfrm>
            <a:off x="4427640" y="1484280"/>
            <a:ext cx="4335480" cy="4881600"/>
          </a:xfrm>
          <a:prstGeom prst="rect">
            <a:avLst/>
          </a:prstGeom>
          <a:ln w="0">
            <a:noFill/>
          </a:ln>
        </p:spPr>
      </p:pic>
      <p:pic>
        <p:nvPicPr>
          <p:cNvPr id="75" name="658119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09248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nstola.ru-65790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ptica-127_small1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640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8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07-007--Vneshnee-stroenie-ptits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32720" cy="559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Внешнее строение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Кто где жи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4672" b="0"/>
          <a:stretch/>
        </p:blipFill>
        <p:spPr>
          <a:xfrm>
            <a:off x="250920" y="1413000"/>
            <a:ext cx="4060800" cy="5078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57200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2436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Чье пер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12-012-Sravnite-stroenie-perev-ptitsy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5618160" cy="4214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азновидности и строение пер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vol_per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59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Различные формы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2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15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Различные форм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801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47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Нелетающие птицы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тра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67779545_6261c9682a_o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36226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Пинг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nguin21" descr=""/>
          <p:cNvPicPr/>
          <p:nvPr/>
        </p:nvPicPr>
        <p:blipFill>
          <a:blip r:embed="rId1"/>
          <a:srcRect l="4047" t="4293" r="12230" b="5869"/>
          <a:stretch/>
        </p:blipFill>
        <p:spPr>
          <a:xfrm>
            <a:off x="1403280" y="1413000"/>
            <a:ext cx="6481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Дро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u_152549820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849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Кака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kakapo_wings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8466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16:20:57Z</dcterms:created>
  <dc:creator>User</dc:creator>
  <dc:description/>
  <dc:language>en-US</dc:language>
  <cp:lastModifiedBy>User</cp:lastModifiedBy>
  <dcterms:modified xsi:type="dcterms:W3CDTF">2021-10-30T16:55:29Z</dcterms:modified>
  <cp:revision>17</cp:revision>
  <dc:subject/>
  <dc:title>Многообразие птиц</dc:title>
</cp:coreProperties>
</file>