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A5F-2625-4481-B128-CD5404C1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25C-5583-46C2-9446-F8EC190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BA1-1DEE-492D-BF28-6D79FCB2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078-05AA-4D59-BBFC-0396C8B2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557-BA41-411F-A674-17D24BB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6D3-4A77-40BE-A872-E94549AF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59F-13E1-4778-AECB-40F1ACC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5D0-5957-4F86-987C-54F4BF3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3CF-E44E-4DE6-95FE-2082CE30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285-E1FE-4F55-865F-3F3EAE5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64E-A480-4F59-82DB-F6A2FD1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655-0819-48EB-A869-AEE6704A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92E-6E55-48FC-BDF4-9CA0BFA4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осты, мос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640" y="5445000"/>
            <a:ext cx="48960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итатель: Орлова Е.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2200" y="212760"/>
            <a:ext cx="741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4 имени Бориса Рукавицын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дошкольные группы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Фантастические концептуальные пешеходные мосты (фото) | Стиль жизни | The  Kiev Times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Фантастические концептуальные пешеходные мосты (фото), фото - Стиль жизни. «The Kiev Times»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Фантастические концептуальные пешеходные мосты (фото), фото - Стиль жизни. «The Kiev Times»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672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Фло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Самые необычные мосты мира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189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Фонтан радуги. Южная Ко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Мост &quot;Фонтан радуги&quot; (Banpo Bridge)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Мост Тысячелетия (Gateshead Millennium Bridge)"/>
          <p:cNvPicPr/>
          <p:nvPr/>
        </p:nvPicPr>
        <p:blipFill>
          <a:blip r:embed="rId1"/>
          <a:stretch/>
        </p:blipFill>
        <p:spPr>
          <a:xfrm>
            <a:off x="3780000" y="3552840"/>
            <a:ext cx="5364000" cy="3305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89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ост тысячелетия. Анг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Мост Тысячелетия (Gateshead Millennium Bridge)"/>
          <p:cNvPicPr/>
          <p:nvPr/>
        </p:nvPicPr>
        <p:blipFill>
          <a:blip r:embed="rId2"/>
          <a:stretch/>
        </p:blipFill>
        <p:spPr>
          <a:xfrm>
            <a:off x="0" y="765000"/>
            <a:ext cx="500364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В Голландии есть мост, который расположен ниже уровня воды.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7672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Голла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Голлан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Необычный мост в Голландии | Пикабу"/>
          <p:cNvPicPr/>
          <p:nvPr/>
        </p:nvPicPr>
        <p:blipFill>
          <a:blip r:embed="rId1"/>
          <a:stretch/>
        </p:blipFill>
        <p:spPr>
          <a:xfrm>
            <a:off x="395280" y="1125360"/>
            <a:ext cx="83520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Магдебургский мост-акведук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☁ Тот самый &quot;парящий мост&quot; в новом урбанистическом парке Зарядье!"/>
          <p:cNvPicPr/>
          <p:nvPr/>
        </p:nvPicPr>
        <p:blipFill>
          <a:blip r:embed="rId1"/>
          <a:stretch/>
        </p:blipFill>
        <p:spPr>
          <a:xfrm>
            <a:off x="1332000" y="0"/>
            <a:ext cx="63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ыби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Рыбинский мост - достопримечательности Рыбинска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анкт-Петер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Банковский мост в Санкт-Петербурге: история, устройство, архитектура"/>
          <p:cNvPicPr/>
          <p:nvPr/>
        </p:nvPicPr>
        <p:blipFill>
          <a:blip r:embed="rId1"/>
          <a:stretch/>
        </p:blipFill>
        <p:spPr>
          <a:xfrm>
            <a:off x="324000" y="1268280"/>
            <a:ext cx="833724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Яросл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Железнодорожному мосту в Ярославле исполняется 100 лет - ЯРНОВОСТИ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51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лининг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Снос двухъярусного моста в Калининграде: за и против - Новости Калининграда"/>
          <p:cNvPicPr/>
          <p:nvPr/>
        </p:nvPicPr>
        <p:blipFill>
          <a:blip r:embed="rId1"/>
          <a:stretch/>
        </p:blipFill>
        <p:spPr>
          <a:xfrm>
            <a:off x="179280" y="907920"/>
            <a:ext cx="8801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Шотла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Виадук Гленфиннан, Шотландия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5 самых красивых виадуков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Плато Ай-Петри, подвесные мосты и буковый лес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9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4360" y="476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47628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й-Петри, Кр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он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10 самых знаменитых мостов Европы (фотогалерея) | Культура и стиль жизни в  Германии и Европе | DW | 25.04.2019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3T18:42:38Z</dcterms:created>
  <dc:creator>User</dc:creator>
  <dc:description/>
  <dc:language>en-US</dc:language>
  <cp:lastModifiedBy>User</cp:lastModifiedBy>
  <dcterms:modified xsi:type="dcterms:W3CDTF">2021-10-30T14:23:09Z</dcterms:modified>
  <cp:revision>3</cp:revision>
  <dc:subject/>
  <dc:title>Слайд 1</dc:title>
</cp:coreProperties>
</file>