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59.wmf" ContentType="image/x-wmf"/>
  <Override PartName="/ppt/media/image20.png" ContentType="image/png"/>
  <Override PartName="/ppt/media/image36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40.jpeg" ContentType="image/jpeg"/>
  <Override PartName="/ppt/media/image9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56.png" ContentType="image/png"/>
  <Override PartName="/ppt/media/image37.jpeg" ContentType="image/jpeg"/>
  <Override PartName="/ppt/media/image30.png" ContentType="image/png"/>
  <Override PartName="/ppt/media/image39.jpeg" ContentType="image/jpe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7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DEFD-847B-4EBD-877C-6869F2EE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08A-1F2A-43CB-9462-FC9E76B2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787-A47F-485F-B0B7-641728B3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9D6-DC9C-48D0-ABA2-8FDA9DD0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032D-E7BB-4F69-8F3F-73916315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51BC-1ECF-4D21-B4E9-23663F02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B4EF-D39C-4CBD-903A-0D9DA573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0D02-D714-4ADD-8D1A-41FE0D09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1828-00AB-4B77-8F90-626B23FE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0B9E-6C90-47D8-8D93-75CF5E18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BDCE-7F6F-439D-BB17-94883551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21B9-3F11-4044-B889-55E01545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6697-36AF-4E0E-AF67-B0A7DA19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8856-40C9-4273-92E7-9B76488A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4979-7F48-4347-9862-F49F74E7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B5B0-9F5B-4252-82B6-F2EEF81C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D19C-C1EC-4D34-9F76-6646F13B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DEF7E-69F7-4285-B8D3-BE0A6FF4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4B53B-A9B8-4855-A604-86C0C15E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CBB96-E801-4F22-A485-A4F330A1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825C7-DB76-4D92-A049-3C3A974E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85B8A-6449-4D06-8AD6-6F403076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593-24F1-4103-855D-592AAAEC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040DE-8792-4124-85FE-F0E5254E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17F6E-0A3C-4D8D-976E-2711E8F9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2E4BD-451A-49D2-A86E-14264D83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4FC20-82C5-4949-85E6-B6BB04CF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F4A11-6698-42E1-A992-ABED7AD3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AD5A5-4B98-419F-A6D4-624379BD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B9B84-D829-44F7-A824-A2D5531E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92478-52D8-43AC-8872-1599BB80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F8D92-4AE3-4368-8256-1F41D765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3A44C-91E7-4F10-AF67-21489051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0BDE-0B6C-4C36-9E34-BE99A880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4FFE2-358A-417A-884F-DF75B604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5E0C6-083A-44E8-97F6-C148BE21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540D7-D95D-40AB-A3AF-BA213743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A1B7D-21F6-45F1-B26F-4DB6CB35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70812-9775-4A57-8028-B2F91706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96505-6787-47FC-8ABB-09F9750A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97EE8-2251-4261-A60F-751BFD21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2A101-01EF-44C7-8CF2-B7D1FEEB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5E167-C833-4D1E-A5F7-4FE6E403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B465B-75CE-44B8-ACC0-CF3BBA6B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EE1-4781-419A-92BE-A991AE97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E0A3D-0F43-4062-B105-C5B52AF0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A8A74-3360-4157-8119-ECC0520D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9990F-26C3-47F0-B2B2-41C93313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7BAA2-1E07-4704-BFEF-EE6E3923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58FD0-6BCC-4E1A-BF8B-FD6DAA26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F4521-BFC8-4207-9B01-5D2005DE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5B9F0-AB96-45A1-8E19-175BA31C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E06E4-0F9B-491C-923F-C9C78328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89E8C-4BB7-4294-B6DB-726AB89B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CF4B9-2044-49D8-BA74-06DE168D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89E-947B-409A-881D-B77CAE3A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E8A7F-F547-49C9-BED9-C03D8F2A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C175-BAAF-421A-B767-13F98AF3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C154-AE74-4A9F-B091-80EF741B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F88-1194-487E-B9F1-5FF225C0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3.png"/><Relationship Id="rId11" Type="http://schemas.openxmlformats.org/officeDocument/2006/relationships/image" Target="../media/image9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7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image" Target="../media/image3.png"/><Relationship Id="rId25" Type="http://schemas.openxmlformats.org/officeDocument/2006/relationships/image" Target="../media/image9.png"/><Relationship Id="rId26" Type="http://schemas.openxmlformats.org/officeDocument/2006/relationships/image" Target="../media/image6.png"/><Relationship Id="rId27" Type="http://schemas.openxmlformats.org/officeDocument/2006/relationships/image" Target="../media/image5.png"/><Relationship Id="rId28" Type="http://schemas.openxmlformats.org/officeDocument/2006/relationships/image" Target="../media/image3.png"/><Relationship Id="rId29" Type="http://schemas.openxmlformats.org/officeDocument/2006/relationships/image" Target="../media/image7.png"/><Relationship Id="rId30" Type="http://schemas.openxmlformats.org/officeDocument/2006/relationships/image" Target="../media/image1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26.png"/><Relationship Id="rId14" Type="http://schemas.openxmlformats.org/officeDocument/2006/relationships/image" Target="../media/image28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27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3.png"/><Relationship Id="rId21" Type="http://schemas.openxmlformats.org/officeDocument/2006/relationships/slideLayout" Target="../slideLayouts/slideLayout49.xml"/><Relationship Id="rId22" Type="http://schemas.openxmlformats.org/officeDocument/2006/relationships/slideLayout" Target="../slideLayouts/slideLayout50.xml"/><Relationship Id="rId23" Type="http://schemas.openxmlformats.org/officeDocument/2006/relationships/slideLayout" Target="../slideLayouts/slideLayout51.xml"/><Relationship Id="rId24" Type="http://schemas.openxmlformats.org/officeDocument/2006/relationships/slideLayout" Target="../slideLayouts/slideLayout52.xml"/><Relationship Id="rId25" Type="http://schemas.openxmlformats.org/officeDocument/2006/relationships/slideLayout" Target="../slideLayouts/slideLayout53.xml"/><Relationship Id="rId26" Type="http://schemas.openxmlformats.org/officeDocument/2006/relationships/slideLayout" Target="../slideLayouts/slideLayout54.xml"/><Relationship Id="rId27" Type="http://schemas.openxmlformats.org/officeDocument/2006/relationships/slideLayout" Target="../slideLayouts/slideLayout55.xml"/><Relationship Id="rId28" Type="http://schemas.openxmlformats.org/officeDocument/2006/relationships/slideLayout" Target="../slideLayouts/slideLayout56.xml"/><Relationship Id="rId29" Type="http://schemas.openxmlformats.org/officeDocument/2006/relationships/slideLayout" Target="../slideLayouts/slideLayout57.xml"/><Relationship Id="rId30" Type="http://schemas.openxmlformats.org/officeDocument/2006/relationships/slideLayout" Target="../slideLayouts/slideLayout58.xml"/><Relationship Id="rId31" Type="http://schemas.openxmlformats.org/officeDocument/2006/relationships/slideLayout" Target="../slideLayouts/slideLayout59.xml"/><Relationship Id="rId32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a7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AB07-BB5F-4C1B-94BE-5DDCB4BD4592}" type="slidenum"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a7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school1412.png"/>
          <p:cNvPicPr/>
          <p:nvPr/>
        </p:nvPicPr>
        <p:blipFill>
          <a:blip r:embed="rId2"/>
          <a:stretch/>
        </p:blipFill>
        <p:spPr>
          <a:xfrm>
            <a:off x="3564000" y="4457880"/>
            <a:ext cx="2104920" cy="2490480"/>
          </a:xfrm>
          <a:prstGeom prst="rect">
            <a:avLst/>
          </a:prstGeom>
          <a:ln w="0">
            <a:noFill/>
          </a:ln>
        </p:spPr>
      </p:pic>
      <p:grpSp>
        <p:nvGrpSpPr>
          <p:cNvPr id="42" name="Группа 55"/>
          <p:cNvGrpSpPr/>
          <p:nvPr/>
        </p:nvGrpSpPr>
        <p:grpSpPr>
          <a:xfrm>
            <a:off x="-50760" y="58320"/>
            <a:ext cx="9574200" cy="7130520"/>
            <a:chOff x="-50760" y="58320"/>
            <a:chExt cx="9574200" cy="7130520"/>
          </a:xfrm>
        </p:grpSpPr>
        <p:pic>
          <p:nvPicPr>
            <p:cNvPr id="43" name="Рисунок 8" descr="school1928.jpg"/>
            <p:cNvPicPr/>
            <p:nvPr/>
          </p:nvPicPr>
          <p:blipFill>
            <a:blip r:embed="rId3"/>
            <a:stretch/>
          </p:blipFill>
          <p:spPr>
            <a:xfrm rot="21080400">
              <a:off x="5739120" y="2658600"/>
              <a:ext cx="3480840" cy="429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Группа 37"/>
            <p:cNvGrpSpPr/>
            <p:nvPr/>
          </p:nvGrpSpPr>
          <p:grpSpPr>
            <a:xfrm>
              <a:off x="-50760" y="6274080"/>
              <a:ext cx="9143280" cy="712440"/>
              <a:chOff x="-50760" y="6274080"/>
              <a:chExt cx="9143280" cy="712440"/>
            </a:xfrm>
          </p:grpSpPr>
          <p:pic>
            <p:nvPicPr>
              <p:cNvPr id="45" name="Рисунок 22" descr="school1914.gif"/>
              <p:cNvPicPr/>
              <p:nvPr/>
            </p:nvPicPr>
            <p:blipFill>
              <a:blip r:embed="rId4"/>
              <a:stretch/>
            </p:blipFill>
            <p:spPr>
              <a:xfrm>
                <a:off x="8411760" y="6274080"/>
                <a:ext cx="680760" cy="66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Рисунок 23" descr="school1915.gif"/>
              <p:cNvPicPr/>
              <p:nvPr/>
            </p:nvPicPr>
            <p:blipFill>
              <a:blip r:embed="rId5"/>
              <a:stretch/>
            </p:blipFill>
            <p:spPr>
              <a:xfrm>
                <a:off x="-50760" y="6274080"/>
                <a:ext cx="750960" cy="55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Рисунок 24" descr="school1901.gif"/>
              <p:cNvPicPr/>
              <p:nvPr/>
            </p:nvPicPr>
            <p:blipFill>
              <a:blip r:embed="rId6"/>
              <a:stretch/>
            </p:blipFill>
            <p:spPr>
              <a:xfrm>
                <a:off x="632520" y="6274080"/>
                <a:ext cx="536040" cy="57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Рисунок 25" descr="school1911.gif"/>
              <p:cNvPicPr/>
              <p:nvPr/>
            </p:nvPicPr>
            <p:blipFill>
              <a:blip r:embed="rId7"/>
              <a:stretch/>
            </p:blipFill>
            <p:spPr>
              <a:xfrm>
                <a:off x="1208520" y="6274080"/>
                <a:ext cx="649080" cy="620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Рисунок 26" descr="school1917.gif"/>
              <p:cNvPicPr/>
              <p:nvPr/>
            </p:nvPicPr>
            <p:blipFill>
              <a:blip r:embed="rId8"/>
              <a:stretch/>
            </p:blipFill>
            <p:spPr>
              <a:xfrm>
                <a:off x="1784520" y="6274080"/>
                <a:ext cx="75420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Рисунок 27" descr="school1913.gif"/>
              <p:cNvPicPr/>
              <p:nvPr/>
            </p:nvPicPr>
            <p:blipFill>
              <a:blip r:embed="rId9"/>
              <a:stretch/>
            </p:blipFill>
            <p:spPr>
              <a:xfrm>
                <a:off x="2432880" y="6274080"/>
                <a:ext cx="768240" cy="66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Рисунок 28" descr="school1914.gif"/>
              <p:cNvPicPr/>
              <p:nvPr/>
            </p:nvPicPr>
            <p:blipFill>
              <a:blip r:embed="rId10"/>
              <a:stretch/>
            </p:blipFill>
            <p:spPr>
              <a:xfrm>
                <a:off x="3080880" y="6274080"/>
                <a:ext cx="680760" cy="66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Рисунок 29" descr="school1910.gif"/>
              <p:cNvPicPr/>
              <p:nvPr/>
            </p:nvPicPr>
            <p:blipFill>
              <a:blip r:embed="rId11"/>
              <a:stretch/>
            </p:blipFill>
            <p:spPr>
              <a:xfrm>
                <a:off x="3728880" y="6274080"/>
                <a:ext cx="720000" cy="71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Рисунок 30" descr="school1911.gif"/>
              <p:cNvPicPr/>
              <p:nvPr/>
            </p:nvPicPr>
            <p:blipFill>
              <a:blip r:embed="rId12"/>
              <a:stretch/>
            </p:blipFill>
            <p:spPr>
              <a:xfrm>
                <a:off x="4376880" y="6274080"/>
                <a:ext cx="649080" cy="620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Рисунок 31" descr="school1901.gif"/>
              <p:cNvPicPr/>
              <p:nvPr/>
            </p:nvPicPr>
            <p:blipFill>
              <a:blip r:embed="rId13"/>
              <a:stretch/>
            </p:blipFill>
            <p:spPr>
              <a:xfrm>
                <a:off x="4952880" y="6274080"/>
                <a:ext cx="536040" cy="57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Рисунок 32" descr="school1914.gif"/>
              <p:cNvPicPr/>
              <p:nvPr/>
            </p:nvPicPr>
            <p:blipFill>
              <a:blip r:embed="rId14"/>
              <a:stretch/>
            </p:blipFill>
            <p:spPr>
              <a:xfrm>
                <a:off x="5456880" y="6274080"/>
                <a:ext cx="680760" cy="66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Рисунок 33" descr="school1917.gif"/>
              <p:cNvPicPr/>
              <p:nvPr/>
            </p:nvPicPr>
            <p:blipFill>
              <a:blip r:embed="rId15"/>
              <a:stretch/>
            </p:blipFill>
            <p:spPr>
              <a:xfrm>
                <a:off x="6032880" y="6274080"/>
                <a:ext cx="75420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Рисунок 34" descr="school1918.gif"/>
              <p:cNvPicPr/>
              <p:nvPr/>
            </p:nvPicPr>
            <p:blipFill>
              <a:blip r:embed="rId16"/>
              <a:stretch/>
            </p:blipFill>
            <p:spPr>
              <a:xfrm>
                <a:off x="6680880" y="6274080"/>
                <a:ext cx="623520" cy="55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Рисунок 35" descr="school1910.gif"/>
              <p:cNvPicPr/>
              <p:nvPr/>
            </p:nvPicPr>
            <p:blipFill>
              <a:blip r:embed="rId17"/>
              <a:stretch/>
            </p:blipFill>
            <p:spPr>
              <a:xfrm flipH="1">
                <a:off x="7185240" y="6274080"/>
                <a:ext cx="648000" cy="64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Рисунок 36" descr="school1915.gif"/>
              <p:cNvPicPr/>
              <p:nvPr/>
            </p:nvPicPr>
            <p:blipFill>
              <a:blip r:embed="rId18"/>
              <a:stretch/>
            </p:blipFill>
            <p:spPr>
              <a:xfrm>
                <a:off x="7722360" y="6274080"/>
                <a:ext cx="750960" cy="556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" name="Группа 54"/>
            <p:cNvGrpSpPr/>
            <p:nvPr/>
          </p:nvGrpSpPr>
          <p:grpSpPr>
            <a:xfrm>
              <a:off x="8488440" y="58320"/>
              <a:ext cx="712440" cy="6838200"/>
              <a:chOff x="8488440" y="58320"/>
              <a:chExt cx="712440" cy="6838200"/>
            </a:xfrm>
          </p:grpSpPr>
          <p:pic>
            <p:nvPicPr>
              <p:cNvPr id="61" name="Рисунок 11" descr="school1915.gif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8390880" y="6242760"/>
                <a:ext cx="750960" cy="55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Рисунок 12" descr="school1901.gif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8506800" y="5657760"/>
                <a:ext cx="536040" cy="57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Рисунок 13" descr="school1911.gif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8474040" y="5001480"/>
                <a:ext cx="649080" cy="620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Рисунок 14" descr="school1917.gif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8377920" y="4416840"/>
                <a:ext cx="75420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Рисунок 15" descr="school1913.gif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8436960" y="3696120"/>
                <a:ext cx="768240" cy="66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Рисунок 16" descr="school1914.gif"/>
              <p:cNvPicPr/>
              <p:nvPr/>
            </p:nvPicPr>
            <p:blipFill>
              <a:blip r:embed="rId24"/>
              <a:stretch/>
            </p:blipFill>
            <p:spPr>
              <a:xfrm rot="16200000">
                <a:off x="8478360" y="3093840"/>
                <a:ext cx="680760" cy="66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Рисунок 17" descr="school1910.gif"/>
              <p:cNvPicPr/>
              <p:nvPr/>
            </p:nvPicPr>
            <p:blipFill>
              <a:blip r:embed="rId25"/>
              <a:stretch/>
            </p:blipFill>
            <p:spPr>
              <a:xfrm rot="16200000">
                <a:off x="8484480" y="2400480"/>
                <a:ext cx="720000" cy="71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Рисунок 18" descr="school1911.gif"/>
              <p:cNvPicPr/>
              <p:nvPr/>
            </p:nvPicPr>
            <p:blipFill>
              <a:blip r:embed="rId26"/>
              <a:stretch/>
            </p:blipFill>
            <p:spPr>
              <a:xfrm rot="16200000">
                <a:off x="8474040" y="1833120"/>
                <a:ext cx="649080" cy="620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Рисунок 19" descr="school1901.gif"/>
              <p:cNvPicPr/>
              <p:nvPr/>
            </p:nvPicPr>
            <p:blipFill>
              <a:blip r:embed="rId27"/>
              <a:stretch/>
            </p:blipFill>
            <p:spPr>
              <a:xfrm rot="16200000">
                <a:off x="8506800" y="1337760"/>
                <a:ext cx="536040" cy="57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Рисунок 20" descr="school1914.gif"/>
              <p:cNvPicPr/>
              <p:nvPr/>
            </p:nvPicPr>
            <p:blipFill>
              <a:blip r:embed="rId28"/>
              <a:stretch/>
            </p:blipFill>
            <p:spPr>
              <a:xfrm rot="16200000">
                <a:off x="8478360" y="717840"/>
                <a:ext cx="680760" cy="66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Рисунок 21" descr="school1917.gif"/>
              <p:cNvPicPr/>
              <p:nvPr/>
            </p:nvPicPr>
            <p:blipFill>
              <a:blip r:embed="rId29"/>
              <a:stretch/>
            </p:blipFill>
            <p:spPr>
              <a:xfrm rot="16200000">
                <a:off x="8377920" y="168840"/>
                <a:ext cx="754200" cy="53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72" name="Рисунок 37" descr="4.jpg"/>
          <p:cNvPicPr/>
          <p:nvPr/>
        </p:nvPicPr>
        <p:blipFill>
          <a:blip r:embed="rId30"/>
          <a:stretch/>
        </p:blipFill>
        <p:spPr>
          <a:xfrm>
            <a:off x="-77760" y="3370320"/>
            <a:ext cx="3682800" cy="37479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822B-9322-47FE-81C8-1E8053C71F9F}" type="slidenum"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a7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6" descr="school1926.png"/>
          <p:cNvPicPr/>
          <p:nvPr/>
        </p:nvPicPr>
        <p:blipFill>
          <a:blip r:embed="rId2"/>
          <a:stretch/>
        </p:blipFill>
        <p:spPr>
          <a:xfrm>
            <a:off x="8358120" y="4214880"/>
            <a:ext cx="695520" cy="1301760"/>
          </a:xfrm>
          <a:prstGeom prst="rect">
            <a:avLst/>
          </a:prstGeom>
          <a:ln w="0">
            <a:noFill/>
          </a:ln>
        </p:spPr>
      </p:pic>
      <p:grpSp>
        <p:nvGrpSpPr>
          <p:cNvPr id="115" name="Группа 40"/>
          <p:cNvGrpSpPr/>
          <p:nvPr/>
        </p:nvGrpSpPr>
        <p:grpSpPr>
          <a:xfrm>
            <a:off x="0" y="6113520"/>
            <a:ext cx="8540640" cy="744480"/>
            <a:chOff x="0" y="6113520"/>
            <a:chExt cx="8540640" cy="744480"/>
          </a:xfrm>
        </p:grpSpPr>
        <p:pic>
          <p:nvPicPr>
            <p:cNvPr id="116" name="Рисунок 8" descr="school1926.png"/>
            <p:cNvPicPr/>
            <p:nvPr/>
          </p:nvPicPr>
          <p:blipFill>
            <a:blip r:embed="rId3"/>
            <a:stretch/>
          </p:blipFill>
          <p:spPr>
            <a:xfrm>
              <a:off x="0" y="6113520"/>
              <a:ext cx="43563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Рисунок 9" descr="school1926.png"/>
            <p:cNvPicPr/>
            <p:nvPr/>
          </p:nvPicPr>
          <p:blipFill>
            <a:blip r:embed="rId4"/>
            <a:stretch/>
          </p:blipFill>
          <p:spPr>
            <a:xfrm>
              <a:off x="4291560" y="6137280"/>
              <a:ext cx="4249080" cy="69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8" name="Рисунок 10" descr="school1926.png"/>
          <p:cNvPicPr/>
          <p:nvPr/>
        </p:nvPicPr>
        <p:blipFill>
          <a:blip r:embed="rId5"/>
          <a:stretch/>
        </p:blipFill>
        <p:spPr>
          <a:xfrm>
            <a:off x="8475840" y="6113520"/>
            <a:ext cx="718920" cy="7444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1" descr="school1926.png"/>
          <p:cNvPicPr/>
          <p:nvPr/>
        </p:nvPicPr>
        <p:blipFill>
          <a:blip r:embed="rId6"/>
          <a:stretch/>
        </p:blipFill>
        <p:spPr>
          <a:xfrm>
            <a:off x="8429760" y="5432400"/>
            <a:ext cx="792000" cy="7444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2" descr="school1926.png"/>
          <p:cNvPicPr/>
          <p:nvPr/>
        </p:nvPicPr>
        <p:blipFill>
          <a:blip r:embed="rId7"/>
          <a:stretch/>
        </p:blipFill>
        <p:spPr>
          <a:xfrm>
            <a:off x="8437680" y="-77760"/>
            <a:ext cx="744480" cy="43560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3" descr="school1418.png"/>
          <p:cNvPicPr/>
          <p:nvPr/>
        </p:nvPicPr>
        <p:blipFill>
          <a:blip r:embed="rId8"/>
          <a:stretch/>
        </p:blipFill>
        <p:spPr>
          <a:xfrm>
            <a:off x="6307200" y="3933720"/>
            <a:ext cx="2990880" cy="3114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B6BC-7318-4D2D-8130-C39EDB5A33D3}" type="slidenum"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a7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6" descr="school1404.png"/>
          <p:cNvPicPr/>
          <p:nvPr/>
        </p:nvPicPr>
        <p:blipFill>
          <a:blip r:embed="rId2"/>
          <a:stretch/>
        </p:blipFill>
        <p:spPr>
          <a:xfrm>
            <a:off x="0" y="5740560"/>
            <a:ext cx="3206880" cy="11142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7" descr="school1404.png"/>
          <p:cNvPicPr/>
          <p:nvPr/>
        </p:nvPicPr>
        <p:blipFill>
          <a:blip r:embed="rId3"/>
          <a:stretch/>
        </p:blipFill>
        <p:spPr>
          <a:xfrm>
            <a:off x="6167520" y="5740560"/>
            <a:ext cx="2004840" cy="10890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8" descr="school1404.png"/>
          <p:cNvPicPr/>
          <p:nvPr/>
        </p:nvPicPr>
        <p:blipFill>
          <a:blip r:embed="rId4"/>
          <a:stretch/>
        </p:blipFill>
        <p:spPr>
          <a:xfrm>
            <a:off x="3224160" y="5732640"/>
            <a:ext cx="3013200" cy="1125360"/>
          </a:xfrm>
          <a:prstGeom prst="rect">
            <a:avLst/>
          </a:prstGeom>
          <a:ln w="0">
            <a:noFill/>
          </a:ln>
        </p:spPr>
      </p:pic>
      <p:grpSp>
        <p:nvGrpSpPr>
          <p:cNvPr id="166" name="Группа 16"/>
          <p:cNvGrpSpPr/>
          <p:nvPr/>
        </p:nvGrpSpPr>
        <p:grpSpPr>
          <a:xfrm>
            <a:off x="7899480" y="-65160"/>
            <a:ext cx="1280880" cy="6163920"/>
            <a:chOff x="7899480" y="-65160"/>
            <a:chExt cx="1280880" cy="6163920"/>
          </a:xfrm>
        </p:grpSpPr>
        <p:pic>
          <p:nvPicPr>
            <p:cNvPr id="167" name="Рисунок 10" descr="school1404.png"/>
            <p:cNvPicPr/>
            <p:nvPr/>
          </p:nvPicPr>
          <p:blipFill>
            <a:blip r:embed="rId5"/>
            <a:stretch/>
          </p:blipFill>
          <p:spPr>
            <a:xfrm rot="16200000">
              <a:off x="6971760" y="866880"/>
              <a:ext cx="3104640" cy="12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11" descr="school1404.png"/>
            <p:cNvPicPr/>
            <p:nvPr/>
          </p:nvPicPr>
          <p:blipFill>
            <a:blip r:embed="rId6"/>
            <a:stretch/>
          </p:blipFill>
          <p:spPr>
            <a:xfrm rot="16200000">
              <a:off x="6991200" y="3909600"/>
              <a:ext cx="3097080" cy="128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Рисунок 12" descr="school1426.png"/>
          <p:cNvPicPr/>
          <p:nvPr/>
        </p:nvPicPr>
        <p:blipFill>
          <a:blip r:embed="rId7"/>
          <a:stretch/>
        </p:blipFill>
        <p:spPr>
          <a:xfrm>
            <a:off x="6410160" y="3924360"/>
            <a:ext cx="2772000" cy="30114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7405-BB57-4989-B200-61732524FDA7}" type="slidenum"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a7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Группа 38"/>
          <p:cNvGrpSpPr/>
          <p:nvPr/>
        </p:nvGrpSpPr>
        <p:grpSpPr>
          <a:xfrm>
            <a:off x="-90360" y="0"/>
            <a:ext cx="9359640" cy="6858000"/>
            <a:chOff x="-90360" y="0"/>
            <a:chExt cx="9359640" cy="6858000"/>
          </a:xfrm>
        </p:grpSpPr>
        <p:grpSp>
          <p:nvGrpSpPr>
            <p:cNvPr id="212" name="Группа 22"/>
            <p:cNvGrpSpPr/>
            <p:nvPr/>
          </p:nvGrpSpPr>
          <p:grpSpPr>
            <a:xfrm>
              <a:off x="-90360" y="5950440"/>
              <a:ext cx="9359640" cy="907560"/>
              <a:chOff x="-90360" y="5950440"/>
              <a:chExt cx="9359640" cy="907560"/>
            </a:xfrm>
          </p:grpSpPr>
          <p:grpSp>
            <p:nvGrpSpPr>
              <p:cNvPr id="213" name="Группа 13"/>
              <p:cNvGrpSpPr/>
              <p:nvPr/>
            </p:nvGrpSpPr>
            <p:grpSpPr>
              <a:xfrm>
                <a:off x="-90360" y="5950440"/>
                <a:ext cx="6012720" cy="907560"/>
                <a:chOff x="-90360" y="5950440"/>
                <a:chExt cx="6012720" cy="907560"/>
              </a:xfrm>
            </p:grpSpPr>
            <p:pic>
              <p:nvPicPr>
                <p:cNvPr id="214" name="Рисунок 20" descr="school1404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124880" y="5972760"/>
                  <a:ext cx="976320" cy="85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Рисунок 21" descr="school1404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90360" y="5990400"/>
                  <a:ext cx="929520" cy="839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Рисунок 22" descr="school1404.png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88960" y="5990400"/>
                  <a:ext cx="929520" cy="867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Рисунок 23" descr="school1404.png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77240" y="5990400"/>
                  <a:ext cx="867600" cy="867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Рисунок 24" descr="school1404.png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583280" y="5990400"/>
                  <a:ext cx="867600" cy="867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Рисунок 25" descr="school1404.png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56920" y="5972760"/>
                  <a:ext cx="929520" cy="85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Рисунок 26" descr="school1404.png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992840" y="5950440"/>
                  <a:ext cx="929520" cy="85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21" name="Рисунок 16" descr="school1404.png"/>
              <p:cNvPicPr/>
              <p:nvPr/>
            </p:nvPicPr>
            <p:blipFill>
              <a:blip r:embed="rId9"/>
              <a:stretch/>
            </p:blipFill>
            <p:spPr>
              <a:xfrm>
                <a:off x="5860080" y="5963760"/>
                <a:ext cx="9295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Рисунок 17" descr="school1404.png"/>
              <p:cNvPicPr/>
              <p:nvPr/>
            </p:nvPicPr>
            <p:blipFill>
              <a:blip r:embed="rId10"/>
              <a:stretch/>
            </p:blipFill>
            <p:spPr>
              <a:xfrm>
                <a:off x="8339760" y="5963760"/>
                <a:ext cx="929520" cy="86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Рисунок 18" descr="school1404.png"/>
              <p:cNvPicPr/>
              <p:nvPr/>
            </p:nvPicPr>
            <p:blipFill>
              <a:blip r:embed="rId11"/>
              <a:stretch/>
            </p:blipFill>
            <p:spPr>
              <a:xfrm>
                <a:off x="6728040" y="5963760"/>
                <a:ext cx="867600" cy="86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Рисунок 19" descr="school1404.png"/>
              <p:cNvPicPr/>
              <p:nvPr/>
            </p:nvPicPr>
            <p:blipFill>
              <a:blip r:embed="rId12"/>
              <a:stretch/>
            </p:blipFill>
            <p:spPr>
              <a:xfrm>
                <a:off x="7533720" y="5963760"/>
                <a:ext cx="867600" cy="86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5" name="Рисунок 8" descr="school1404.png"/>
            <p:cNvPicPr/>
            <p:nvPr/>
          </p:nvPicPr>
          <p:blipFill>
            <a:blip r:embed="rId13"/>
            <a:stretch/>
          </p:blipFill>
          <p:spPr>
            <a:xfrm flipH="1">
              <a:off x="8244000" y="898200"/>
              <a:ext cx="976320" cy="85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Рисунок 9" descr="school1404.png"/>
            <p:cNvPicPr/>
            <p:nvPr/>
          </p:nvPicPr>
          <p:blipFill>
            <a:blip r:embed="rId14"/>
            <a:stretch/>
          </p:blipFill>
          <p:spPr>
            <a:xfrm flipH="1">
              <a:off x="8290800" y="2657520"/>
              <a:ext cx="929520" cy="86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Рисунок 10" descr="school1404.png"/>
            <p:cNvPicPr/>
            <p:nvPr/>
          </p:nvPicPr>
          <p:blipFill>
            <a:blip r:embed="rId15"/>
            <a:stretch/>
          </p:blipFill>
          <p:spPr>
            <a:xfrm flipH="1">
              <a:off x="8264880" y="1775160"/>
              <a:ext cx="929520" cy="85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Рисунок 11" descr="school1404.png"/>
            <p:cNvPicPr/>
            <p:nvPr/>
          </p:nvPicPr>
          <p:blipFill>
            <a:blip r:embed="rId16"/>
            <a:stretch/>
          </p:blipFill>
          <p:spPr>
            <a:xfrm flipH="1">
              <a:off x="8277840" y="0"/>
              <a:ext cx="929520" cy="85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Рисунок 12" descr="school1404.png"/>
            <p:cNvPicPr/>
            <p:nvPr/>
          </p:nvPicPr>
          <p:blipFill>
            <a:blip r:embed="rId17"/>
            <a:stretch/>
          </p:blipFill>
          <p:spPr>
            <a:xfrm flipH="1">
              <a:off x="8277840" y="5156640"/>
              <a:ext cx="929520" cy="8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Рисунок 13" descr="school1404.png"/>
            <p:cNvPicPr/>
            <p:nvPr/>
          </p:nvPicPr>
          <p:blipFill>
            <a:blip r:embed="rId18"/>
            <a:stretch/>
          </p:blipFill>
          <p:spPr>
            <a:xfrm flipH="1">
              <a:off x="8326800" y="4352400"/>
              <a:ext cx="867600" cy="86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Рисунок 14" descr="school1404.png"/>
            <p:cNvPicPr/>
            <p:nvPr/>
          </p:nvPicPr>
          <p:blipFill>
            <a:blip r:embed="rId19"/>
            <a:stretch/>
          </p:blipFill>
          <p:spPr>
            <a:xfrm flipH="1">
              <a:off x="8339760" y="3521520"/>
              <a:ext cx="867600" cy="86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2" name="Рисунок 27" descr="school21099.png"/>
          <p:cNvPicPr/>
          <p:nvPr/>
        </p:nvPicPr>
        <p:blipFill>
          <a:blip r:embed="rId20"/>
          <a:stretch/>
        </p:blipFill>
        <p:spPr>
          <a:xfrm>
            <a:off x="5348160" y="3745080"/>
            <a:ext cx="3829320" cy="31384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7AC0-272D-4C50-80D1-B901D9D5E213}" type="slidenum"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1"/>
    <p:sldLayoutId id="2147483702" r:id="rId22"/>
    <p:sldLayoutId id="2147483703" r:id="rId23"/>
    <p:sldLayoutId id="2147483704" r:id="rId24"/>
    <p:sldLayoutId id="2147483705" r:id="rId25"/>
    <p:sldLayoutId id="2147483706" r:id="rId26"/>
    <p:sldLayoutId id="2147483707" r:id="rId27"/>
    <p:sldLayoutId id="2147483708" r:id="rId28"/>
    <p:sldLayoutId id="2147483709" r:id="rId29"/>
    <p:sldLayoutId id="2147483710" r:id="rId30"/>
    <p:sldLayoutId id="2147483711" r:id="rId31"/>
    <p:sldLayoutId id="2147483712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hyperlink" Target="http://funforkids.ru/pictures/school19/school1918.gif" TargetMode="External"/><Relationship Id="rId4" Type="http://schemas.openxmlformats.org/officeDocument/2006/relationships/image" Target="../media/image43.png"/><Relationship Id="rId5" Type="http://schemas.openxmlformats.org/officeDocument/2006/relationships/hyperlink" Target="http://funforkids.ru/pictures/school19/school1926.png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funforkids.ru/pictures/school19/school1928.jpg" TargetMode="External"/><Relationship Id="rId8" Type="http://schemas.openxmlformats.org/officeDocument/2006/relationships/image" Target="../media/image45.png"/><Relationship Id="rId9" Type="http://schemas.openxmlformats.org/officeDocument/2006/relationships/hyperlink" Target="http://funforkids.ru/pictures/school19/school1910.gif" TargetMode="External"/><Relationship Id="rId10" Type="http://schemas.openxmlformats.org/officeDocument/2006/relationships/image" Target="../media/image46.png"/><Relationship Id="rId11" Type="http://schemas.openxmlformats.org/officeDocument/2006/relationships/hyperlink" Target="http://funforkids.ru/pictures/school19/school1911.gif" TargetMode="External"/><Relationship Id="rId12" Type="http://schemas.openxmlformats.org/officeDocument/2006/relationships/image" Target="../media/image47.png"/><Relationship Id="rId13" Type="http://schemas.openxmlformats.org/officeDocument/2006/relationships/hyperlink" Target="http://funforkids.ru/pictures/school19/school1912.gif" TargetMode="External"/><Relationship Id="rId14" Type="http://schemas.openxmlformats.org/officeDocument/2006/relationships/image" Target="../media/image48.png"/><Relationship Id="rId15" Type="http://schemas.openxmlformats.org/officeDocument/2006/relationships/hyperlink" Target="http://funforkids.ru/pictures/school19/school1913.gif" TargetMode="External"/><Relationship Id="rId16" Type="http://schemas.openxmlformats.org/officeDocument/2006/relationships/image" Target="../media/image49.png"/><Relationship Id="rId17" Type="http://schemas.openxmlformats.org/officeDocument/2006/relationships/hyperlink" Target="http://funforkids.ru/pictures/school19/school1914.gif" TargetMode="External"/><Relationship Id="rId18" Type="http://schemas.openxmlformats.org/officeDocument/2006/relationships/image" Target="../media/image50.png"/><Relationship Id="rId19" Type="http://schemas.openxmlformats.org/officeDocument/2006/relationships/hyperlink" Target="http://funforkids.ru/pictures/school19/school1915.gif" TargetMode="External"/><Relationship Id="rId20" Type="http://schemas.openxmlformats.org/officeDocument/2006/relationships/image" Target="../media/image51.png"/><Relationship Id="rId21" Type="http://schemas.openxmlformats.org/officeDocument/2006/relationships/hyperlink" Target="http://funforkids.ru/pictures/school21/school21099.png" TargetMode="External"/><Relationship Id="rId22" Type="http://schemas.openxmlformats.org/officeDocument/2006/relationships/image" Target="../media/image52.png"/><Relationship Id="rId23" Type="http://schemas.openxmlformats.org/officeDocument/2006/relationships/hyperlink" Target="http://funforkids.ru/pictures/school14/school1416.png" TargetMode="External"/><Relationship Id="rId24" Type="http://schemas.openxmlformats.org/officeDocument/2006/relationships/image" Target="../media/image53.png"/><Relationship Id="rId25" Type="http://schemas.openxmlformats.org/officeDocument/2006/relationships/hyperlink" Target="http://funforkids.ru/pictures/school14/school1418.png" TargetMode="External"/><Relationship Id="rId26" Type="http://schemas.openxmlformats.org/officeDocument/2006/relationships/image" Target="../media/image54.png"/><Relationship Id="rId27" Type="http://schemas.openxmlformats.org/officeDocument/2006/relationships/hyperlink" Target="http://funforkids.ru/pictures/school14/school1426.png" TargetMode="External"/><Relationship Id="rId28" Type="http://schemas.openxmlformats.org/officeDocument/2006/relationships/image" Target="../media/image55.png"/><Relationship Id="rId29" Type="http://schemas.openxmlformats.org/officeDocument/2006/relationships/image" Target="../media/image56.png"/><Relationship Id="rId30" Type="http://schemas.openxmlformats.org/officeDocument/2006/relationships/image" Target="../media/image57.png"/><Relationship Id="rId31" Type="http://schemas.openxmlformats.org/officeDocument/2006/relationships/image" Target="../media/image58.png"/><Relationship Id="rId32" Type="http://schemas.openxmlformats.org/officeDocument/2006/relationships/image" Target="../media/image59.wmf"/><Relationship Id="rId3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Прямоугольник 2" descr=""/>
          <p:cNvPicPr/>
          <p:nvPr/>
        </p:nvPicPr>
        <p:blipFill>
          <a:blip r:embed="rId1"/>
          <a:stretch/>
        </p:blipFill>
        <p:spPr>
          <a:xfrm>
            <a:off x="542880" y="334800"/>
            <a:ext cx="805824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2"/>
          <p:cNvSpPr/>
          <p:nvPr/>
        </p:nvSpPr>
        <p:spPr>
          <a:xfrm>
            <a:off x="642960" y="1643040"/>
            <a:ext cx="7215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76" name="Прямоугольник 3"/>
          <p:cNvSpPr/>
          <p:nvPr/>
        </p:nvSpPr>
        <p:spPr>
          <a:xfrm>
            <a:off x="642960" y="357120"/>
            <a:ext cx="7715160" cy="56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  <a:ea typeface="Arial"/>
              </a:rPr>
              <a:t>Образовательная область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: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художественно – эстетическое развитие</a:t>
            </a:r>
            <a:endParaRPr b="0" lang="en-US" sz="16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  <a:ea typeface="Arial"/>
              </a:rPr>
              <a:t>Цель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: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развитие пространственного воображения детей через рисование целого предмета из нескольких частей.</a:t>
            </a:r>
            <a:endParaRPr b="0" lang="en-US" sz="16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  <a:ea typeface="Arial"/>
              </a:rPr>
              <a:t>Задачи</a:t>
            </a:r>
            <a:r>
              <a:rPr b="1" lang="ru-RU" sz="1600" spc="-1" strike="noStrike">
                <a:solidFill>
                  <a:srgbClr val="ff5050"/>
                </a:solidFill>
                <a:latin typeface="Arial"/>
                <a:ea typeface="Arial"/>
              </a:rPr>
              <a:t>: </a:t>
            </a:r>
            <a:endParaRPr b="0" lang="en-US" sz="16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05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-упражнять детей в рисовании предметов круглых форм, упражнять в умении сравнивать предметы по величине;</a:t>
            </a:r>
            <a:endParaRPr b="0" lang="en-US" sz="16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- закреплять у детей представление о снеговике, полученные в результате собственных наблюдений и на предварительной работе;</a:t>
            </a:r>
            <a:endParaRPr b="0" lang="en-US" sz="16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- закрепить навыки закрашивания круглой формы, повторяя очертания нарисованной ими фигуры, закрепить знание геометрических форм;</a:t>
            </a:r>
            <a:endParaRPr b="0" lang="en-US" sz="16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- развивать зрительское внимание, восприятие, речевой слух, творческое воображение;</a:t>
            </a:r>
            <a:endParaRPr b="0" lang="en-US" sz="16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-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оспитывать аккуратность в работе.</a:t>
            </a:r>
            <a:endParaRPr b="0" lang="en-US" sz="16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  <a:ea typeface="Arial"/>
              </a:rPr>
              <a:t>Материал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: бумага тонированная, гуашь, кисти, баночки с водой, салфетки. Картинка с изображением снеговика.</a:t>
            </a:r>
            <a:endParaRPr b="0" lang="en-US" sz="16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  <a:ea typeface="Arial"/>
              </a:rPr>
              <a:t>Предварительная работа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: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игры со снегом, лепка снеговика на прогулке,.</a:t>
            </a:r>
            <a:endParaRPr b="0" lang="en-US" sz="16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Чтение стихотворений о зиме и снеговике, лепка из пластилина,</a:t>
            </a:r>
            <a:endParaRPr b="0" lang="en-US" sz="16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Д/И «Собери из частей снеговика».</a:t>
            </a:r>
            <a:endParaRPr b="0" lang="en-US" sz="16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  <a:ea typeface="Arial"/>
              </a:rPr>
              <a:t>Активизация словаря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: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нежный ком, круглый, маленький, большой</a:t>
            </a:r>
            <a:endParaRPr b="0" lang="en-US" sz="16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редний, </a:t>
            </a:r>
            <a:endParaRPr b="0" lang="en-US" sz="16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Организационный момент:</a:t>
            </a:r>
            <a:br>
              <a:rPr sz="4400"/>
            </a:b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78" name="Прямоугольник 3"/>
          <p:cNvSpPr/>
          <p:nvPr/>
        </p:nvSpPr>
        <p:spPr>
          <a:xfrm>
            <a:off x="785880" y="1285920"/>
            <a:ext cx="664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 рассказывает ребятам о том, что к ним спешит гость. А узнать его детям поможет загадка:</a:t>
            </a: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едёрко на голове,</a:t>
            </a: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Отличный нос морковкой,</a:t>
            </a: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сю зиму  за порядком,</a:t>
            </a: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Я во дворе слежу,</a:t>
            </a: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лазами-угольками по сторонам гляжу,</a:t>
            </a: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Кто я такой, что из снега сделан?</a:t>
            </a: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(снеговик)</a:t>
            </a: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Arial"/>
              </a:rPr>
              <a:t>Рассматривание снеговика</a:t>
            </a: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280" name="Рисунок 2" descr="C:\Users\Лариса\Desktop\анжелика\image-0-02-04-b1335a58680aa51acbc025823bb53c43bca5cfa96f92cd2cd002bf4c80254b0f-V.jpg"/>
          <p:cNvPicPr/>
          <p:nvPr/>
        </p:nvPicPr>
        <p:blipFill>
          <a:blip r:embed="rId1"/>
          <a:stretch/>
        </p:blipFill>
        <p:spPr>
          <a:xfrm>
            <a:off x="1643040" y="1571760"/>
            <a:ext cx="4786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57160" y="642960"/>
            <a:ext cx="68169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Здоровьесберегающие технологии – важный момент НОД.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Физкультминутка «Снеговик»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Times New Roman"/>
              </a:rPr>
              <a:t>Снеговик, снеговик,  ты такой хороший,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Times New Roman"/>
              </a:rPr>
              <a:t>Снеговик, снеговик, хлопай нам в ладоши!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Times New Roman"/>
              </a:rPr>
              <a:t>Будем мы как мячики весело скакать,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5050"/>
                </a:solidFill>
                <a:latin typeface="Times New Roman"/>
              </a:rPr>
              <a:t>Прыг да скок, прыг да скок повтори опять!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Times New Roman"/>
              </a:rPr>
              <a:t>Снеговик, снеговик, ты такой хороший, 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Times New Roman"/>
              </a:rPr>
              <a:t>Снеговик, снеговик, хлопай нам в ладоши!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Times New Roman"/>
              </a:rPr>
              <a:t>Будем мы как куколки дружно приседать,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Times New Roman"/>
              </a:rPr>
              <a:t>Вот так вот, вот так вот, повтори опять!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Times New Roman"/>
              </a:rPr>
              <a:t>Снеговик, снеговик, ты такой хороший,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Times New Roman"/>
              </a:rPr>
              <a:t>Снеговик, снеговик, хлопай нам в ладоши!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Times New Roman"/>
              </a:rPr>
              <a:t>Будем мы, как клоуны в цирке выступать,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Times New Roman"/>
              </a:rPr>
              <a:t>Вот так вот, вот так вот повтори опять!</a:t>
            </a:r>
            <a:endParaRPr b="0" lang="en-US" sz="1800" spc="-1" strike="noStrike">
              <a:solidFill>
                <a:srgbClr val="ff505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2" descr="C:\Users\Лариса\Desktop\анжелика\image-0-02-04-903654bfdf7135df5f62fd70b6dd784606cd690e9f4769be05408a81ea83c345-V.jpg"/>
          <p:cNvPicPr/>
          <p:nvPr/>
        </p:nvPicPr>
        <p:blipFill>
          <a:blip r:embed="rId1"/>
          <a:stretch/>
        </p:blipFill>
        <p:spPr>
          <a:xfrm>
            <a:off x="3429000" y="785880"/>
            <a:ext cx="3929040" cy="271440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3" descr="C:\Users\Лариса\Desktop\анжелика\image-0-02-04-48da4f9830db523652d4308405d193ba8c97dd534570dffb1262b02258363a84-V.jpg"/>
          <p:cNvPicPr/>
          <p:nvPr/>
        </p:nvPicPr>
        <p:blipFill>
          <a:blip r:embed="rId2"/>
          <a:stretch/>
        </p:blipFill>
        <p:spPr>
          <a:xfrm>
            <a:off x="1071720" y="3643200"/>
            <a:ext cx="37861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оказ воспитателя «Рисование в воздухе кругов»,  затем воспитатель показывает, как выполнить работу рисуя три  кружка разной величины. </a:t>
            </a:r>
            <a:br>
              <a:rPr sz="2400"/>
            </a:b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Дети рисуют снеговиков.</a:t>
            </a:r>
            <a:endParaRPr b="0" lang="en-US" sz="24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285" name="Рисунок 3" descr="C:\Users\Лариса\Desktop\анжелика\image-0-02-04-b1335a58680aa51acbc025823bb53c43bca5cfa96f92cd2cd002bf4c80254b0f-V.jpg"/>
          <p:cNvPicPr/>
          <p:nvPr/>
        </p:nvPicPr>
        <p:blipFill>
          <a:blip r:embed="rId1"/>
          <a:stretch/>
        </p:blipFill>
        <p:spPr>
          <a:xfrm>
            <a:off x="785880" y="2928960"/>
            <a:ext cx="3214800" cy="22431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4" descr="C:\Users\Лариса\Desktop\анжелика\image-0-02-04-9cc9837635203dd48cf23e8aaa0c0184ab643debd0cd8c9aaeb12d08ccff7228-V.jpg"/>
          <p:cNvPicPr/>
          <p:nvPr/>
        </p:nvPicPr>
        <p:blipFill>
          <a:blip r:embed="rId2"/>
          <a:stretch/>
        </p:blipFill>
        <p:spPr>
          <a:xfrm>
            <a:off x="4643280" y="2000160"/>
            <a:ext cx="314820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1" descr="C:\Users\Лариса\Desktop\анжелика\image-0-02-04-f1df916e0c1f8adf77300d9cfbf4562b02640cefc6de553084e9dbcabe9baad6-V.jpg"/>
          <p:cNvPicPr/>
          <p:nvPr/>
        </p:nvPicPr>
        <p:blipFill>
          <a:blip r:embed="rId1"/>
          <a:stretch/>
        </p:blipFill>
        <p:spPr>
          <a:xfrm>
            <a:off x="2000160" y="2214720"/>
            <a:ext cx="4786560" cy="32144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Вот такие замечательные снеговики нарисовали дети. </a:t>
            </a:r>
            <a:br>
              <a:rPr sz="2400"/>
            </a:b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Снеговик похвалил ребят и попрощался с ними до следующей зимы.</a:t>
            </a:r>
            <a:endParaRPr b="0" lang="en-US" sz="24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Прямоугольник 2" descr=""/>
          <p:cNvPicPr/>
          <p:nvPr/>
        </p:nvPicPr>
        <p:blipFill>
          <a:blip r:embed="rId1"/>
          <a:stretch/>
        </p:blipFill>
        <p:spPr>
          <a:xfrm>
            <a:off x="1127160" y="-182520"/>
            <a:ext cx="6535800" cy="944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school1918"/>
          <p:cNvPicPr/>
          <p:nvPr/>
        </p:nvPicPr>
        <p:blipFill>
          <a:blip r:embed="rId2"/>
          <a:stretch/>
        </p:blipFill>
        <p:spPr>
          <a:xfrm>
            <a:off x="0" y="549360"/>
            <a:ext cx="826920" cy="74124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4"/>
          <p:cNvSpPr/>
          <p:nvPr/>
        </p:nvSpPr>
        <p:spPr>
          <a:xfrm>
            <a:off x="755640" y="815400"/>
            <a:ext cx="93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3"/>
              </a:rPr>
              <a:t>http://funforkids.ru/pictures/school19/school1918.gif</a:t>
            </a:r>
            <a:endParaRPr b="0" lang="en-US" sz="11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292" name="Picture 5" descr="school1926"/>
          <p:cNvPicPr/>
          <p:nvPr/>
        </p:nvPicPr>
        <p:blipFill>
          <a:blip r:embed="rId4"/>
          <a:stretch/>
        </p:blipFill>
        <p:spPr>
          <a:xfrm>
            <a:off x="0" y="1484280"/>
            <a:ext cx="1187280" cy="3970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6"/>
          <p:cNvSpPr/>
          <p:nvPr/>
        </p:nvSpPr>
        <p:spPr>
          <a:xfrm>
            <a:off x="1258920" y="1582200"/>
            <a:ext cx="122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5"/>
              </a:rPr>
              <a:t>http://funforkids.ru/pictures/school19/school1926.png</a:t>
            </a:r>
            <a:endParaRPr b="0" lang="en-US" sz="11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294" name="Picture 7" descr="school1928"/>
          <p:cNvPicPr/>
          <p:nvPr/>
        </p:nvPicPr>
        <p:blipFill>
          <a:blip r:embed="rId6"/>
          <a:stretch/>
        </p:blipFill>
        <p:spPr>
          <a:xfrm>
            <a:off x="1692360" y="549360"/>
            <a:ext cx="565200" cy="6969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8"/>
          <p:cNvSpPr/>
          <p:nvPr/>
        </p:nvSpPr>
        <p:spPr>
          <a:xfrm>
            <a:off x="2252520" y="790560"/>
            <a:ext cx="93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7"/>
              </a:rPr>
              <a:t>http://funforkids.ru/pictures/school19/school1928.jpg</a:t>
            </a:r>
            <a:endParaRPr b="0" lang="en-US" sz="11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296" name="Picture 9" descr="school1910"/>
          <p:cNvPicPr/>
          <p:nvPr/>
        </p:nvPicPr>
        <p:blipFill>
          <a:blip r:embed="rId8"/>
          <a:stretch/>
        </p:blipFill>
        <p:spPr>
          <a:xfrm>
            <a:off x="3132000" y="620640"/>
            <a:ext cx="671760" cy="66528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0"/>
          <p:cNvSpPr/>
          <p:nvPr/>
        </p:nvSpPr>
        <p:spPr>
          <a:xfrm>
            <a:off x="3851280" y="789840"/>
            <a:ext cx="122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9"/>
              </a:rPr>
              <a:t>http://funforkids.ru/pictures/school19/school1910.gif</a:t>
            </a:r>
            <a:endParaRPr b="0" lang="en-US" sz="11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298" name="Picture 11" descr="school1911"/>
          <p:cNvPicPr/>
          <p:nvPr/>
        </p:nvPicPr>
        <p:blipFill>
          <a:blip r:embed="rId10"/>
          <a:stretch/>
        </p:blipFill>
        <p:spPr>
          <a:xfrm>
            <a:off x="5003640" y="620640"/>
            <a:ext cx="658800" cy="62856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12"/>
          <p:cNvSpPr/>
          <p:nvPr/>
        </p:nvSpPr>
        <p:spPr>
          <a:xfrm>
            <a:off x="5492880" y="87480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1"/>
              </a:rPr>
              <a:t>http://funforkids.ru/pictures/school19/school1911.gif</a:t>
            </a:r>
            <a:endParaRPr b="0" lang="en-US" sz="11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300" name="Picture 13" descr="school1912"/>
          <p:cNvPicPr/>
          <p:nvPr/>
        </p:nvPicPr>
        <p:blipFill>
          <a:blip r:embed="rId12"/>
          <a:stretch/>
        </p:blipFill>
        <p:spPr>
          <a:xfrm>
            <a:off x="6588000" y="692280"/>
            <a:ext cx="971640" cy="74592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4"/>
          <p:cNvSpPr/>
          <p:nvPr/>
        </p:nvSpPr>
        <p:spPr>
          <a:xfrm>
            <a:off x="7380360" y="815400"/>
            <a:ext cx="100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3"/>
              </a:rPr>
              <a:t>http://funforkids.ru/pictures/school19/school1912.gif</a:t>
            </a:r>
            <a:endParaRPr b="0" lang="en-US" sz="11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302" name="Picture 15" descr="school1913"/>
          <p:cNvPicPr/>
          <p:nvPr/>
        </p:nvPicPr>
        <p:blipFill>
          <a:blip r:embed="rId14"/>
          <a:stretch/>
        </p:blipFill>
        <p:spPr>
          <a:xfrm>
            <a:off x="2411280" y="1413000"/>
            <a:ext cx="654120" cy="5652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6"/>
          <p:cNvSpPr/>
          <p:nvPr/>
        </p:nvSpPr>
        <p:spPr>
          <a:xfrm>
            <a:off x="2987640" y="152244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5"/>
              </a:rPr>
              <a:t>http://funforkids.ru/pictures/school19/school1913.gif</a:t>
            </a:r>
            <a:endParaRPr b="0" lang="en-US" sz="11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304" name="Picture 17" descr="school1914"/>
          <p:cNvPicPr/>
          <p:nvPr/>
        </p:nvPicPr>
        <p:blipFill>
          <a:blip r:embed="rId16"/>
          <a:stretch/>
        </p:blipFill>
        <p:spPr>
          <a:xfrm>
            <a:off x="3995640" y="1341360"/>
            <a:ext cx="722520" cy="7002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8"/>
          <p:cNvSpPr/>
          <p:nvPr/>
        </p:nvSpPr>
        <p:spPr>
          <a:xfrm>
            <a:off x="4716360" y="1607400"/>
            <a:ext cx="1042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7"/>
              </a:rPr>
              <a:t>http://funforkids.ru/pictures/school19/school1914.gif</a:t>
            </a:r>
            <a:endParaRPr b="0" lang="en-US" sz="11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306" name="Picture 19" descr="school1915"/>
          <p:cNvPicPr/>
          <p:nvPr/>
        </p:nvPicPr>
        <p:blipFill>
          <a:blip r:embed="rId18"/>
          <a:stretch/>
        </p:blipFill>
        <p:spPr>
          <a:xfrm>
            <a:off x="5796000" y="1484280"/>
            <a:ext cx="838080" cy="62064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20"/>
          <p:cNvSpPr/>
          <p:nvPr/>
        </p:nvSpPr>
        <p:spPr>
          <a:xfrm>
            <a:off x="6588000" y="1594800"/>
            <a:ext cx="1079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9"/>
              </a:rPr>
              <a:t>http://funforkids.ru/pictures/school19/school1915.gif</a:t>
            </a:r>
            <a:endParaRPr b="0" lang="en-US" sz="11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308" name="Picture 21" descr="school21099"/>
          <p:cNvPicPr/>
          <p:nvPr/>
        </p:nvPicPr>
        <p:blipFill>
          <a:blip r:embed="rId20"/>
          <a:stretch/>
        </p:blipFill>
        <p:spPr>
          <a:xfrm>
            <a:off x="0" y="2133720"/>
            <a:ext cx="1116000" cy="91260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22"/>
          <p:cNvSpPr/>
          <p:nvPr/>
        </p:nvSpPr>
        <p:spPr>
          <a:xfrm>
            <a:off x="1116000" y="2205000"/>
            <a:ext cx="106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1"/>
              </a:rPr>
              <a:t>http://funforkids.ru/pictures/school21/school21099.png</a:t>
            </a:r>
            <a:endParaRPr b="0" lang="en-US" sz="11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310" name="Picture 22" descr="school1416"/>
          <p:cNvPicPr/>
          <p:nvPr/>
        </p:nvPicPr>
        <p:blipFill>
          <a:blip r:embed="rId22"/>
          <a:stretch/>
        </p:blipFill>
        <p:spPr>
          <a:xfrm>
            <a:off x="2124000" y="1916280"/>
            <a:ext cx="922320" cy="11253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3"/>
          <p:cNvSpPr/>
          <p:nvPr/>
        </p:nvSpPr>
        <p:spPr>
          <a:xfrm>
            <a:off x="2916360" y="2459160"/>
            <a:ext cx="107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3"/>
              </a:rPr>
              <a:t>http://funforkids.ru/pictures/school14/school1416.png</a:t>
            </a:r>
            <a:endParaRPr b="0" lang="en-US" sz="11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312" name="Picture 24" descr="school1418"/>
          <p:cNvPicPr/>
          <p:nvPr/>
        </p:nvPicPr>
        <p:blipFill>
          <a:blip r:embed="rId24"/>
          <a:stretch/>
        </p:blipFill>
        <p:spPr>
          <a:xfrm>
            <a:off x="3708360" y="1989000"/>
            <a:ext cx="1042920" cy="108612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25"/>
          <p:cNvSpPr/>
          <p:nvPr/>
        </p:nvSpPr>
        <p:spPr>
          <a:xfrm>
            <a:off x="4643280" y="2399040"/>
            <a:ext cx="93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5"/>
              </a:rPr>
              <a:t>http://funforkids.ru/pictures/school14/school1418.png</a:t>
            </a:r>
            <a:endParaRPr b="0" lang="en-US" sz="11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314" name="Picture 26" descr="school1426"/>
          <p:cNvPicPr/>
          <p:nvPr/>
        </p:nvPicPr>
        <p:blipFill>
          <a:blip r:embed="rId26"/>
          <a:stretch/>
        </p:blipFill>
        <p:spPr>
          <a:xfrm>
            <a:off x="5508720" y="1916280"/>
            <a:ext cx="903240" cy="9824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27"/>
          <p:cNvSpPr/>
          <p:nvPr/>
        </p:nvSpPr>
        <p:spPr>
          <a:xfrm>
            <a:off x="6372360" y="2327400"/>
            <a:ext cx="107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7"/>
              </a:rPr>
              <a:t>http://funforkids.ru/pictures/school14/school1426.png</a:t>
            </a:r>
            <a:endParaRPr b="0" lang="en-US" sz="11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316" name="Picture 28" descr="school1404"/>
          <p:cNvPicPr/>
          <p:nvPr/>
        </p:nvPicPr>
        <p:blipFill>
          <a:blip r:embed="rId28"/>
          <a:stretch/>
        </p:blipFill>
        <p:spPr>
          <a:xfrm>
            <a:off x="0" y="3141720"/>
            <a:ext cx="731880" cy="87480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29"/>
          <p:cNvSpPr/>
          <p:nvPr/>
        </p:nvSpPr>
        <p:spPr>
          <a:xfrm>
            <a:off x="755640" y="3060360"/>
            <a:ext cx="10796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5050"/>
                </a:solidFill>
                <a:latin typeface="Times New Roman"/>
                <a:ea typeface="Calibri"/>
              </a:rPr>
              <a:t>http://funforkids.ru/pictures/school14/school1404.png</a:t>
            </a:r>
            <a:endParaRPr b="0" lang="en-US" sz="11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318" name="Picture 30" descr="school0235"/>
          <p:cNvPicPr/>
          <p:nvPr/>
        </p:nvPicPr>
        <p:blipFill>
          <a:blip r:embed="rId29"/>
          <a:stretch/>
        </p:blipFill>
        <p:spPr>
          <a:xfrm>
            <a:off x="1835280" y="3068640"/>
            <a:ext cx="869760" cy="8841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31"/>
          <p:cNvSpPr/>
          <p:nvPr/>
        </p:nvSpPr>
        <p:spPr>
          <a:xfrm>
            <a:off x="2771640" y="2904480"/>
            <a:ext cx="936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5050"/>
                </a:solidFill>
                <a:latin typeface="Times New Roman"/>
                <a:ea typeface="Calibri"/>
              </a:rPr>
              <a:t>http://funforkids.ru/pictures/school2/school0235.gif</a:t>
            </a:r>
            <a:endParaRPr b="0" lang="en-US" sz="11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320" name="Picture 32" descr="school1901"/>
          <p:cNvPicPr/>
          <p:nvPr/>
        </p:nvPicPr>
        <p:blipFill>
          <a:blip r:embed="rId30"/>
          <a:stretch/>
        </p:blipFill>
        <p:spPr>
          <a:xfrm>
            <a:off x="3708360" y="3068640"/>
            <a:ext cx="719280" cy="7700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33"/>
          <p:cNvSpPr/>
          <p:nvPr/>
        </p:nvSpPr>
        <p:spPr>
          <a:xfrm>
            <a:off x="4500720" y="2904480"/>
            <a:ext cx="1008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5050"/>
                </a:solidFill>
                <a:latin typeface="Times New Roman"/>
                <a:ea typeface="Calibri"/>
              </a:rPr>
              <a:t>http://funforkids.ru/pictures/school19/school1901.gif</a:t>
            </a:r>
            <a:endParaRPr b="0" lang="en-US" sz="11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322" name="Picture 34" descr="school1917"/>
          <p:cNvPicPr/>
          <p:nvPr/>
        </p:nvPicPr>
        <p:blipFill>
          <a:blip r:embed="rId31"/>
          <a:stretch/>
        </p:blipFill>
        <p:spPr>
          <a:xfrm>
            <a:off x="5435640" y="3141720"/>
            <a:ext cx="917640" cy="6476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35"/>
          <p:cNvSpPr/>
          <p:nvPr/>
        </p:nvSpPr>
        <p:spPr>
          <a:xfrm>
            <a:off x="6300720" y="2916720"/>
            <a:ext cx="10796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5050"/>
                </a:solidFill>
                <a:latin typeface="Times New Roman"/>
                <a:ea typeface="Calibri"/>
              </a:rPr>
              <a:t>http://funforkids.ru/pictures/school19/school1917.gif</a:t>
            </a:r>
            <a:endParaRPr b="0" lang="en-US" sz="11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324" name="Picture 36" descr=""/>
          <p:cNvPicPr/>
          <p:nvPr/>
        </p:nvPicPr>
        <p:blipFill>
          <a:blip r:embed="rId32"/>
          <a:stretch/>
        </p:blipFill>
        <p:spPr>
          <a:xfrm>
            <a:off x="0" y="5157720"/>
            <a:ext cx="57056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4T22:41:56Z</dcterms:created>
  <dc:creator>КотКрчибальд</dc:creator>
  <dc:description/>
  <dc:language>en-US</dc:language>
  <cp:lastModifiedBy>Пользователь</cp:lastModifiedBy>
  <dcterms:modified xsi:type="dcterms:W3CDTF">2021-10-30T20:51:55Z</dcterms:modified>
  <cp:revision>4</cp:revision>
  <dc:subject/>
  <dc:title>Слайд 1</dc:title>
</cp:coreProperties>
</file>