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6F6-FDAF-4EB6-B85B-A9FBA5F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630-2DC4-45AD-B481-6EC9D66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AC0D2-9DA9-4BAF-A115-5D09F63D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2DCE1-8782-4E30-884C-0185AA5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489F1-9957-4D25-B512-194122C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0A028-478D-4919-977E-6155B5E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C7407-4327-4063-BAC7-3DCCF74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887B-79FA-4436-BAE2-F949DD6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5CA60-0566-4E34-91C9-96C5EC6A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14E2D-86E4-42E4-9EA2-FC2BB107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BB993-FF53-46FC-917C-22C55D6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5FDD3-AD85-4AC2-B910-C27E6CA6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7B8-6C84-4C40-983A-B51D9AD1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17739-F6BF-435F-A1F8-06F2A759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A14D4-8D90-4276-9885-E3F986B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429D-A710-4317-B198-ACD9240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88D23-A8D2-439F-A0E6-D8553F3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B18DD-0922-43C1-8D7F-A4679AF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82E00-33BA-4628-B3F9-EA88DE4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A594D-B6CE-4A1A-A964-A147FF6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4FC9-AF73-48DD-85A9-82F9D3E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3D0C3-5600-446F-95F6-0EAFEA1D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FB17A-42BA-4128-9C8C-BFC7A2C4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981-C175-40ED-ACBC-5809C2C4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51C77-F18F-4DC1-8707-2DC1EC5B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09F5-14B5-4A18-A407-E2970743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F4B1F-D715-4D3B-8F5A-073D623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A50E7-F769-486D-B11C-3BE4016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4E60-062E-4D1E-B6E5-97FCBA9B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D2C7-745A-4859-BF8B-CF5F9194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BDE1-5FA5-4AF3-8C70-E538DA6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18AAA-FA1F-4CB1-8E1D-869DD73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DC3E2-397D-4374-8710-A3E8F2C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58137-F5AD-4DAF-B3BC-D8A2A9E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AB6-CB50-44C6-AD93-0287326F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6550-4754-4AC9-82D7-94CC3E5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0EA15-EB45-4B86-95DB-DFE60D32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CEC88-33B5-4388-9186-5BA3A392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9C1-AAF2-4A65-A002-7302B5C4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47F3-1CA4-42BC-80DC-55343D1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4B7E-86A1-485C-821E-7F2BAD7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FBE3-EBD0-4F66-A9B2-2F9F5D0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CF9-CCD7-494B-B4BB-13013BEC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1BD1-8EA3-45C9-894F-7B51343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832-AED3-4988-A391-BB18DC13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0432-9249-4242-909F-1141346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368B-0F22-41B2-AF3F-DDB0F87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17D6-52D7-40A6-8E5F-A1CBD35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020F-D944-4EED-881B-D76ED1F3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C3D-AD5E-4867-9764-4B421FC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A34C-265A-4A85-A957-0A84785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21ED-237D-40CD-A8F5-343E2CE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AD8A-7743-4C34-8BC6-94F3EE28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CF1A-78D9-4D67-A91A-99EFFCE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065C-4E2B-42B9-9AB6-8BF88DC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33F-2119-45D9-AAE0-8C96EF4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F8D5-0724-46D3-870D-04CF4C3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685C-DFAE-40EB-989D-0B984A5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F862-3421-4C23-BF70-3E6492C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4F5E-E48C-47A0-A0CF-1A66811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91DC-19E5-4671-83CF-40B269BC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8FE7-CB53-4214-93C4-541DC9F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3596-DA11-4CFC-AC1D-DC18B3C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EC76-4A28-4AE9-99F4-4A62B3A5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D53ED-B93C-4569-8914-0E8F706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1256-A778-42BB-AF74-BBEE763A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02A-2BFE-4003-945A-EA3CC5D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1BED-F088-44E8-8607-0A30765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8880-CDD4-4C56-8CD2-3C2566B1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E443-92A0-4B6A-848A-006683C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CC15-9A93-466C-81C7-3893E75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5A00-094A-42C1-ABD0-FB857E3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BBB3-FAD2-4B65-9CB5-6B58DDC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CDEE-2450-4F00-A76E-37FEA88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5F9F-FCA5-4DBD-83C6-13DBBAA0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DFA9-AF97-4DAD-8D46-EDCBA085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3D22-C6CA-4713-8DD3-8A64129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1C6-4E34-4785-9A05-0B822F4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7A9F-9C24-45D2-908A-1D18902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A8623-D435-4121-91B6-FDA9D3F2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09FA-DCAB-406E-BAE2-13843A63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D13A-D354-4FA4-9FD6-6BF24BBD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AF63-D867-405C-B8D9-237CF95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C225-25F2-44B7-AE9E-10178DD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23FA6-A60C-40AE-AB2D-31FB38B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E115-7870-46A0-A42C-05B42C0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1B80-E98D-4E62-9F06-21D4FA8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DFCC-E586-4659-B696-CA34D9FE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2AA-4A85-48B1-9AFD-7F541CC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CD2C-4C64-433C-BAEF-8187839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BAD5-20A1-4642-91DD-41215296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12F6-BD5A-441E-8F60-EB96D8A2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2D5B-15E9-49EF-B2D1-29D620AE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EF14-5397-45CB-934E-A37DFC6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A7C3-BF2E-4F27-B079-A99CB5B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695B-C5D6-444C-BC86-FBD64FA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5142-AE75-42F1-BBC1-A079CDB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5B17-72C2-44FC-A73E-866EC31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1599-D056-42F3-9F69-E21EEC4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D66-2095-44AF-A96D-9F81CF6A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F7E7-09CB-4618-8782-C84038DC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7A87-0FAB-426F-B44F-143D29BD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8174-DC41-49AC-BEFF-C8A3B93B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B6CB8-7DE3-4BF2-BA77-321A320B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9A5B-7462-4894-9DF3-2D0E382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C1EBB-5385-4B76-AA75-5EDBA79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332A-9604-47C3-946F-680B3D8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80C3-DD7B-4BC0-BF19-E3F62F4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4625-2515-4FEC-92E6-553DE82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D2E4-05A9-4A3D-99F3-2F9D3A1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4BF-AA77-459D-861B-6E47B76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B954-1C70-424E-9789-008DE27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CF42-D1EB-4D11-98F1-B5451DA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01CC-2139-4C59-8BA8-8703FFD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1928-A6B1-4866-8ECF-3C996F5B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0E1E-0978-42FD-AFBD-2F0E629C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241E-A860-4310-A376-8CB7CB0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E56C7-B651-42CA-BB1E-C602AC1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6E01-D104-4B29-9288-7A9E9E4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BDF32-B6B5-43F5-96FF-1ECAA79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495C-AC95-4008-ACB0-C09FA4E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D81-7E89-44D8-87AC-FDF1BED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E9B0-51DD-44C5-AA22-AC24667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A204-40E4-461C-A81F-5882716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CA35-2AAA-4037-94A9-A63C6AB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3A2A-3D9A-417C-BB26-2B58F933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D0D0-4F39-4B5C-B8BA-B065A6B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6D92-CCF8-4BAB-809E-9E4CAC70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93170-8E3D-4019-867F-E9E6CE78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D07A3-5653-4F4F-9A21-8384B2B9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2B9B-EE6A-4B79-A50A-6B0D52FA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88464-BAE8-4804-9D20-7464BF42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3137E-0EC7-47DF-9196-72327C77482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EE6A8-1B80-4D81-8153-F8EBF65AE9A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4FB2C-8EBE-4375-A0D5-71867E8D397C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BF963-C0E2-47B1-9505-387546B1280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5D470-3781-40B9-B84F-8CB950C20C7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7950B-18DB-48DC-98F2-BC08DE1C57B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D5A68-A2E9-4CDF-A07C-676BF313FF8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2B250-AAAB-47D8-A599-F76765800A25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D2AF2-3868-4A21-B319-F3ACFA534FB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05156-EF4E-41FC-A249-97F0D3F08CD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8E5F4-6007-4316-903B-9E40AA17EAA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PAST CONTINUOUS (PROGRESSIVE) TENS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РОШЕДШЕЕ ПРОДОЛЖЕННОЕ ВРЕМ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УКАЗАТЕЛИ ВРЕМЕНИ (СИГНАЛЫ), УПОТРЕБЛЯЕМЫЕ С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39280" y="28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пока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when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(когда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s, all morning/day/week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(все утро/весь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день/всю неделю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t 8 o’clock am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(в 8 часов утра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ОВАНИЕ ВОПРОСОВ В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 at 6o’clock yesterday evening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1.Общий вопрос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 at 6o’clo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esterday evening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2. Альтернативный вопрос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r reading a book at 6o’clock yesterday evening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опрос к подлежащему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 at 6o’clock yesterday evening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684360" y="62064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4. Специальный вопрос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do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t 6 o’clock yesterday evening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5.Разделительный вопрос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alk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 the phone at 6o’clock yesterday evening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asn’t I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ОБРАЗОВАНИЕ:</a:t>
            </a:r>
            <a:br>
              <a:rPr sz="3600"/>
            </a:b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WAS/WERE +VING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436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Утвердительная форм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 (he, she, it) </a:t>
            </a:r>
            <a:r>
              <a:rPr b="0" lang="en-US" sz="40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read</a:t>
            </a:r>
            <a:r>
              <a:rPr b="0" lang="en-US" sz="4000" spc="-1" strike="noStrike">
                <a:solidFill>
                  <a:srgbClr val="ff3300"/>
                </a:solidFill>
                <a:latin typeface="Gill Sans MT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You (we, they) </a:t>
            </a:r>
            <a:r>
              <a:rPr b="0" lang="en-US" sz="4000" spc="-1" strike="noStrike">
                <a:solidFill>
                  <a:srgbClr val="ff3300"/>
                </a:solidFill>
                <a:latin typeface="Gill Sans MT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read</a:t>
            </a:r>
            <a:r>
              <a:rPr b="0" lang="en-US" sz="4000" spc="-1" strike="noStrike">
                <a:solidFill>
                  <a:srgbClr val="ff3300"/>
                </a:solidFill>
                <a:latin typeface="Gill Sans MT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ТРИЦАТЕЛЬНАЯ ФОРМ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I (he, she, it) </a:t>
            </a:r>
            <a:r>
              <a:rPr b="0" lang="en-US" sz="37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ru-RU" sz="3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en-US" sz="3700" spc="-1" strike="noStrike">
                <a:solidFill>
                  <a:srgbClr val="ff3300"/>
                </a:solidFill>
                <a:latin typeface="Gill Sans MT"/>
              </a:rPr>
              <a:t>not (wasn't)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read</a:t>
            </a:r>
            <a:r>
              <a:rPr b="0" lang="en-US" sz="3700" spc="-1" strike="noStrike">
                <a:solidFill>
                  <a:srgbClr val="ff3300"/>
                </a:solidFill>
                <a:latin typeface="Gill Sans MT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You (we, they) </a:t>
            </a:r>
            <a:r>
              <a:rPr b="0" lang="en-US" sz="3700" spc="-1" strike="noStrike">
                <a:solidFill>
                  <a:srgbClr val="ff3300"/>
                </a:solidFill>
                <a:latin typeface="Gill Sans MT"/>
              </a:rPr>
              <a:t>were not (weren’t)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read</a:t>
            </a:r>
            <a:r>
              <a:rPr b="0" lang="en-US" sz="3700" spc="-1" strike="noStrike">
                <a:solidFill>
                  <a:srgbClr val="ff3300"/>
                </a:solidFill>
                <a:latin typeface="Gill Sans MT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092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ОПРОСИТЕЛЬНАЯ ФОРМ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ill Sans MT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I (he, she, it) read</a:t>
            </a:r>
            <a:r>
              <a:rPr b="0" lang="en-US" sz="3600" spc="-1" strike="noStrike">
                <a:solidFill>
                  <a:srgbClr val="ff3300"/>
                </a:solidFill>
                <a:latin typeface="Gill Sans MT"/>
              </a:rPr>
              <a:t>ing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es, I (he, she, it) wa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, I (he, she it) wasn’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Gill Sans MT"/>
              </a:rPr>
              <a:t>Wer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you (we, they) read</a:t>
            </a:r>
            <a:r>
              <a:rPr b="0" lang="en-US" sz="3600" spc="-1" strike="noStrike">
                <a:solidFill>
                  <a:srgbClr val="ff3300"/>
                </a:solidFill>
                <a:latin typeface="Gill Sans MT"/>
              </a:rPr>
              <a:t>ing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es, you (we, they) w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, you (we, they) weren’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3840" y="171000"/>
            <a:ext cx="674028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 УПОТРЕБЛЯЕТСЯ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ля описания действия, которое происходило в прошлом и которое было прервано другим действием.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 употребляется для описания действия в развитии/процессе (длительное действие),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 a Past Simple –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 для описания действия, которое прервало его (краткое действие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i="1" lang="en-US" sz="2200" spc="-1" strike="noStrike">
                <a:solidFill>
                  <a:srgbClr val="ff3300"/>
                </a:solidFill>
                <a:latin typeface="Gill Sans MT"/>
              </a:rPr>
              <a:t>were playing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football when their mother called them. – </a:t>
            </a: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Они играли футбол, когда мама позвала их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УПОТРЕБЛЯЕТСЯ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ля описания двух или более действий, происходивших в одно и то же время в прошлом (одновременные действия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He </a:t>
            </a:r>
            <a:r>
              <a:rPr b="0" i="1" lang="en-US" sz="2600" spc="-1" strike="noStrike">
                <a:solidFill>
                  <a:srgbClr val="ff3300"/>
                </a:solidFill>
                <a:latin typeface="Gill Sans MT"/>
              </a:rPr>
              <a:t>was reading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while his brother </a:t>
            </a:r>
            <a:r>
              <a:rPr b="0" i="1" lang="en-US" sz="2600" spc="-1" strike="noStrike">
                <a:solidFill>
                  <a:srgbClr val="ff3300"/>
                </a:solidFill>
                <a:latin typeface="Gill Sans MT"/>
              </a:rPr>
              <a:t>was watching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TV. –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Он читал пока его брат смотрел телевизо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УПОТРЕБЛЯЕТСЯ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ля описания действия, которое происходило в определенное время в прошлом. </a:t>
            </a:r>
            <a:r>
              <a:rPr b="0" lang="ru-RU" sz="1900" spc="-1" strike="noStrike">
                <a:solidFill>
                  <a:srgbClr val="000000"/>
                </a:solidFill>
                <a:latin typeface="Gill Sans MT"/>
              </a:rPr>
              <a:t>При этом не указывается, когда действие началось или закончилось.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t six o’clock last night I </a:t>
            </a:r>
            <a:r>
              <a:rPr b="0" i="1" lang="en-US" sz="2600" spc="-1" strike="noStrike">
                <a:solidFill>
                  <a:srgbClr val="ff3300"/>
                </a:solidFill>
                <a:latin typeface="Gill Sans MT"/>
              </a:rPr>
              <a:t>was talking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on the telephone. –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В 6 часов вечера вчер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я разговаривал по телефону.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УПОТРЕБЛЯЕТСЯ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ля описания атмосферы, обстановки, и т.п., а также во вступлении к рассказу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00880" indent="-200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 birds </a:t>
            </a: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were singing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and the sun </a:t>
            </a: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was shining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. I </a:t>
            </a: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was sitting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outside in the garden when something strange happened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РИМЕЧАНИЕ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гда в предложении есть две формы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t Continuous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относящиеся к одному подлежащему, во избежание повторения глагол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be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о втором случае опускается и употребляется лишь причастие настоящего времени с –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 </a:t>
            </a:r>
            <a:r>
              <a:rPr b="0" lang="en-US" sz="2600" spc="-1" strike="noStrike">
                <a:solidFill>
                  <a:srgbClr val="ff3300"/>
                </a:solidFill>
                <a:latin typeface="Gill Sans MT"/>
              </a:rPr>
              <a:t>was walk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long, and he </a:t>
            </a:r>
            <a:r>
              <a:rPr b="0" lang="en-US" sz="2600" spc="-1" strike="noStrike">
                <a:solidFill>
                  <a:srgbClr val="ff3300"/>
                </a:solidFill>
                <a:latin typeface="Gill Sans MT"/>
              </a:rPr>
              <a:t>was talk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his mobile phone. = He </a:t>
            </a:r>
            <a:r>
              <a:rPr b="0" lang="en-US" sz="2600" spc="-1" strike="noStrike">
                <a:solidFill>
                  <a:srgbClr val="ff3300"/>
                </a:solidFill>
                <a:latin typeface="Gill Sans MT"/>
              </a:rPr>
              <a:t>was walk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long (and) </a:t>
            </a:r>
            <a:r>
              <a:rPr b="0" lang="en-US" sz="2600" spc="-1" strike="noStrike">
                <a:solidFill>
                  <a:srgbClr val="ff3300"/>
                </a:solidFill>
                <a:latin typeface="Gill Sans MT"/>
              </a:rPr>
              <a:t>talk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his mobile phon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4:01:31Z</dcterms:created>
  <dc:creator>Админ</dc:creator>
  <dc:description/>
  <dc:language>en-US</dc:language>
  <cp:lastModifiedBy>Надежда Чайковская</cp:lastModifiedBy>
  <dcterms:modified xsi:type="dcterms:W3CDTF">2021-10-31T14:50:44Z</dcterms:modified>
  <cp:revision>9</cp:revision>
  <dc:subject/>
  <dc:title>Past Continuous (Progressive)</dc:title>
</cp:coreProperties>
</file>